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E076-1E77-4710-A5EA-D30869C7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19BD-733E-403B-B4DF-E983F1BB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A5B-AC8A-4EE9-A901-F8330B4E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93E0-7929-4F45-93B3-048631BE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6175F-B4CE-4EFE-B839-FEC741CD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6B2F-D6E5-46DE-9D35-6895D9F7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C2C4-BE7A-419B-8953-1C8AFCA84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B508-A89F-49A4-9D43-743FBD2A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371E-7F9F-484D-A86A-68D6B9DA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12FAC-B7E9-45DF-8F01-775D0AE7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EA33-526A-40B5-98F2-52475220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071E-ADD4-4ABC-A6CC-BED675B4C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2433-3230-422C-89CB-9CF480CA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7632-84B5-4943-9F0C-1F2CF7FB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1FFF-0284-4FDD-B8B8-E6CA5E575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D901-1AA6-42F7-830B-0C620570C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7931-DB42-439A-B8E6-2AE37047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BDD2-596D-4BBD-960D-1138095B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DD9-C313-4F5C-B0C4-9AE4A0E7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3040-30DA-4CCB-96F5-BC946A66F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E690-19A4-44CD-B97C-E1D1F8430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F589-7C04-4F92-A71B-7A7A952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B71B-0F84-4374-A86F-EC33AAB2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188-1220-46DB-B7C7-CEC0A088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B7B2-4B8C-419B-92B3-46124CBFC868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8517-7F99-421D-B0CA-9012B54729F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j0074687.wav" TargetMode="External"/><Relationship Id="rId3" Type="http://schemas.microsoft.com/office/2007/relationships/media" Target="file:///tmp/home/.config/libreoffice/4/user/gallery/j0074687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3962520" cy="38102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47920" y="152388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Monotype Corsiva"/>
              </a:rPr>
              <a:t>1</a:t>
            </a:r>
            <a:r>
              <a:rPr b="1" lang="en-US" sz="7200" spc="-1" strike="noStrike" baseline="30000">
                <a:solidFill>
                  <a:srgbClr val="f8f8f8"/>
                </a:solidFill>
                <a:latin typeface="Monotype Corsiva"/>
              </a:rPr>
              <a:t>st</a:t>
            </a:r>
            <a:r>
              <a:rPr b="1" lang="en-US" sz="7200" spc="-1" strike="noStrike">
                <a:solidFill>
                  <a:srgbClr val="f8f8f8"/>
                </a:solidFill>
                <a:latin typeface="Monotype Corsiva"/>
              </a:rPr>
              <a:t> Annual Clapping Classic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7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304920" y="6172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7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Monotype Corsiva"/>
              </a:rPr>
              <a:t>Let’s Meet Group 1!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Monotype Corsiva"/>
              </a:rPr>
              <a:t>Please give us your best competitive clapping routine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Monotype Corsiva"/>
              </a:rPr>
              <a:t>Contestants, you’ll need to leave while the judges score your performance.  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f8f8"/>
                </a:solidFill>
                <a:latin typeface="Monotype Corsiva"/>
              </a:rPr>
              <a:t>Judges score them, please.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Monotype Corsiva"/>
              </a:rPr>
              <a:t>Let’s Give It Up For Group 2!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Give us your best clapping!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Contestants, please leave while the judges reach their decision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Judges, you will score our contestants on a score of 1 – 5.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Judges, how have your rated these contestant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28600" y="62485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8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Monotype Corsiva"/>
              </a:rPr>
              <a:t>Group 3, Come On Down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Contestants,you have 1 minute to practice your routine before performing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Judges, you will give the contestants a score between 1-5 with 5 being the highes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You will rate them in three categories – energy, creativity, and movement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Judges, how have you rated these contestants?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Monotype Corsiva"/>
              </a:rPr>
              <a:t>Put Your Hands Together for Group 4!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Contestants, you will be rated on your energy, creativity, and movement.  The judges will rate you on a score of 1-5 with 5 being the highest.  You will be given time to practice your routin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Judges, share your scores!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Monotype Corsiva"/>
              </a:rPr>
              <a:t>Our Final Group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!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901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Monotype Corsiva"/>
              </a:rPr>
              <a:t>Contestants, you will be rated on your energy, creativity, and movement.  The judges will rate you on a score of 1-5 with 5 being the highest.  You will be given time to practice your routin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Monotype Corsiva"/>
              </a:rPr>
              <a:t>Judges, please give us your scores.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Monotype Corsiva"/>
              </a:rPr>
              <a:t>Contestants, how will you use this feedback?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1" fill="hold"/>
                                        <p:tgtEl>
                                          <p:spTgt spid="1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Monotype Corsiva"/>
              </a:rPr>
              <a:t>Table Discussion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8f8f8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8f8f8"/>
                </a:solidFill>
                <a:latin typeface="Monotype Corsiva"/>
              </a:rPr>
              <a:t>What implications does this activity have for classroom assessment?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8T02:03:10Z</dcterms:created>
  <dc:creator>Kathy Dorr</dc:creator>
  <dc:description/>
  <dc:language>en-US</dc:language>
  <cp:lastModifiedBy>Preferred Customer</cp:lastModifiedBy>
  <dcterms:modified xsi:type="dcterms:W3CDTF">2004-02-08T22:03:44Z</dcterms:modified>
  <cp:revision>10</cp:revision>
  <dc:subject/>
  <dc:title>PowerPoint Presentation</dc:title>
</cp:coreProperties>
</file>