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28E3-B2D5-4AD3-9D00-FA8C6ACEC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124D-659C-4F8F-8CBE-4D7E7291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540A-9F70-4EDE-A51A-62F86E803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C1B1-536E-4CD3-8336-AF7401468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8CE84-83F3-402A-A794-52997007A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68635-210E-48BD-A1F3-6068CE81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C5EA-9711-4CBC-993F-BAA263697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001F-691C-41A1-A5A9-B30136AA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E4D01-FD7C-47FD-A956-0559AC54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289E-57DC-417A-AF35-BB835A779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3848-BF39-48BD-9E41-67CA67FE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3CBD-0480-45C6-BD88-34CFB53A6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C929-96AD-410B-B0AA-862A0150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4598-2F7B-49C8-84D6-08A4A222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23D0-7B38-45DE-AF0F-BA1CF355E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8937-A979-4B9A-A1AE-2BD111725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75ACA-39C2-4FCD-979B-6A6FEA71F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12BC-276F-467B-AC58-7328B8EC7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580A-18F4-4C0A-9E3D-3D10EB71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4499-6B5F-4123-ABFB-E0F502A0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9B73-AFF5-4372-8425-8B0F815D0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5360-0D85-4380-A032-6147E9C8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50C9-CEFB-4070-BF77-E189FDD4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1540-8C1D-4FE5-A388-0C3E2694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AD1F-2AEE-428E-BE7A-F8D38ADE9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C783-248F-49B0-B822-61A42B160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Comic Sans MS"/>
              </a:rPr>
              <a:t>Guided Practice on Assessment too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057400"/>
            <a:ext cx="74674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the performance task that was developed this morning, work on the following task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ss in your group the type of assessment tools that would be most beneficial for your performance ta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velop in your group two assessment too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end your use of these assessment too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4T06:37:21Z</dcterms:created>
  <dc:creator>Coulee Hartline School Distri</dc:creator>
  <dc:description/>
  <dc:language>en-US</dc:language>
  <cp:lastModifiedBy>Coulee Hartline School Distri</cp:lastModifiedBy>
  <dcterms:modified xsi:type="dcterms:W3CDTF">2001-12-04T06:42:24Z</dcterms:modified>
  <cp:revision>1</cp:revision>
  <dc:subject/>
  <dc:title>Guided Practice on Assessment tools</dc:title>
</cp:coreProperties>
</file>