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1D3-977D-4DD0-9BAB-7AC2969DF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82844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B61-6302-4544-BAEA-CB085D98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49900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82844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9900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4670-4AF5-41B3-802C-7CDDAC36D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25016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6722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8284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25016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6722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6984-3301-4CA7-8FAB-47249EEBA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C215-1C9E-4449-8AF0-BF3BBAE9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82844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9992-C618-471A-B6ED-3077FB8A8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00D2-1F68-4160-94CF-A8FB863A9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9900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3EFF-2B1C-4C39-9F1D-1E351BD1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F25E-888E-4D1F-B989-0D8B7F47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7162920" cy="52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CE0F-C522-471F-92B0-503972F9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9900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82844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CBB1F-E552-4FCB-9D16-1E40EF38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82844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F982-EF30-401B-AEC3-CF84B1E4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9900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9900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6724-EF05-457D-824A-BA5825F7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9900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82844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697B-A683-429D-9DCD-43CC7E56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82844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A238-528E-44B0-A11C-E4D8B719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9900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82844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9900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19FD-5C9C-41B3-A58E-5E42858DB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5016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722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8284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25016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722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CBB0-B50C-4F5C-880C-2A951A9A3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B974-8289-4265-83D1-12927455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49900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90A7-61C3-46B8-A2A7-CFD1AC02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BA29-5E7C-464D-92F3-D0B51383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7162920" cy="52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F9BE-FDDA-45CA-B6BA-DBEFD44A8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9900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44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85F0-527B-408B-A04E-B38803C5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900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49900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1AB-15CB-4560-856E-C9A8E98F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9900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82844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DD80-2BB7-4428-AC42-B2EFE453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82844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8284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DA6EE-B6D1-48B5-B2DB-5302F91B24D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10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2" name="" descr=""/>
            <p:cNvPicPr/>
            <p:nvPr/>
          </p:nvPicPr>
          <p:blipFill>
            <a:blip r:embed="rId3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F17F3-458C-47D8-905F-43337AE5AF6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ebQuest Performance Task Templ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511440" y="2048040"/>
            <a:ext cx="3321000" cy="4014720"/>
            <a:chOff x="3511440" y="2048040"/>
            <a:chExt cx="3321000" cy="4014720"/>
          </a:xfrm>
        </p:grpSpPr>
        <p:grpSp>
          <p:nvGrpSpPr>
            <p:cNvPr id="95" name=""/>
            <p:cNvGrpSpPr/>
            <p:nvPr/>
          </p:nvGrpSpPr>
          <p:grpSpPr>
            <a:xfrm>
              <a:off x="4178160" y="2384280"/>
              <a:ext cx="2654280" cy="3675240"/>
              <a:chOff x="4178160" y="2384280"/>
              <a:chExt cx="2654280" cy="3675240"/>
            </a:xfrm>
          </p:grpSpPr>
          <p:sp>
            <p:nvSpPr>
              <p:cNvPr id="96" name=""/>
              <p:cNvSpPr/>
              <p:nvPr/>
            </p:nvSpPr>
            <p:spPr>
              <a:xfrm>
                <a:off x="4181400" y="2387520"/>
                <a:ext cx="2648160" cy="3672000"/>
              </a:xfrm>
              <a:custGeom>
                <a:avLst/>
                <a:gdLst/>
                <a:ahLst/>
                <a:rect l="l" t="t" r="r" b="b"/>
                <a:pathLst>
                  <a:path w="3336" h="4627">
                    <a:moveTo>
                      <a:pt x="822" y="4587"/>
                    </a:moveTo>
                    <a:lnTo>
                      <a:pt x="809" y="4575"/>
                    </a:lnTo>
                    <a:lnTo>
                      <a:pt x="803" y="4575"/>
                    </a:lnTo>
                    <a:lnTo>
                      <a:pt x="796" y="4571"/>
                    </a:lnTo>
                    <a:lnTo>
                      <a:pt x="645" y="4481"/>
                    </a:lnTo>
                    <a:lnTo>
                      <a:pt x="277" y="4215"/>
                    </a:lnTo>
                    <a:lnTo>
                      <a:pt x="269" y="4163"/>
                    </a:lnTo>
                    <a:lnTo>
                      <a:pt x="261" y="4094"/>
                    </a:lnTo>
                    <a:lnTo>
                      <a:pt x="256" y="4039"/>
                    </a:lnTo>
                    <a:lnTo>
                      <a:pt x="250" y="3980"/>
                    </a:lnTo>
                    <a:lnTo>
                      <a:pt x="242" y="3793"/>
                    </a:lnTo>
                    <a:lnTo>
                      <a:pt x="248" y="3651"/>
                    </a:lnTo>
                    <a:lnTo>
                      <a:pt x="252" y="3627"/>
                    </a:lnTo>
                    <a:lnTo>
                      <a:pt x="256" y="3605"/>
                    </a:lnTo>
                    <a:lnTo>
                      <a:pt x="340" y="3485"/>
                    </a:lnTo>
                    <a:lnTo>
                      <a:pt x="355" y="3483"/>
                    </a:lnTo>
                    <a:lnTo>
                      <a:pt x="357" y="3481"/>
                    </a:lnTo>
                    <a:lnTo>
                      <a:pt x="450" y="3385"/>
                    </a:lnTo>
                    <a:lnTo>
                      <a:pt x="614" y="3298"/>
                    </a:lnTo>
                    <a:lnTo>
                      <a:pt x="632" y="3278"/>
                    </a:lnTo>
                    <a:lnTo>
                      <a:pt x="637" y="3274"/>
                    </a:lnTo>
                    <a:lnTo>
                      <a:pt x="639" y="3268"/>
                    </a:lnTo>
                    <a:lnTo>
                      <a:pt x="658" y="3241"/>
                    </a:lnTo>
                    <a:lnTo>
                      <a:pt x="674" y="3219"/>
                    </a:lnTo>
                    <a:lnTo>
                      <a:pt x="677" y="3217"/>
                    </a:lnTo>
                    <a:lnTo>
                      <a:pt x="677" y="3215"/>
                    </a:lnTo>
                    <a:lnTo>
                      <a:pt x="679" y="3205"/>
                    </a:lnTo>
                    <a:lnTo>
                      <a:pt x="698" y="3199"/>
                    </a:lnTo>
                    <a:lnTo>
                      <a:pt x="733" y="2996"/>
                    </a:lnTo>
                    <a:lnTo>
                      <a:pt x="738" y="2994"/>
                    </a:lnTo>
                    <a:lnTo>
                      <a:pt x="738" y="2983"/>
                    </a:lnTo>
                    <a:lnTo>
                      <a:pt x="735" y="2947"/>
                    </a:lnTo>
                    <a:lnTo>
                      <a:pt x="729" y="2898"/>
                    </a:lnTo>
                    <a:lnTo>
                      <a:pt x="721" y="2837"/>
                    </a:lnTo>
                    <a:lnTo>
                      <a:pt x="668" y="2484"/>
                    </a:lnTo>
                    <a:lnTo>
                      <a:pt x="639" y="2320"/>
                    </a:lnTo>
                    <a:lnTo>
                      <a:pt x="632" y="2283"/>
                    </a:lnTo>
                    <a:lnTo>
                      <a:pt x="624" y="2247"/>
                    </a:lnTo>
                    <a:lnTo>
                      <a:pt x="616" y="2214"/>
                    </a:lnTo>
                    <a:lnTo>
                      <a:pt x="609" y="2182"/>
                    </a:lnTo>
                    <a:lnTo>
                      <a:pt x="559" y="2044"/>
                    </a:lnTo>
                    <a:lnTo>
                      <a:pt x="551" y="2034"/>
                    </a:lnTo>
                    <a:lnTo>
                      <a:pt x="443" y="1953"/>
                    </a:lnTo>
                    <a:lnTo>
                      <a:pt x="429" y="1906"/>
                    </a:lnTo>
                    <a:lnTo>
                      <a:pt x="427" y="1886"/>
                    </a:lnTo>
                    <a:lnTo>
                      <a:pt x="422" y="1762"/>
                    </a:lnTo>
                    <a:lnTo>
                      <a:pt x="412" y="1677"/>
                    </a:lnTo>
                    <a:lnTo>
                      <a:pt x="401" y="1628"/>
                    </a:lnTo>
                    <a:lnTo>
                      <a:pt x="340" y="1484"/>
                    </a:lnTo>
                    <a:lnTo>
                      <a:pt x="198" y="1252"/>
                    </a:lnTo>
                    <a:lnTo>
                      <a:pt x="172" y="1206"/>
                    </a:lnTo>
                    <a:lnTo>
                      <a:pt x="124" y="1114"/>
                    </a:lnTo>
                    <a:lnTo>
                      <a:pt x="82" y="978"/>
                    </a:lnTo>
                    <a:lnTo>
                      <a:pt x="80" y="956"/>
                    </a:lnTo>
                    <a:lnTo>
                      <a:pt x="78" y="922"/>
                    </a:lnTo>
                    <a:lnTo>
                      <a:pt x="74" y="893"/>
                    </a:lnTo>
                    <a:lnTo>
                      <a:pt x="69" y="851"/>
                    </a:lnTo>
                    <a:lnTo>
                      <a:pt x="55" y="775"/>
                    </a:lnTo>
                    <a:lnTo>
                      <a:pt x="46" y="713"/>
                    </a:lnTo>
                    <a:lnTo>
                      <a:pt x="0" y="351"/>
                    </a:lnTo>
                    <a:lnTo>
                      <a:pt x="6" y="244"/>
                    </a:lnTo>
                    <a:lnTo>
                      <a:pt x="63" y="160"/>
                    </a:lnTo>
                    <a:lnTo>
                      <a:pt x="109" y="120"/>
                    </a:lnTo>
                    <a:lnTo>
                      <a:pt x="116" y="120"/>
                    </a:lnTo>
                    <a:lnTo>
                      <a:pt x="118" y="116"/>
                    </a:lnTo>
                    <a:lnTo>
                      <a:pt x="120" y="112"/>
                    </a:lnTo>
                    <a:lnTo>
                      <a:pt x="122" y="106"/>
                    </a:lnTo>
                    <a:lnTo>
                      <a:pt x="122" y="98"/>
                    </a:lnTo>
                    <a:lnTo>
                      <a:pt x="141" y="98"/>
                    </a:lnTo>
                    <a:lnTo>
                      <a:pt x="206" y="12"/>
                    </a:lnTo>
                    <a:lnTo>
                      <a:pt x="221" y="0"/>
                    </a:lnTo>
                    <a:lnTo>
                      <a:pt x="269" y="2"/>
                    </a:lnTo>
                    <a:lnTo>
                      <a:pt x="288" y="8"/>
                    </a:lnTo>
                    <a:lnTo>
                      <a:pt x="410" y="71"/>
                    </a:lnTo>
                    <a:lnTo>
                      <a:pt x="416" y="77"/>
                    </a:lnTo>
                    <a:lnTo>
                      <a:pt x="420" y="77"/>
                    </a:lnTo>
                    <a:lnTo>
                      <a:pt x="420" y="79"/>
                    </a:lnTo>
                    <a:lnTo>
                      <a:pt x="437" y="227"/>
                    </a:lnTo>
                    <a:lnTo>
                      <a:pt x="448" y="276"/>
                    </a:lnTo>
                    <a:lnTo>
                      <a:pt x="462" y="327"/>
                    </a:lnTo>
                    <a:lnTo>
                      <a:pt x="477" y="378"/>
                    </a:lnTo>
                    <a:lnTo>
                      <a:pt x="509" y="485"/>
                    </a:lnTo>
                    <a:lnTo>
                      <a:pt x="542" y="593"/>
                    </a:lnTo>
                    <a:lnTo>
                      <a:pt x="557" y="648"/>
                    </a:lnTo>
                    <a:lnTo>
                      <a:pt x="570" y="704"/>
                    </a:lnTo>
                    <a:lnTo>
                      <a:pt x="582" y="761"/>
                    </a:lnTo>
                    <a:lnTo>
                      <a:pt x="597" y="879"/>
                    </a:lnTo>
                    <a:lnTo>
                      <a:pt x="605" y="942"/>
                    </a:lnTo>
                    <a:lnTo>
                      <a:pt x="609" y="948"/>
                    </a:lnTo>
                    <a:lnTo>
                      <a:pt x="632" y="1001"/>
                    </a:lnTo>
                    <a:lnTo>
                      <a:pt x="643" y="1043"/>
                    </a:lnTo>
                    <a:lnTo>
                      <a:pt x="668" y="1147"/>
                    </a:lnTo>
                    <a:lnTo>
                      <a:pt x="693" y="1269"/>
                    </a:lnTo>
                    <a:lnTo>
                      <a:pt x="733" y="1445"/>
                    </a:lnTo>
                    <a:lnTo>
                      <a:pt x="746" y="1494"/>
                    </a:lnTo>
                    <a:lnTo>
                      <a:pt x="752" y="1516"/>
                    </a:lnTo>
                    <a:lnTo>
                      <a:pt x="779" y="1581"/>
                    </a:lnTo>
                    <a:lnTo>
                      <a:pt x="798" y="1597"/>
                    </a:lnTo>
                    <a:lnTo>
                      <a:pt x="800" y="1638"/>
                    </a:lnTo>
                    <a:lnTo>
                      <a:pt x="803" y="1664"/>
                    </a:lnTo>
                    <a:lnTo>
                      <a:pt x="811" y="1723"/>
                    </a:lnTo>
                    <a:lnTo>
                      <a:pt x="973" y="1989"/>
                    </a:lnTo>
                    <a:lnTo>
                      <a:pt x="977" y="2009"/>
                    </a:lnTo>
                    <a:lnTo>
                      <a:pt x="987" y="2009"/>
                    </a:lnTo>
                    <a:lnTo>
                      <a:pt x="1193" y="2091"/>
                    </a:lnTo>
                    <a:lnTo>
                      <a:pt x="1347" y="2153"/>
                    </a:lnTo>
                    <a:lnTo>
                      <a:pt x="1374" y="2164"/>
                    </a:lnTo>
                    <a:lnTo>
                      <a:pt x="1374" y="2172"/>
                    </a:lnTo>
                    <a:lnTo>
                      <a:pt x="1599" y="2186"/>
                    </a:lnTo>
                    <a:lnTo>
                      <a:pt x="1611" y="2190"/>
                    </a:lnTo>
                    <a:lnTo>
                      <a:pt x="1714" y="2239"/>
                    </a:lnTo>
                    <a:lnTo>
                      <a:pt x="1729" y="2239"/>
                    </a:lnTo>
                    <a:lnTo>
                      <a:pt x="1739" y="2214"/>
                    </a:lnTo>
                    <a:lnTo>
                      <a:pt x="1771" y="2196"/>
                    </a:lnTo>
                    <a:lnTo>
                      <a:pt x="1800" y="2194"/>
                    </a:lnTo>
                    <a:lnTo>
                      <a:pt x="1952" y="2235"/>
                    </a:lnTo>
                    <a:lnTo>
                      <a:pt x="1979" y="2239"/>
                    </a:lnTo>
                    <a:lnTo>
                      <a:pt x="2193" y="2214"/>
                    </a:lnTo>
                    <a:lnTo>
                      <a:pt x="2242" y="2204"/>
                    </a:lnTo>
                    <a:lnTo>
                      <a:pt x="2336" y="2182"/>
                    </a:lnTo>
                    <a:lnTo>
                      <a:pt x="2395" y="2168"/>
                    </a:lnTo>
                    <a:lnTo>
                      <a:pt x="2464" y="2153"/>
                    </a:lnTo>
                    <a:lnTo>
                      <a:pt x="2468" y="2151"/>
                    </a:lnTo>
                    <a:lnTo>
                      <a:pt x="2489" y="2123"/>
                    </a:lnTo>
                    <a:lnTo>
                      <a:pt x="2494" y="2115"/>
                    </a:lnTo>
                    <a:lnTo>
                      <a:pt x="2506" y="2099"/>
                    </a:lnTo>
                    <a:lnTo>
                      <a:pt x="2548" y="1989"/>
                    </a:lnTo>
                    <a:lnTo>
                      <a:pt x="2647" y="1782"/>
                    </a:lnTo>
                    <a:lnTo>
                      <a:pt x="2725" y="1638"/>
                    </a:lnTo>
                    <a:lnTo>
                      <a:pt x="2731" y="1616"/>
                    </a:lnTo>
                    <a:lnTo>
                      <a:pt x="2737" y="1612"/>
                    </a:lnTo>
                    <a:lnTo>
                      <a:pt x="2758" y="1583"/>
                    </a:lnTo>
                    <a:lnTo>
                      <a:pt x="2792" y="1472"/>
                    </a:lnTo>
                    <a:lnTo>
                      <a:pt x="2798" y="1470"/>
                    </a:lnTo>
                    <a:lnTo>
                      <a:pt x="2802" y="1465"/>
                    </a:lnTo>
                    <a:lnTo>
                      <a:pt x="2805" y="1459"/>
                    </a:lnTo>
                    <a:lnTo>
                      <a:pt x="2846" y="1372"/>
                    </a:lnTo>
                    <a:lnTo>
                      <a:pt x="2924" y="1269"/>
                    </a:lnTo>
                    <a:lnTo>
                      <a:pt x="2931" y="1269"/>
                    </a:lnTo>
                    <a:lnTo>
                      <a:pt x="2937" y="1269"/>
                    </a:lnTo>
                    <a:lnTo>
                      <a:pt x="2941" y="1267"/>
                    </a:lnTo>
                    <a:lnTo>
                      <a:pt x="2943" y="1265"/>
                    </a:lnTo>
                    <a:lnTo>
                      <a:pt x="2945" y="1260"/>
                    </a:lnTo>
                    <a:lnTo>
                      <a:pt x="2945" y="1256"/>
                    </a:lnTo>
                    <a:lnTo>
                      <a:pt x="2945" y="1248"/>
                    </a:lnTo>
                    <a:lnTo>
                      <a:pt x="2949" y="1248"/>
                    </a:lnTo>
                    <a:lnTo>
                      <a:pt x="2951" y="1246"/>
                    </a:lnTo>
                    <a:lnTo>
                      <a:pt x="2954" y="1242"/>
                    </a:lnTo>
                    <a:lnTo>
                      <a:pt x="2954" y="1238"/>
                    </a:lnTo>
                    <a:lnTo>
                      <a:pt x="2958" y="1210"/>
                    </a:lnTo>
                    <a:lnTo>
                      <a:pt x="2956" y="1191"/>
                    </a:lnTo>
                    <a:lnTo>
                      <a:pt x="2951" y="1125"/>
                    </a:lnTo>
                    <a:lnTo>
                      <a:pt x="2966" y="1007"/>
                    </a:lnTo>
                    <a:lnTo>
                      <a:pt x="2977" y="1003"/>
                    </a:lnTo>
                    <a:lnTo>
                      <a:pt x="2985" y="1001"/>
                    </a:lnTo>
                    <a:lnTo>
                      <a:pt x="3012" y="960"/>
                    </a:lnTo>
                    <a:lnTo>
                      <a:pt x="3019" y="960"/>
                    </a:lnTo>
                    <a:lnTo>
                      <a:pt x="3023" y="956"/>
                    </a:lnTo>
                    <a:lnTo>
                      <a:pt x="3025" y="954"/>
                    </a:lnTo>
                    <a:lnTo>
                      <a:pt x="3025" y="948"/>
                    </a:lnTo>
                    <a:lnTo>
                      <a:pt x="3023" y="932"/>
                    </a:lnTo>
                    <a:lnTo>
                      <a:pt x="3023" y="926"/>
                    </a:lnTo>
                    <a:lnTo>
                      <a:pt x="3046" y="915"/>
                    </a:lnTo>
                    <a:lnTo>
                      <a:pt x="3050" y="911"/>
                    </a:lnTo>
                    <a:lnTo>
                      <a:pt x="3057" y="909"/>
                    </a:lnTo>
                    <a:lnTo>
                      <a:pt x="3069" y="907"/>
                    </a:lnTo>
                    <a:lnTo>
                      <a:pt x="3136" y="915"/>
                    </a:lnTo>
                    <a:lnTo>
                      <a:pt x="3202" y="970"/>
                    </a:lnTo>
                    <a:lnTo>
                      <a:pt x="3204" y="986"/>
                    </a:lnTo>
                    <a:lnTo>
                      <a:pt x="3220" y="986"/>
                    </a:lnTo>
                    <a:lnTo>
                      <a:pt x="3223" y="968"/>
                    </a:lnTo>
                    <a:lnTo>
                      <a:pt x="3225" y="962"/>
                    </a:lnTo>
                    <a:lnTo>
                      <a:pt x="3229" y="958"/>
                    </a:lnTo>
                    <a:lnTo>
                      <a:pt x="3231" y="956"/>
                    </a:lnTo>
                    <a:lnTo>
                      <a:pt x="3243" y="958"/>
                    </a:lnTo>
                    <a:lnTo>
                      <a:pt x="3283" y="982"/>
                    </a:lnTo>
                    <a:lnTo>
                      <a:pt x="3283" y="1001"/>
                    </a:lnTo>
                    <a:lnTo>
                      <a:pt x="3332" y="1039"/>
                    </a:lnTo>
                    <a:lnTo>
                      <a:pt x="3336" y="1049"/>
                    </a:lnTo>
                    <a:lnTo>
                      <a:pt x="3264" y="1309"/>
                    </a:lnTo>
                    <a:lnTo>
                      <a:pt x="3256" y="1311"/>
                    </a:lnTo>
                    <a:lnTo>
                      <a:pt x="3243" y="1319"/>
                    </a:lnTo>
                    <a:lnTo>
                      <a:pt x="3216" y="1370"/>
                    </a:lnTo>
                    <a:lnTo>
                      <a:pt x="3185" y="1508"/>
                    </a:lnTo>
                    <a:lnTo>
                      <a:pt x="3168" y="1660"/>
                    </a:lnTo>
                    <a:lnTo>
                      <a:pt x="3164" y="1745"/>
                    </a:lnTo>
                    <a:lnTo>
                      <a:pt x="3162" y="1754"/>
                    </a:lnTo>
                    <a:lnTo>
                      <a:pt x="3162" y="1762"/>
                    </a:lnTo>
                    <a:lnTo>
                      <a:pt x="3159" y="1762"/>
                    </a:lnTo>
                    <a:lnTo>
                      <a:pt x="3155" y="1762"/>
                    </a:lnTo>
                    <a:lnTo>
                      <a:pt x="3141" y="1764"/>
                    </a:lnTo>
                    <a:lnTo>
                      <a:pt x="3065" y="1798"/>
                    </a:lnTo>
                    <a:lnTo>
                      <a:pt x="3063" y="1802"/>
                    </a:lnTo>
                    <a:lnTo>
                      <a:pt x="3057" y="1804"/>
                    </a:lnTo>
                    <a:lnTo>
                      <a:pt x="3052" y="1808"/>
                    </a:lnTo>
                    <a:lnTo>
                      <a:pt x="3038" y="1817"/>
                    </a:lnTo>
                    <a:lnTo>
                      <a:pt x="3023" y="1837"/>
                    </a:lnTo>
                    <a:lnTo>
                      <a:pt x="3017" y="1849"/>
                    </a:lnTo>
                    <a:lnTo>
                      <a:pt x="2983" y="1922"/>
                    </a:lnTo>
                    <a:lnTo>
                      <a:pt x="2920" y="2139"/>
                    </a:lnTo>
                    <a:lnTo>
                      <a:pt x="2905" y="2227"/>
                    </a:lnTo>
                    <a:lnTo>
                      <a:pt x="2905" y="2233"/>
                    </a:lnTo>
                    <a:lnTo>
                      <a:pt x="2901" y="2235"/>
                    </a:lnTo>
                    <a:lnTo>
                      <a:pt x="2857" y="2296"/>
                    </a:lnTo>
                    <a:lnTo>
                      <a:pt x="2828" y="2364"/>
                    </a:lnTo>
                    <a:lnTo>
                      <a:pt x="2817" y="2379"/>
                    </a:lnTo>
                    <a:lnTo>
                      <a:pt x="2775" y="2442"/>
                    </a:lnTo>
                    <a:lnTo>
                      <a:pt x="2771" y="2448"/>
                    </a:lnTo>
                    <a:lnTo>
                      <a:pt x="2769" y="2454"/>
                    </a:lnTo>
                    <a:lnTo>
                      <a:pt x="2767" y="2464"/>
                    </a:lnTo>
                    <a:lnTo>
                      <a:pt x="2765" y="2484"/>
                    </a:lnTo>
                    <a:lnTo>
                      <a:pt x="2775" y="2557"/>
                    </a:lnTo>
                    <a:lnTo>
                      <a:pt x="2823" y="2722"/>
                    </a:lnTo>
                    <a:lnTo>
                      <a:pt x="2847" y="2783"/>
                    </a:lnTo>
                    <a:lnTo>
                      <a:pt x="2863" y="2807"/>
                    </a:lnTo>
                    <a:lnTo>
                      <a:pt x="2865" y="2809"/>
                    </a:lnTo>
                    <a:lnTo>
                      <a:pt x="2886" y="2847"/>
                    </a:lnTo>
                    <a:lnTo>
                      <a:pt x="2893" y="2872"/>
                    </a:lnTo>
                    <a:lnTo>
                      <a:pt x="2903" y="2955"/>
                    </a:lnTo>
                    <a:lnTo>
                      <a:pt x="2918" y="3012"/>
                    </a:lnTo>
                    <a:lnTo>
                      <a:pt x="2924" y="3014"/>
                    </a:lnTo>
                    <a:lnTo>
                      <a:pt x="2888" y="3205"/>
                    </a:lnTo>
                    <a:lnTo>
                      <a:pt x="2874" y="3247"/>
                    </a:lnTo>
                    <a:lnTo>
                      <a:pt x="2790" y="3491"/>
                    </a:lnTo>
                    <a:lnTo>
                      <a:pt x="2781" y="3529"/>
                    </a:lnTo>
                    <a:lnTo>
                      <a:pt x="2723" y="3767"/>
                    </a:lnTo>
                    <a:lnTo>
                      <a:pt x="2744" y="3789"/>
                    </a:lnTo>
                    <a:lnTo>
                      <a:pt x="2744" y="3807"/>
                    </a:lnTo>
                    <a:lnTo>
                      <a:pt x="2743" y="3824"/>
                    </a:lnTo>
                    <a:lnTo>
                      <a:pt x="2739" y="3844"/>
                    </a:lnTo>
                    <a:lnTo>
                      <a:pt x="2691" y="4041"/>
                    </a:lnTo>
                    <a:lnTo>
                      <a:pt x="2689" y="4043"/>
                    </a:lnTo>
                    <a:lnTo>
                      <a:pt x="2685" y="4055"/>
                    </a:lnTo>
                    <a:lnTo>
                      <a:pt x="2672" y="4077"/>
                    </a:lnTo>
                    <a:lnTo>
                      <a:pt x="2649" y="4114"/>
                    </a:lnTo>
                    <a:lnTo>
                      <a:pt x="2586" y="4246"/>
                    </a:lnTo>
                    <a:lnTo>
                      <a:pt x="2567" y="4252"/>
                    </a:lnTo>
                    <a:lnTo>
                      <a:pt x="2567" y="4266"/>
                    </a:lnTo>
                    <a:lnTo>
                      <a:pt x="2561" y="4286"/>
                    </a:lnTo>
                    <a:lnTo>
                      <a:pt x="2540" y="4309"/>
                    </a:lnTo>
                    <a:lnTo>
                      <a:pt x="2489" y="4374"/>
                    </a:lnTo>
                    <a:lnTo>
                      <a:pt x="2487" y="4382"/>
                    </a:lnTo>
                    <a:lnTo>
                      <a:pt x="2473" y="4398"/>
                    </a:lnTo>
                    <a:lnTo>
                      <a:pt x="2470" y="4404"/>
                    </a:lnTo>
                    <a:lnTo>
                      <a:pt x="2426" y="4493"/>
                    </a:lnTo>
                    <a:lnTo>
                      <a:pt x="2422" y="4495"/>
                    </a:lnTo>
                    <a:lnTo>
                      <a:pt x="2409" y="4514"/>
                    </a:lnTo>
                    <a:lnTo>
                      <a:pt x="2368" y="4595"/>
                    </a:lnTo>
                    <a:lnTo>
                      <a:pt x="2347" y="4597"/>
                    </a:lnTo>
                    <a:lnTo>
                      <a:pt x="2162" y="4589"/>
                    </a:lnTo>
                    <a:lnTo>
                      <a:pt x="2134" y="4562"/>
                    </a:lnTo>
                    <a:lnTo>
                      <a:pt x="2132" y="4552"/>
                    </a:lnTo>
                    <a:lnTo>
                      <a:pt x="2130" y="4544"/>
                    </a:lnTo>
                    <a:lnTo>
                      <a:pt x="2130" y="4534"/>
                    </a:lnTo>
                    <a:lnTo>
                      <a:pt x="2090" y="4532"/>
                    </a:lnTo>
                    <a:lnTo>
                      <a:pt x="2065" y="4530"/>
                    </a:lnTo>
                    <a:lnTo>
                      <a:pt x="2038" y="4526"/>
                    </a:lnTo>
                    <a:lnTo>
                      <a:pt x="1901" y="4508"/>
                    </a:lnTo>
                    <a:lnTo>
                      <a:pt x="1832" y="4497"/>
                    </a:lnTo>
                    <a:lnTo>
                      <a:pt x="1815" y="4495"/>
                    </a:lnTo>
                    <a:lnTo>
                      <a:pt x="1802" y="4493"/>
                    </a:lnTo>
                    <a:lnTo>
                      <a:pt x="1794" y="4493"/>
                    </a:lnTo>
                    <a:lnTo>
                      <a:pt x="1792" y="4493"/>
                    </a:lnTo>
                    <a:lnTo>
                      <a:pt x="1792" y="4493"/>
                    </a:lnTo>
                    <a:lnTo>
                      <a:pt x="1773" y="4495"/>
                    </a:lnTo>
                    <a:lnTo>
                      <a:pt x="1773" y="4497"/>
                    </a:lnTo>
                    <a:lnTo>
                      <a:pt x="1771" y="4512"/>
                    </a:lnTo>
                    <a:lnTo>
                      <a:pt x="1714" y="4530"/>
                    </a:lnTo>
                    <a:lnTo>
                      <a:pt x="1695" y="4546"/>
                    </a:lnTo>
                    <a:lnTo>
                      <a:pt x="1693" y="4550"/>
                    </a:lnTo>
                    <a:lnTo>
                      <a:pt x="1693" y="4554"/>
                    </a:lnTo>
                    <a:lnTo>
                      <a:pt x="1687" y="4554"/>
                    </a:lnTo>
                    <a:lnTo>
                      <a:pt x="1645" y="4562"/>
                    </a:lnTo>
                    <a:lnTo>
                      <a:pt x="1622" y="4568"/>
                    </a:lnTo>
                    <a:lnTo>
                      <a:pt x="1595" y="4573"/>
                    </a:lnTo>
                    <a:lnTo>
                      <a:pt x="1481" y="4599"/>
                    </a:lnTo>
                    <a:lnTo>
                      <a:pt x="1340" y="4591"/>
                    </a:lnTo>
                    <a:lnTo>
                      <a:pt x="1334" y="4585"/>
                    </a:lnTo>
                    <a:lnTo>
                      <a:pt x="1321" y="4566"/>
                    </a:lnTo>
                    <a:lnTo>
                      <a:pt x="1195" y="4447"/>
                    </a:lnTo>
                    <a:lnTo>
                      <a:pt x="1181" y="4441"/>
                    </a:lnTo>
                    <a:lnTo>
                      <a:pt x="1168" y="4439"/>
                    </a:lnTo>
                    <a:lnTo>
                      <a:pt x="1135" y="4493"/>
                    </a:lnTo>
                    <a:lnTo>
                      <a:pt x="1128" y="4493"/>
                    </a:lnTo>
                    <a:lnTo>
                      <a:pt x="1099" y="4506"/>
                    </a:lnTo>
                    <a:lnTo>
                      <a:pt x="1061" y="4534"/>
                    </a:lnTo>
                    <a:lnTo>
                      <a:pt x="1059" y="4536"/>
                    </a:lnTo>
                    <a:lnTo>
                      <a:pt x="1036" y="4562"/>
                    </a:lnTo>
                    <a:lnTo>
                      <a:pt x="1036" y="4568"/>
                    </a:lnTo>
                    <a:lnTo>
                      <a:pt x="1036" y="4575"/>
                    </a:lnTo>
                    <a:lnTo>
                      <a:pt x="910" y="4627"/>
                    </a:lnTo>
                    <a:lnTo>
                      <a:pt x="895" y="4627"/>
                    </a:lnTo>
                    <a:lnTo>
                      <a:pt x="878" y="4623"/>
                    </a:lnTo>
                    <a:lnTo>
                      <a:pt x="822" y="458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818240" y="60166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6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811760" y="60148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2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11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92600" y="5942160"/>
                <a:ext cx="122400" cy="77760"/>
              </a:xfrm>
              <a:custGeom>
                <a:avLst/>
                <a:gdLst/>
                <a:ahLst/>
                <a:rect l="l" t="t" r="r" b="b"/>
                <a:pathLst>
                  <a:path w="155" h="96">
                    <a:moveTo>
                      <a:pt x="155" y="90"/>
                    </a:moveTo>
                    <a:lnTo>
                      <a:pt x="151" y="9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155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97400" y="5730840"/>
                <a:ext cx="297000" cy="216000"/>
              </a:xfrm>
              <a:custGeom>
                <a:avLst/>
                <a:gdLst/>
                <a:ahLst/>
                <a:rect l="l" t="t" r="r" b="b"/>
                <a:pathLst>
                  <a:path w="374" h="272">
                    <a:moveTo>
                      <a:pt x="374" y="266"/>
                    </a:moveTo>
                    <a:lnTo>
                      <a:pt x="370" y="272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374" y="2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392720" y="569268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15" y="50"/>
                    </a:moveTo>
                    <a:lnTo>
                      <a:pt x="8" y="5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86240" y="5637240"/>
                <a:ext cx="11160" cy="55440"/>
              </a:xfrm>
              <a:custGeom>
                <a:avLst/>
                <a:gdLst/>
                <a:ahLst/>
                <a:rect l="l" t="t" r="r" b="b"/>
                <a:pathLst>
                  <a:path w="16" h="69">
                    <a:moveTo>
                      <a:pt x="16" y="69"/>
                    </a:moveTo>
                    <a:lnTo>
                      <a:pt x="8" y="6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6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381560" y="55944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3" h="55">
                    <a:moveTo>
                      <a:pt x="13" y="55"/>
                    </a:moveTo>
                    <a:lnTo>
                      <a:pt x="5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3" y="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376880" y="5546880"/>
                <a:ext cx="10800" cy="47520"/>
              </a:xfrm>
              <a:custGeom>
                <a:avLst/>
                <a:gdLst/>
                <a:ahLst/>
                <a:rect l="l" t="t" r="r" b="b"/>
                <a:pathLst>
                  <a:path w="13" h="59">
                    <a:moveTo>
                      <a:pt x="13" y="59"/>
                    </a:moveTo>
                    <a:lnTo>
                      <a:pt x="6" y="5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3" y="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70400" y="5397480"/>
                <a:ext cx="12600" cy="149400"/>
              </a:xfrm>
              <a:custGeom>
                <a:avLst/>
                <a:gdLst/>
                <a:ahLst/>
                <a:rect l="l" t="t" r="r" b="b"/>
                <a:pathLst>
                  <a:path w="16" h="187">
                    <a:moveTo>
                      <a:pt x="16" y="187"/>
                    </a:moveTo>
                    <a:lnTo>
                      <a:pt x="8" y="18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18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70400" y="5284800"/>
                <a:ext cx="11160" cy="112680"/>
              </a:xfrm>
              <a:custGeom>
                <a:avLst/>
                <a:gdLst/>
                <a:ahLst/>
                <a:rect l="l" t="t" r="r" b="b"/>
                <a:pathLst>
                  <a:path w="14" h="142">
                    <a:moveTo>
                      <a:pt x="8" y="142"/>
                    </a:moveTo>
                    <a:lnTo>
                      <a:pt x="0" y="14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8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75080" y="526716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8" y="24"/>
                    </a:moveTo>
                    <a:lnTo>
                      <a:pt x="0" y="2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2" y="0"/>
                    </a:lnTo>
                    <a:lnTo>
                      <a:pt x="8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78320" y="524844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8" y="23"/>
                    </a:moveTo>
                    <a:lnTo>
                      <a:pt x="0" y="23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11" y="3"/>
                    </a:lnTo>
                    <a:lnTo>
                      <a:pt x="8" y="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83000" y="5151600"/>
                <a:ext cx="69840" cy="99720"/>
              </a:xfrm>
              <a:custGeom>
                <a:avLst/>
                <a:gdLst/>
                <a:ahLst/>
                <a:rect l="l" t="t" r="r" b="b"/>
                <a:pathLst>
                  <a:path w="87" h="126">
                    <a:moveTo>
                      <a:pt x="5" y="126"/>
                    </a:moveTo>
                    <a:lnTo>
                      <a:pt x="0" y="123"/>
                    </a:lnTo>
                    <a:lnTo>
                      <a:pt x="84" y="2"/>
                    </a:lnTo>
                    <a:lnTo>
                      <a:pt x="86" y="0"/>
                    </a:lnTo>
                    <a:lnTo>
                      <a:pt x="87" y="8"/>
                    </a:lnTo>
                    <a:lnTo>
                      <a:pt x="5" y="1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451400" y="514980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" y="10"/>
                    </a:moveTo>
                    <a:lnTo>
                      <a:pt x="0" y="2"/>
                    </a:lnTo>
                    <a:lnTo>
                      <a:pt x="13" y="0"/>
                    </a:lnTo>
                    <a:lnTo>
                      <a:pt x="17" y="6"/>
                    </a:lnTo>
                    <a:lnTo>
                      <a:pt x="15" y="8"/>
                    </a:lnTo>
                    <a:lnTo>
                      <a:pt x="1" y="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460760" y="51498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6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4"/>
                    </a:lnTo>
                    <a:lnTo>
                      <a:pt x="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462560" y="5072040"/>
                <a:ext cx="77760" cy="81000"/>
              </a:xfrm>
              <a:custGeom>
                <a:avLst/>
                <a:gdLst/>
                <a:ahLst/>
                <a:rect l="l" t="t" r="r" b="b"/>
                <a:pathLst>
                  <a:path w="97" h="100">
                    <a:moveTo>
                      <a:pt x="4" y="100"/>
                    </a:moveTo>
                    <a:lnTo>
                      <a:pt x="0" y="96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7" y="6"/>
                    </a:lnTo>
                    <a:lnTo>
                      <a:pt x="4" y="1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537080" y="5003640"/>
                <a:ext cx="133200" cy="73080"/>
              </a:xfrm>
              <a:custGeom>
                <a:avLst/>
                <a:gdLst/>
                <a:ahLst/>
                <a:rect l="l" t="t" r="r" b="b"/>
                <a:pathLst>
                  <a:path w="168" h="93">
                    <a:moveTo>
                      <a:pt x="4" y="93"/>
                    </a:moveTo>
                    <a:lnTo>
                      <a:pt x="0" y="87"/>
                    </a:lnTo>
                    <a:lnTo>
                      <a:pt x="164" y="0"/>
                    </a:lnTo>
                    <a:lnTo>
                      <a:pt x="168" y="4"/>
                    </a:lnTo>
                    <a:lnTo>
                      <a:pt x="168" y="6"/>
                    </a:lnTo>
                    <a:lnTo>
                      <a:pt x="4" y="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667400" y="498780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4" y="24"/>
                    </a:moveTo>
                    <a:lnTo>
                      <a:pt x="0" y="2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1" y="4"/>
                    </a:lnTo>
                    <a:lnTo>
                      <a:pt x="4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681440" y="498492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3" y="8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3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686480" y="49798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6" y="10"/>
                    </a:moveTo>
                    <a:lnTo>
                      <a:pt x="0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8" y="4"/>
                    </a:lnTo>
                    <a:lnTo>
                      <a:pt x="6" y="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87920" y="4957920"/>
                <a:ext cx="19080" cy="2520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6" y="31"/>
                    </a:moveTo>
                    <a:lnTo>
                      <a:pt x="0" y="27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5" y="4"/>
                    </a:lnTo>
                    <a:lnTo>
                      <a:pt x="6" y="3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702320" y="494172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6" y="26"/>
                    </a:moveTo>
                    <a:lnTo>
                      <a:pt x="0" y="22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6"/>
                    </a:lnTo>
                    <a:lnTo>
                      <a:pt x="6" y="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714920" y="49402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9" y="2"/>
                    </a:lnTo>
                    <a:lnTo>
                      <a:pt x="7" y="6"/>
                    </a:lnTo>
                    <a:lnTo>
                      <a:pt x="3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716360" y="49402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6360" y="4929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7" y="14"/>
                    </a:moveTo>
                    <a:lnTo>
                      <a:pt x="0" y="14"/>
                    </a:lnTo>
                    <a:lnTo>
                      <a:pt x="1" y="4"/>
                    </a:lnTo>
                    <a:lnTo>
                      <a:pt x="5" y="0"/>
                    </a:lnTo>
                    <a:lnTo>
                      <a:pt x="9" y="8"/>
                    </a:lnTo>
                    <a:lnTo>
                      <a:pt x="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721400" y="492588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4" y="12"/>
                    </a:moveTo>
                    <a:lnTo>
                      <a:pt x="0" y="4"/>
                    </a:lnTo>
                    <a:lnTo>
                      <a:pt x="17" y="0"/>
                    </a:lnTo>
                    <a:lnTo>
                      <a:pt x="23" y="2"/>
                    </a:lnTo>
                    <a:lnTo>
                      <a:pt x="21" y="6"/>
                    </a:lnTo>
                    <a:lnTo>
                      <a:pt x="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734000" y="4762440"/>
                <a:ext cx="31680" cy="165240"/>
              </a:xfrm>
              <a:custGeom>
                <a:avLst/>
                <a:gdLst/>
                <a:ahLst/>
                <a:rect l="l" t="t" r="r" b="b"/>
                <a:pathLst>
                  <a:path w="41" h="207">
                    <a:moveTo>
                      <a:pt x="6" y="207"/>
                    </a:moveTo>
                    <a:lnTo>
                      <a:pt x="0" y="205"/>
                    </a:lnTo>
                    <a:lnTo>
                      <a:pt x="33" y="4"/>
                    </a:lnTo>
                    <a:lnTo>
                      <a:pt x="37" y="0"/>
                    </a:lnTo>
                    <a:lnTo>
                      <a:pt x="41" y="6"/>
                    </a:lnTo>
                    <a:lnTo>
                      <a:pt x="6" y="2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62440" y="47624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4" y="6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9" y="2"/>
                    </a:lnTo>
                    <a:lnTo>
                      <a:pt x="7" y="6"/>
                    </a:lnTo>
                    <a:lnTo>
                      <a:pt x="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764240" y="47545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7" y="11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1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761000" y="4727520"/>
                <a:ext cx="9360" cy="2700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11" y="36"/>
                    </a:moveTo>
                    <a:lnTo>
                      <a:pt x="4" y="36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1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57760" y="468792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13" y="49"/>
                    </a:moveTo>
                    <a:lnTo>
                      <a:pt x="6" y="49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3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51280" y="463860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16" y="61"/>
                    </a:moveTo>
                    <a:lnTo>
                      <a:pt x="8" y="61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6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08440" y="4359240"/>
                <a:ext cx="49320" cy="279360"/>
              </a:xfrm>
              <a:custGeom>
                <a:avLst/>
                <a:gdLst/>
                <a:ahLst/>
                <a:rect l="l" t="t" r="r" b="b"/>
                <a:pathLst>
                  <a:path w="61" h="353">
                    <a:moveTo>
                      <a:pt x="61" y="353"/>
                    </a:moveTo>
                    <a:lnTo>
                      <a:pt x="53" y="35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1" y="3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686480" y="4229280"/>
                <a:ext cx="28440" cy="129960"/>
              </a:xfrm>
              <a:custGeom>
                <a:avLst/>
                <a:gdLst/>
                <a:ahLst/>
                <a:rect l="l" t="t" r="r" b="b"/>
                <a:pathLst>
                  <a:path w="37" h="164">
                    <a:moveTo>
                      <a:pt x="37" y="164"/>
                    </a:moveTo>
                    <a:lnTo>
                      <a:pt x="29" y="164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37" y="1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680000" y="4199040"/>
                <a:ext cx="12600" cy="3024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5" y="37"/>
                    </a:moveTo>
                    <a:lnTo>
                      <a:pt x="7" y="37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5" y="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673520" y="4172040"/>
                <a:ext cx="12960" cy="28440"/>
              </a:xfrm>
              <a:custGeom>
                <a:avLst/>
                <a:gdLst/>
                <a:ahLst/>
                <a:rect l="l" t="t" r="r" b="b"/>
                <a:pathLst>
                  <a:path w="15" h="38">
                    <a:moveTo>
                      <a:pt x="15" y="36"/>
                    </a:moveTo>
                    <a:lnTo>
                      <a:pt x="8" y="38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5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67400" y="4145040"/>
                <a:ext cx="12600" cy="2844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6" y="33"/>
                    </a:moveTo>
                    <a:lnTo>
                      <a:pt x="8" y="35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660920" y="411948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15" h="34">
                    <a:moveTo>
                      <a:pt x="15" y="32"/>
                    </a:moveTo>
                    <a:lnTo>
                      <a:pt x="7" y="34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5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4560" y="4008600"/>
                <a:ext cx="42840" cy="112680"/>
              </a:xfrm>
              <a:custGeom>
                <a:avLst/>
                <a:gdLst/>
                <a:ahLst/>
                <a:rect l="l" t="t" r="r" b="b"/>
                <a:pathLst>
                  <a:path w="55" h="142">
                    <a:moveTo>
                      <a:pt x="55" y="140"/>
                    </a:moveTo>
                    <a:lnTo>
                      <a:pt x="48" y="142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55" y="1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18080" y="400068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10"/>
                    </a:moveTo>
                    <a:lnTo>
                      <a:pt x="8" y="14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2" y="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529160" y="3936960"/>
                <a:ext cx="92160" cy="66600"/>
              </a:xfrm>
              <a:custGeom>
                <a:avLst/>
                <a:gdLst/>
                <a:ahLst/>
                <a:rect l="l" t="t" r="r" b="b"/>
                <a:pathLst>
                  <a:path w="114" h="84">
                    <a:moveTo>
                      <a:pt x="114" y="80"/>
                    </a:moveTo>
                    <a:lnTo>
                      <a:pt x="110" y="84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4" y="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519440" y="390060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1" h="49">
                    <a:moveTo>
                      <a:pt x="21" y="46"/>
                    </a:moveTo>
                    <a:lnTo>
                      <a:pt x="14" y="49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2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518000" y="38847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9" y="20"/>
                    </a:moveTo>
                    <a:lnTo>
                      <a:pt x="1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9" y="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513320" y="3786120"/>
                <a:ext cx="11160" cy="98640"/>
              </a:xfrm>
              <a:custGeom>
                <a:avLst/>
                <a:gdLst/>
                <a:ahLst/>
                <a:rect l="l" t="t" r="r" b="b"/>
                <a:pathLst>
                  <a:path w="13" h="124">
                    <a:moveTo>
                      <a:pt x="13" y="124"/>
                    </a:moveTo>
                    <a:lnTo>
                      <a:pt x="6" y="124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3" y="1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05400" y="3719520"/>
                <a:ext cx="14040" cy="66600"/>
              </a:xfrm>
              <a:custGeom>
                <a:avLst/>
                <a:gdLst/>
                <a:ahLst/>
                <a:rect l="l" t="t" r="r" b="b"/>
                <a:pathLst>
                  <a:path w="17" h="85">
                    <a:moveTo>
                      <a:pt x="17" y="85"/>
                    </a:moveTo>
                    <a:lnTo>
                      <a:pt x="10" y="8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7" y="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495680" y="3678120"/>
                <a:ext cx="15840" cy="41400"/>
              </a:xfrm>
              <a:custGeom>
                <a:avLst/>
                <a:gdLst/>
                <a:ahLst/>
                <a:rect l="l" t="t" r="r" b="b"/>
                <a:pathLst>
                  <a:path w="19" h="51">
                    <a:moveTo>
                      <a:pt x="19" y="51"/>
                    </a:moveTo>
                    <a:lnTo>
                      <a:pt x="11" y="51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9" y="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449600" y="3564000"/>
                <a:ext cx="52560" cy="117360"/>
              </a:xfrm>
              <a:custGeom>
                <a:avLst/>
                <a:gdLst/>
                <a:ahLst/>
                <a:rect l="l" t="t" r="r" b="b"/>
                <a:pathLst>
                  <a:path w="66" h="148">
                    <a:moveTo>
                      <a:pt x="66" y="144"/>
                    </a:moveTo>
                    <a:lnTo>
                      <a:pt x="59" y="14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6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36920" y="337968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147" h="236">
                    <a:moveTo>
                      <a:pt x="147" y="232"/>
                    </a:moveTo>
                    <a:lnTo>
                      <a:pt x="142" y="23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47" y="2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16400" y="334332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32" y="46"/>
                    </a:moveTo>
                    <a:lnTo>
                      <a:pt x="26" y="5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32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76800" y="327024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5" h="96">
                    <a:moveTo>
                      <a:pt x="55" y="92"/>
                    </a:moveTo>
                    <a:lnTo>
                      <a:pt x="50" y="9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55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243320" y="3164040"/>
                <a:ext cx="39600" cy="109440"/>
              </a:xfrm>
              <a:custGeom>
                <a:avLst/>
                <a:gdLst/>
                <a:ahLst/>
                <a:rect l="l" t="t" r="r" b="b"/>
                <a:pathLst>
                  <a:path w="50" h="138">
                    <a:moveTo>
                      <a:pt x="50" y="134"/>
                    </a:moveTo>
                    <a:lnTo>
                      <a:pt x="42" y="13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5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241880" y="3146400"/>
                <a:ext cx="7920" cy="17640"/>
              </a:xfrm>
              <a:custGeom>
                <a:avLst/>
                <a:gdLst/>
                <a:ahLst/>
                <a:rect l="l" t="t" r="r" b="b"/>
                <a:pathLst>
                  <a:path w="10" h="22">
                    <a:moveTo>
                      <a:pt x="10" y="22"/>
                    </a:moveTo>
                    <a:lnTo>
                      <a:pt x="2" y="2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40080" y="311940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10" h="34">
                    <a:moveTo>
                      <a:pt x="10" y="34"/>
                    </a:moveTo>
                    <a:lnTo>
                      <a:pt x="2" y="34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237200" y="3095640"/>
                <a:ext cx="9360" cy="2376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29"/>
                    </a:moveTo>
                    <a:lnTo>
                      <a:pt x="4" y="29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2" y="2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32160" y="3063960"/>
                <a:ext cx="11160" cy="31680"/>
              </a:xfrm>
              <a:custGeom>
                <a:avLst/>
                <a:gdLst/>
                <a:ahLst/>
                <a:rect l="l" t="t" r="r" b="b"/>
                <a:pathLst>
                  <a:path w="13" h="42">
                    <a:moveTo>
                      <a:pt x="13" y="42"/>
                    </a:moveTo>
                    <a:lnTo>
                      <a:pt x="5" y="42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3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22800" y="30020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6">
                    <a:moveTo>
                      <a:pt x="21" y="76"/>
                    </a:moveTo>
                    <a:lnTo>
                      <a:pt x="14" y="7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21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14880" y="2954160"/>
                <a:ext cx="12600" cy="47880"/>
              </a:xfrm>
              <a:custGeom>
                <a:avLst/>
                <a:gdLst/>
                <a:ahLst/>
                <a:rect l="l" t="t" r="r" b="b"/>
                <a:pathLst>
                  <a:path w="17" h="62">
                    <a:moveTo>
                      <a:pt x="17" y="62"/>
                    </a:moveTo>
                    <a:lnTo>
                      <a:pt x="9" y="6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7" y="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78160" y="2665440"/>
                <a:ext cx="42840" cy="288720"/>
              </a:xfrm>
              <a:custGeom>
                <a:avLst/>
                <a:gdLst/>
                <a:ahLst/>
                <a:rect l="l" t="t" r="r" b="b"/>
                <a:pathLst>
                  <a:path w="53" h="362">
                    <a:moveTo>
                      <a:pt x="53" y="362"/>
                    </a:moveTo>
                    <a:lnTo>
                      <a:pt x="46" y="36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53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78160" y="2579760"/>
                <a:ext cx="11160" cy="85680"/>
              </a:xfrm>
              <a:custGeom>
                <a:avLst/>
                <a:gdLst/>
                <a:ahLst/>
                <a:rect l="l" t="t" r="r" b="b"/>
                <a:pathLst>
                  <a:path w="13" h="109">
                    <a:moveTo>
                      <a:pt x="8" y="109"/>
                    </a:moveTo>
                    <a:lnTo>
                      <a:pt x="0" y="109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13" y="4"/>
                    </a:lnTo>
                    <a:lnTo>
                      <a:pt x="8" y="1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184640" y="2513160"/>
                <a:ext cx="47520" cy="69840"/>
              </a:xfrm>
              <a:custGeom>
                <a:avLst/>
                <a:gdLst/>
                <a:ahLst/>
                <a:rect l="l" t="t" r="r" b="b"/>
                <a:pathLst>
                  <a:path w="61" h="88">
                    <a:moveTo>
                      <a:pt x="5" y="88"/>
                    </a:moveTo>
                    <a:lnTo>
                      <a:pt x="0" y="84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61" y="3"/>
                    </a:lnTo>
                    <a:lnTo>
                      <a:pt x="5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229280" y="2479680"/>
                <a:ext cx="39600" cy="3636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4" y="45"/>
                    </a:moveTo>
                    <a:lnTo>
                      <a:pt x="0" y="42"/>
                    </a:lnTo>
                    <a:lnTo>
                      <a:pt x="46" y="2"/>
                    </a:lnTo>
                    <a:lnTo>
                      <a:pt x="48" y="0"/>
                    </a:lnTo>
                    <a:lnTo>
                      <a:pt x="50" y="8"/>
                    </a:lnTo>
                    <a:lnTo>
                      <a:pt x="4" y="4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67080" y="247968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8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11" y="6"/>
                    </a:lnTo>
                    <a:lnTo>
                      <a:pt x="7" y="8"/>
                    </a:lnTo>
                    <a:lnTo>
                      <a:pt x="2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72120" y="247824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4"/>
                    </a:lnTo>
                    <a:lnTo>
                      <a:pt x="6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273560" y="247500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275000" y="2471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6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275000" y="24620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12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8" y="8"/>
                    </a:lnTo>
                    <a:lnTo>
                      <a:pt x="8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278240" y="246204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4" y="8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19" y="8"/>
                    </a:lnTo>
                    <a:lnTo>
                      <a:pt x="4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292640" y="239544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69" h="90">
                    <a:moveTo>
                      <a:pt x="6" y="90"/>
                    </a:moveTo>
                    <a:lnTo>
                      <a:pt x="0" y="8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9" y="4"/>
                    </a:lnTo>
                    <a:lnTo>
                      <a:pt x="6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343400" y="238428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4" y="18"/>
                    </a:moveTo>
                    <a:lnTo>
                      <a:pt x="0" y="14"/>
                    </a:lnTo>
                    <a:lnTo>
                      <a:pt x="15" y="2"/>
                    </a:lnTo>
                    <a:lnTo>
                      <a:pt x="17" y="0"/>
                    </a:lnTo>
                    <a:lnTo>
                      <a:pt x="19" y="8"/>
                    </a:lnTo>
                    <a:lnTo>
                      <a:pt x="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357800" y="238428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0" h="10">
                    <a:moveTo>
                      <a:pt x="2" y="8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48" y="10"/>
                    </a:lnTo>
                    <a:lnTo>
                      <a:pt x="2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394160" y="238608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8"/>
                    </a:moveTo>
                    <a:lnTo>
                      <a:pt x="2" y="0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7" y="14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408560" y="2392200"/>
                <a:ext cx="100080" cy="54000"/>
              </a:xfrm>
              <a:custGeom>
                <a:avLst/>
                <a:gdLst/>
                <a:ahLst/>
                <a:rect l="l" t="t" r="r" b="b"/>
                <a:pathLst>
                  <a:path w="126" h="69">
                    <a:moveTo>
                      <a:pt x="0" y="6"/>
                    </a:moveTo>
                    <a:lnTo>
                      <a:pt x="4" y="0"/>
                    </a:lnTo>
                    <a:lnTo>
                      <a:pt x="126" y="63"/>
                    </a:lnTo>
                    <a:lnTo>
                      <a:pt x="126" y="63"/>
                    </a:lnTo>
                    <a:lnTo>
                      <a:pt x="122" y="69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05400" y="24415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6"/>
                    </a:moveTo>
                    <a:lnTo>
                      <a:pt x="4" y="0"/>
                    </a:lnTo>
                    <a:lnTo>
                      <a:pt x="10" y="4"/>
                    </a:lnTo>
                    <a:lnTo>
                      <a:pt x="8" y="12"/>
                    </a:lnTo>
                    <a:lnTo>
                      <a:pt x="6" y="1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511520" y="24447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11520" y="244800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511520" y="2449440"/>
                <a:ext cx="19080" cy="119160"/>
              </a:xfrm>
              <a:custGeom>
                <a:avLst/>
                <a:gdLst/>
                <a:ahLst/>
                <a:rect l="l" t="t" r="r" b="b"/>
                <a:pathLst>
                  <a:path w="25" h="150">
                    <a:moveTo>
                      <a:pt x="0" y="0"/>
                    </a:moveTo>
                    <a:lnTo>
                      <a:pt x="8" y="0"/>
                    </a:lnTo>
                    <a:lnTo>
                      <a:pt x="25" y="148"/>
                    </a:lnTo>
                    <a:lnTo>
                      <a:pt x="17" y="150"/>
                    </a:lnTo>
                    <a:lnTo>
                      <a:pt x="17" y="14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525920" y="2567160"/>
                <a:ext cx="14400" cy="41040"/>
              </a:xfrm>
              <a:custGeom>
                <a:avLst/>
                <a:gdLst/>
                <a:ahLst/>
                <a:rect l="l" t="t" r="r" b="b"/>
                <a:pathLst>
                  <a:path w="19" h="51">
                    <a:moveTo>
                      <a:pt x="0" y="2"/>
                    </a:moveTo>
                    <a:lnTo>
                      <a:pt x="8" y="0"/>
                    </a:lnTo>
                    <a:lnTo>
                      <a:pt x="19" y="49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533840" y="2606760"/>
                <a:ext cx="17640" cy="428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0" y="2"/>
                    </a:moveTo>
                    <a:lnTo>
                      <a:pt x="7" y="0"/>
                    </a:lnTo>
                    <a:lnTo>
                      <a:pt x="21" y="51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545000" y="264780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23" h="53">
                    <a:moveTo>
                      <a:pt x="0" y="2"/>
                    </a:moveTo>
                    <a:lnTo>
                      <a:pt x="8" y="0"/>
                    </a:lnTo>
                    <a:lnTo>
                      <a:pt x="23" y="51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57600" y="2687760"/>
                <a:ext cx="32040" cy="85680"/>
              </a:xfrm>
              <a:custGeom>
                <a:avLst/>
                <a:gdLst/>
                <a:ahLst/>
                <a:rect l="l" t="t" r="r" b="b"/>
                <a:pathLst>
                  <a:path w="40" h="109">
                    <a:moveTo>
                      <a:pt x="0" y="2"/>
                    </a:moveTo>
                    <a:lnTo>
                      <a:pt x="8" y="0"/>
                    </a:lnTo>
                    <a:lnTo>
                      <a:pt x="40" y="107"/>
                    </a:lnTo>
                    <a:lnTo>
                      <a:pt x="40" y="107"/>
                    </a:lnTo>
                    <a:lnTo>
                      <a:pt x="33" y="109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583160" y="2771640"/>
                <a:ext cx="31680" cy="88920"/>
              </a:xfrm>
              <a:custGeom>
                <a:avLst/>
                <a:gdLst/>
                <a:ahLst/>
                <a:rect l="l" t="t" r="r" b="b"/>
                <a:pathLst>
                  <a:path w="40" h="110">
                    <a:moveTo>
                      <a:pt x="0" y="2"/>
                    </a:moveTo>
                    <a:lnTo>
                      <a:pt x="7" y="0"/>
                    </a:lnTo>
                    <a:lnTo>
                      <a:pt x="40" y="108"/>
                    </a:lnTo>
                    <a:lnTo>
                      <a:pt x="40" y="108"/>
                    </a:lnTo>
                    <a:lnTo>
                      <a:pt x="32" y="110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608360" y="2859120"/>
                <a:ext cx="17640" cy="44280"/>
              </a:xfrm>
              <a:custGeom>
                <a:avLst/>
                <a:gdLst/>
                <a:ahLst/>
                <a:rect l="l" t="t" r="r" b="b"/>
                <a:pathLst>
                  <a:path w="23" h="57">
                    <a:moveTo>
                      <a:pt x="0" y="2"/>
                    </a:moveTo>
                    <a:lnTo>
                      <a:pt x="8" y="0"/>
                    </a:lnTo>
                    <a:lnTo>
                      <a:pt x="23" y="55"/>
                    </a:lnTo>
                    <a:lnTo>
                      <a:pt x="23" y="55"/>
                    </a:lnTo>
                    <a:lnTo>
                      <a:pt x="15" y="57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621320" y="2901960"/>
                <a:ext cx="15840" cy="46080"/>
              </a:xfrm>
              <a:custGeom>
                <a:avLst/>
                <a:gdLst/>
                <a:ahLst/>
                <a:rect l="l" t="t" r="r" b="b"/>
                <a:pathLst>
                  <a:path w="21" h="58">
                    <a:moveTo>
                      <a:pt x="0" y="2"/>
                    </a:moveTo>
                    <a:lnTo>
                      <a:pt x="8" y="0"/>
                    </a:lnTo>
                    <a:lnTo>
                      <a:pt x="21" y="56"/>
                    </a:lnTo>
                    <a:lnTo>
                      <a:pt x="21" y="56"/>
                    </a:lnTo>
                    <a:lnTo>
                      <a:pt x="14" y="58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630680" y="2946240"/>
                <a:ext cx="15840" cy="4464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2"/>
                    </a:moveTo>
                    <a:lnTo>
                      <a:pt x="7" y="0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1" y="57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640400" y="2990880"/>
                <a:ext cx="19080" cy="95400"/>
              </a:xfrm>
              <a:custGeom>
                <a:avLst/>
                <a:gdLst/>
                <a:ahLst/>
                <a:rect l="l" t="t" r="r" b="b"/>
                <a:pathLst>
                  <a:path w="23" h="118">
                    <a:moveTo>
                      <a:pt x="0" y="0"/>
                    </a:moveTo>
                    <a:lnTo>
                      <a:pt x="8" y="0"/>
                    </a:lnTo>
                    <a:lnTo>
                      <a:pt x="23" y="118"/>
                    </a:lnTo>
                    <a:lnTo>
                      <a:pt x="23" y="118"/>
                    </a:lnTo>
                    <a:lnTo>
                      <a:pt x="15" y="1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653000" y="3086280"/>
                <a:ext cx="11160" cy="50760"/>
              </a:xfrm>
              <a:custGeom>
                <a:avLst/>
                <a:gdLst/>
                <a:ahLst/>
                <a:rect l="l" t="t" r="r" b="b"/>
                <a:pathLst>
                  <a:path w="16" h="65">
                    <a:moveTo>
                      <a:pt x="0" y="0"/>
                    </a:moveTo>
                    <a:lnTo>
                      <a:pt x="8" y="0"/>
                    </a:lnTo>
                    <a:lnTo>
                      <a:pt x="16" y="63"/>
                    </a:lnTo>
                    <a:lnTo>
                      <a:pt x="10" y="65"/>
                    </a:lnTo>
                    <a:lnTo>
                      <a:pt x="8" y="6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659480" y="31352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2"/>
                    </a:moveTo>
                    <a:lnTo>
                      <a:pt x="6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4" y="8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662360" y="3138480"/>
                <a:ext cx="24120" cy="46080"/>
              </a:xfrm>
              <a:custGeom>
                <a:avLst/>
                <a:gdLst/>
                <a:ahLst/>
                <a:rect l="l" t="t" r="r" b="b"/>
                <a:pathLst>
                  <a:path w="28" h="57">
                    <a:moveTo>
                      <a:pt x="0" y="4"/>
                    </a:moveTo>
                    <a:lnTo>
                      <a:pt x="5" y="0"/>
                    </a:lnTo>
                    <a:lnTo>
                      <a:pt x="28" y="53"/>
                    </a:lnTo>
                    <a:lnTo>
                      <a:pt x="28" y="55"/>
                    </a:lnTo>
                    <a:lnTo>
                      <a:pt x="21" y="57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680000" y="3182760"/>
                <a:ext cx="14400" cy="33480"/>
              </a:xfrm>
              <a:custGeom>
                <a:avLst/>
                <a:gdLst/>
                <a:ahLst/>
                <a:rect l="l" t="t" r="r" b="b"/>
                <a:pathLst>
                  <a:path w="19" h="44">
                    <a:moveTo>
                      <a:pt x="0" y="2"/>
                    </a:moveTo>
                    <a:lnTo>
                      <a:pt x="7" y="0"/>
                    </a:lnTo>
                    <a:lnTo>
                      <a:pt x="19" y="42"/>
                    </a:lnTo>
                    <a:lnTo>
                      <a:pt x="19" y="42"/>
                    </a:lnTo>
                    <a:lnTo>
                      <a:pt x="11" y="44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89360" y="3214800"/>
                <a:ext cx="25560" cy="85680"/>
              </a:xfrm>
              <a:custGeom>
                <a:avLst/>
                <a:gdLst/>
                <a:ahLst/>
                <a:rect l="l" t="t" r="r" b="b"/>
                <a:pathLst>
                  <a:path w="33" h="106">
                    <a:moveTo>
                      <a:pt x="0" y="2"/>
                    </a:moveTo>
                    <a:lnTo>
                      <a:pt x="8" y="0"/>
                    </a:lnTo>
                    <a:lnTo>
                      <a:pt x="33" y="104"/>
                    </a:lnTo>
                    <a:lnTo>
                      <a:pt x="33" y="104"/>
                    </a:lnTo>
                    <a:lnTo>
                      <a:pt x="25" y="106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708440" y="3298680"/>
                <a:ext cx="25560" cy="98640"/>
              </a:xfrm>
              <a:custGeom>
                <a:avLst/>
                <a:gdLst/>
                <a:ahLst/>
                <a:rect l="l" t="t" r="r" b="b"/>
                <a:pathLst>
                  <a:path w="32" h="124">
                    <a:moveTo>
                      <a:pt x="0" y="2"/>
                    </a:moveTo>
                    <a:lnTo>
                      <a:pt x="8" y="0"/>
                    </a:lnTo>
                    <a:lnTo>
                      <a:pt x="32" y="122"/>
                    </a:lnTo>
                    <a:lnTo>
                      <a:pt x="25" y="124"/>
                    </a:lnTo>
                    <a:lnTo>
                      <a:pt x="25" y="124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727520" y="3395520"/>
                <a:ext cx="38160" cy="139680"/>
              </a:xfrm>
              <a:custGeom>
                <a:avLst/>
                <a:gdLst/>
                <a:ahLst/>
                <a:rect l="l" t="t" r="r" b="b"/>
                <a:pathLst>
                  <a:path w="48" h="178">
                    <a:moveTo>
                      <a:pt x="0" y="2"/>
                    </a:moveTo>
                    <a:lnTo>
                      <a:pt x="7" y="0"/>
                    </a:lnTo>
                    <a:lnTo>
                      <a:pt x="48" y="176"/>
                    </a:lnTo>
                    <a:lnTo>
                      <a:pt x="40" y="178"/>
                    </a:lnTo>
                    <a:lnTo>
                      <a:pt x="40" y="178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59200" y="353376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21" h="51">
                    <a:moveTo>
                      <a:pt x="0" y="2"/>
                    </a:moveTo>
                    <a:lnTo>
                      <a:pt x="8" y="0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13" y="51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770360" y="357336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"/>
                    </a:moveTo>
                    <a:lnTo>
                      <a:pt x="8" y="0"/>
                    </a:lnTo>
                    <a:lnTo>
                      <a:pt x="14" y="22"/>
                    </a:lnTo>
                    <a:lnTo>
                      <a:pt x="8" y="24"/>
                    </a:lnTo>
                    <a:lnTo>
                      <a:pt x="6" y="24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776840" y="359100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0" y="2"/>
                    </a:moveTo>
                    <a:lnTo>
                      <a:pt x="6" y="0"/>
                    </a:lnTo>
                    <a:lnTo>
                      <a:pt x="32" y="63"/>
                    </a:lnTo>
                    <a:lnTo>
                      <a:pt x="27" y="69"/>
                    </a:lnTo>
                    <a:lnTo>
                      <a:pt x="27" y="67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797360" y="363996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6"/>
                    </a:moveTo>
                    <a:lnTo>
                      <a:pt x="5" y="0"/>
                    </a:lnTo>
                    <a:lnTo>
                      <a:pt x="23" y="16"/>
                    </a:lnTo>
                    <a:lnTo>
                      <a:pt x="24" y="18"/>
                    </a:lnTo>
                    <a:lnTo>
                      <a:pt x="17" y="2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811760" y="3654360"/>
                <a:ext cx="7920" cy="3348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0" y="2"/>
                    </a:moveTo>
                    <a:lnTo>
                      <a:pt x="7" y="0"/>
                    </a:lnTo>
                    <a:lnTo>
                      <a:pt x="9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813200" y="3687840"/>
                <a:ext cx="9720" cy="20520"/>
              </a:xfrm>
              <a:custGeom>
                <a:avLst/>
                <a:gdLst/>
                <a:ahLst/>
                <a:rect l="l" t="t" r="r" b="b"/>
                <a:pathLst>
                  <a:path w="11" h="26">
                    <a:moveTo>
                      <a:pt x="0" y="0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4" y="2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816440" y="3708360"/>
                <a:ext cx="11160" cy="47520"/>
              </a:xfrm>
              <a:custGeom>
                <a:avLst/>
                <a:gdLst/>
                <a:ahLst/>
                <a:rect l="l" t="t" r="r" b="b"/>
                <a:pathLst>
                  <a:path w="15" h="61">
                    <a:moveTo>
                      <a:pt x="0" y="0"/>
                    </a:moveTo>
                    <a:lnTo>
                      <a:pt x="7" y="0"/>
                    </a:lnTo>
                    <a:lnTo>
                      <a:pt x="15" y="59"/>
                    </a:lnTo>
                    <a:lnTo>
                      <a:pt x="9" y="61"/>
                    </a:lnTo>
                    <a:lnTo>
                      <a:pt x="7" y="59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824360" y="3754440"/>
                <a:ext cx="133560" cy="212760"/>
              </a:xfrm>
              <a:custGeom>
                <a:avLst/>
                <a:gdLst/>
                <a:ahLst/>
                <a:rect l="l" t="t" r="r" b="b"/>
                <a:pathLst>
                  <a:path w="168" h="268">
                    <a:moveTo>
                      <a:pt x="0" y="2"/>
                    </a:moveTo>
                    <a:lnTo>
                      <a:pt x="6" y="0"/>
                    </a:lnTo>
                    <a:lnTo>
                      <a:pt x="168" y="264"/>
                    </a:lnTo>
                    <a:lnTo>
                      <a:pt x="168" y="266"/>
                    </a:lnTo>
                    <a:lnTo>
                      <a:pt x="160" y="268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951440" y="396540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"/>
                    </a:moveTo>
                    <a:lnTo>
                      <a:pt x="8" y="0"/>
                    </a:lnTo>
                    <a:lnTo>
                      <a:pt x="12" y="16"/>
                    </a:lnTo>
                    <a:lnTo>
                      <a:pt x="8" y="24"/>
                    </a:lnTo>
                    <a:lnTo>
                      <a:pt x="4" y="20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957920" y="39783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8"/>
                    </a:moveTo>
                    <a:lnTo>
                      <a:pt x="4" y="0"/>
                    </a:lnTo>
                    <a:lnTo>
                      <a:pt x="10" y="0"/>
                    </a:lnTo>
                    <a:lnTo>
                      <a:pt x="11" y="2"/>
                    </a:lnTo>
                    <a:lnTo>
                      <a:pt x="10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964040" y="3979800"/>
                <a:ext cx="165240" cy="71640"/>
              </a:xfrm>
              <a:custGeom>
                <a:avLst/>
                <a:gdLst/>
                <a:ahLst/>
                <a:rect l="l" t="t" r="r" b="b"/>
                <a:pathLst>
                  <a:path w="208" h="88">
                    <a:moveTo>
                      <a:pt x="0" y="6"/>
                    </a:moveTo>
                    <a:lnTo>
                      <a:pt x="1" y="0"/>
                    </a:lnTo>
                    <a:lnTo>
                      <a:pt x="208" y="83"/>
                    </a:lnTo>
                    <a:lnTo>
                      <a:pt x="206" y="88"/>
                    </a:lnTo>
                    <a:lnTo>
                      <a:pt x="206" y="88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127480" y="4046400"/>
                <a:ext cx="125640" cy="52560"/>
              </a:xfrm>
              <a:custGeom>
                <a:avLst/>
                <a:gdLst/>
                <a:ahLst/>
                <a:rect l="l" t="t" r="r" b="b"/>
                <a:pathLst>
                  <a:path w="156" h="67">
                    <a:moveTo>
                      <a:pt x="0" y="5"/>
                    </a:moveTo>
                    <a:lnTo>
                      <a:pt x="2" y="0"/>
                    </a:lnTo>
                    <a:lnTo>
                      <a:pt x="156" y="61"/>
                    </a:lnTo>
                    <a:lnTo>
                      <a:pt x="156" y="61"/>
                    </a:lnTo>
                    <a:lnTo>
                      <a:pt x="152" y="67"/>
                    </a:lnTo>
                    <a:lnTo>
                      <a:pt x="0" y="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249880" y="409428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0" y="6"/>
                    </a:moveTo>
                    <a:lnTo>
                      <a:pt x="4" y="0"/>
                    </a:lnTo>
                    <a:lnTo>
                      <a:pt x="31" y="11"/>
                    </a:lnTo>
                    <a:lnTo>
                      <a:pt x="33" y="13"/>
                    </a:lnTo>
                    <a:lnTo>
                      <a:pt x="25" y="15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68960" y="410544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2"/>
                    </a:moveTo>
                    <a:lnTo>
                      <a:pt x="8" y="0"/>
                    </a:lnTo>
                    <a:lnTo>
                      <a:pt x="8" y="6"/>
                    </a:lnTo>
                    <a:lnTo>
                      <a:pt x="4" y="12"/>
                    </a:lnTo>
                    <a:lnTo>
                      <a:pt x="0" y="8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72200" y="4110120"/>
                <a:ext cx="180720" cy="15840"/>
              </a:xfrm>
              <a:custGeom>
                <a:avLst/>
                <a:gdLst/>
                <a:ahLst/>
                <a:rect l="l" t="t" r="r" b="b"/>
                <a:pathLst>
                  <a:path w="227" h="20">
                    <a:moveTo>
                      <a:pt x="0" y="6"/>
                    </a:moveTo>
                    <a:lnTo>
                      <a:pt x="4" y="0"/>
                    </a:lnTo>
                    <a:lnTo>
                      <a:pt x="225" y="12"/>
                    </a:lnTo>
                    <a:lnTo>
                      <a:pt x="227" y="12"/>
                    </a:lnTo>
                    <a:lnTo>
                      <a:pt x="225" y="2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451480" y="41194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8"/>
                    </a:moveTo>
                    <a:lnTo>
                      <a:pt x="2" y="0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0" y="12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457960" y="4124160"/>
                <a:ext cx="85680" cy="44640"/>
              </a:xfrm>
              <a:custGeom>
                <a:avLst/>
                <a:gdLst/>
                <a:ahLst/>
                <a:rect l="l" t="t" r="r" b="b"/>
                <a:pathLst>
                  <a:path w="107" h="55">
                    <a:moveTo>
                      <a:pt x="0" y="6"/>
                    </a:moveTo>
                    <a:lnTo>
                      <a:pt x="4" y="0"/>
                    </a:lnTo>
                    <a:lnTo>
                      <a:pt x="107" y="47"/>
                    </a:lnTo>
                    <a:lnTo>
                      <a:pt x="105" y="55"/>
                    </a:lnTo>
                    <a:lnTo>
                      <a:pt x="103" y="55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541840" y="416232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0" y="8"/>
                    </a:moveTo>
                    <a:lnTo>
                      <a:pt x="2" y="0"/>
                    </a:lnTo>
                    <a:lnTo>
                      <a:pt x="13" y="0"/>
                    </a:lnTo>
                    <a:lnTo>
                      <a:pt x="19" y="6"/>
                    </a:lnTo>
                    <a:lnTo>
                      <a:pt x="15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553000" y="4143240"/>
                <a:ext cx="11160" cy="241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6" y="29"/>
                    </a:moveTo>
                    <a:lnTo>
                      <a:pt x="0" y="23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5" y="4"/>
                    </a:lnTo>
                    <a:lnTo>
                      <a:pt x="6" y="2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559480" y="41274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5" y="24"/>
                    </a:moveTo>
                    <a:lnTo>
                      <a:pt x="0" y="20"/>
                    </a:lnTo>
                    <a:lnTo>
                      <a:pt x="32" y="2"/>
                    </a:lnTo>
                    <a:lnTo>
                      <a:pt x="34" y="0"/>
                    </a:lnTo>
                    <a:lnTo>
                      <a:pt x="36" y="8"/>
                    </a:lnTo>
                    <a:lnTo>
                      <a:pt x="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587920" y="412596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2" y="10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29" y="8"/>
                    </a:lnTo>
                    <a:lnTo>
                      <a:pt x="2" y="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610240" y="412596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8"/>
                    </a:moveTo>
                    <a:lnTo>
                      <a:pt x="2" y="0"/>
                    </a:lnTo>
                    <a:lnTo>
                      <a:pt x="152" y="41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30840" y="415908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27" h="12">
                    <a:moveTo>
                      <a:pt x="0" y="8"/>
                    </a:moveTo>
                    <a:lnTo>
                      <a:pt x="0" y="0"/>
                    </a:lnTo>
                    <a:lnTo>
                      <a:pt x="27" y="4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753160" y="4141800"/>
                <a:ext cx="168120" cy="27000"/>
              </a:xfrm>
              <a:custGeom>
                <a:avLst/>
                <a:gdLst/>
                <a:ahLst/>
                <a:rect l="l" t="t" r="r" b="b"/>
                <a:pathLst>
                  <a:path w="214" h="33">
                    <a:moveTo>
                      <a:pt x="0" y="33"/>
                    </a:moveTo>
                    <a:lnTo>
                      <a:pt x="0" y="25"/>
                    </a:lnTo>
                    <a:lnTo>
                      <a:pt x="214" y="0"/>
                    </a:lnTo>
                    <a:lnTo>
                      <a:pt x="214" y="8"/>
                    </a:lnTo>
                    <a:lnTo>
                      <a:pt x="214" y="8"/>
                    </a:lnTo>
                    <a:lnTo>
                      <a:pt x="0" y="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921280" y="4133880"/>
                <a:ext cx="41400" cy="14400"/>
              </a:xfrm>
              <a:custGeom>
                <a:avLst/>
                <a:gdLst/>
                <a:ahLst/>
                <a:rect l="l" t="t" r="r" b="b"/>
                <a:pathLst>
                  <a:path w="51" h="18">
                    <a:moveTo>
                      <a:pt x="0" y="18"/>
                    </a:moveTo>
                    <a:lnTo>
                      <a:pt x="0" y="10"/>
                    </a:lnTo>
                    <a:lnTo>
                      <a:pt x="49" y="0"/>
                    </a:lnTo>
                    <a:lnTo>
                      <a:pt x="51" y="8"/>
                    </a:lnTo>
                    <a:lnTo>
                      <a:pt x="49" y="8"/>
                    </a:lnTo>
                    <a:lnTo>
                      <a:pt x="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961240" y="4116240"/>
                <a:ext cx="75960" cy="241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2" y="30"/>
                    </a:moveTo>
                    <a:lnTo>
                      <a:pt x="0" y="22"/>
                    </a:lnTo>
                    <a:lnTo>
                      <a:pt x="94" y="0"/>
                    </a:lnTo>
                    <a:lnTo>
                      <a:pt x="96" y="8"/>
                    </a:lnTo>
                    <a:lnTo>
                      <a:pt x="96" y="8"/>
                    </a:lnTo>
                    <a:lnTo>
                      <a:pt x="2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035760" y="4105440"/>
                <a:ext cx="48960" cy="1728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2" y="22"/>
                    </a:moveTo>
                    <a:lnTo>
                      <a:pt x="0" y="14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1" y="8"/>
                    </a:lnTo>
                    <a:lnTo>
                      <a:pt x="2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083280" y="40924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2" y="23"/>
                    </a:moveTo>
                    <a:lnTo>
                      <a:pt x="0" y="15"/>
                    </a:lnTo>
                    <a:lnTo>
                      <a:pt x="69" y="0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2" y="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137280" y="40924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2" y="8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2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138720" y="4071960"/>
                <a:ext cx="20880" cy="2376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4" y="32"/>
                    </a:moveTo>
                    <a:lnTo>
                      <a:pt x="0" y="28"/>
                    </a:lnTo>
                    <a:lnTo>
                      <a:pt x="21" y="0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154560" y="40654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5" y="12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5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159600" y="405288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6" y="20"/>
                    </a:moveTo>
                    <a:lnTo>
                      <a:pt x="0" y="16"/>
                    </a:lnTo>
                    <a:lnTo>
                      <a:pt x="12" y="0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6" y="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168960" y="3963960"/>
                <a:ext cx="38160" cy="92160"/>
              </a:xfrm>
              <a:custGeom>
                <a:avLst/>
                <a:gdLst/>
                <a:ahLst/>
                <a:rect l="l" t="t" r="r" b="b"/>
                <a:pathLst>
                  <a:path w="48" h="114">
                    <a:moveTo>
                      <a:pt x="6" y="114"/>
                    </a:moveTo>
                    <a:lnTo>
                      <a:pt x="0" y="110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48" y="4"/>
                    </a:lnTo>
                    <a:lnTo>
                      <a:pt x="6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202440" y="3800520"/>
                <a:ext cx="82440" cy="166680"/>
              </a:xfrm>
              <a:custGeom>
                <a:avLst/>
                <a:gdLst/>
                <a:ahLst/>
                <a:rect l="l" t="t" r="r" b="b"/>
                <a:pathLst>
                  <a:path w="105" h="211">
                    <a:moveTo>
                      <a:pt x="6" y="211"/>
                    </a:moveTo>
                    <a:lnTo>
                      <a:pt x="0" y="20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105" y="4"/>
                    </a:lnTo>
                    <a:lnTo>
                      <a:pt x="6" y="21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281640" y="3686040"/>
                <a:ext cx="66600" cy="117720"/>
              </a:xfrm>
              <a:custGeom>
                <a:avLst/>
                <a:gdLst/>
                <a:ahLst/>
                <a:rect l="l" t="t" r="r" b="b"/>
                <a:pathLst>
                  <a:path w="84" h="148">
                    <a:moveTo>
                      <a:pt x="6" y="148"/>
                    </a:moveTo>
                    <a:lnTo>
                      <a:pt x="0" y="144"/>
                    </a:lnTo>
                    <a:lnTo>
                      <a:pt x="78" y="0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6" y="1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343560" y="3668760"/>
                <a:ext cx="7920" cy="2052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6" y="26"/>
                    </a:moveTo>
                    <a:lnTo>
                      <a:pt x="0" y="2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6" y="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348240" y="366552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6" y="8"/>
                    </a:move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6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351480" y="364176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6" y="33"/>
                    </a:moveTo>
                    <a:lnTo>
                      <a:pt x="0" y="29"/>
                    </a:lnTo>
                    <a:lnTo>
                      <a:pt x="21" y="0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6" y="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369120" y="3552840"/>
                <a:ext cx="31680" cy="92160"/>
              </a:xfrm>
              <a:custGeom>
                <a:avLst/>
                <a:gdLst/>
                <a:ahLst/>
                <a:rect l="l" t="t" r="r" b="b"/>
                <a:pathLst>
                  <a:path w="40" h="116">
                    <a:moveTo>
                      <a:pt x="6" y="116"/>
                    </a:moveTo>
                    <a:lnTo>
                      <a:pt x="0" y="112"/>
                    </a:lnTo>
                    <a:lnTo>
                      <a:pt x="32" y="3"/>
                    </a:lnTo>
                    <a:lnTo>
                      <a:pt x="36" y="0"/>
                    </a:lnTo>
                    <a:lnTo>
                      <a:pt x="40" y="7"/>
                    </a:lnTo>
                    <a:lnTo>
                      <a:pt x="6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397560" y="3552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7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4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400800" y="35481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6" y="9"/>
                    </a:moveTo>
                    <a:lnTo>
                      <a:pt x="0" y="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6" y="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404040" y="3543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10"/>
                    </a:moveTo>
                    <a:lnTo>
                      <a:pt x="0" y="6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5" y="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407280" y="3475080"/>
                <a:ext cx="36360" cy="71280"/>
              </a:xfrm>
              <a:custGeom>
                <a:avLst/>
                <a:gdLst/>
                <a:ahLst/>
                <a:rect l="l" t="t" r="r" b="b"/>
                <a:pathLst>
                  <a:path w="45" h="91">
                    <a:moveTo>
                      <a:pt x="5" y="91"/>
                    </a:moveTo>
                    <a:lnTo>
                      <a:pt x="0" y="87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5" y="4"/>
                    </a:lnTo>
                    <a:lnTo>
                      <a:pt x="5" y="9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438960" y="3392640"/>
                <a:ext cx="65160" cy="85680"/>
              </a:xfrm>
              <a:custGeom>
                <a:avLst/>
                <a:gdLst/>
                <a:ahLst/>
                <a:rect l="l" t="t" r="r" b="b"/>
                <a:pathLst>
                  <a:path w="82" h="109">
                    <a:moveTo>
                      <a:pt x="5" y="109"/>
                    </a:moveTo>
                    <a:lnTo>
                      <a:pt x="0" y="105"/>
                    </a:lnTo>
                    <a:lnTo>
                      <a:pt x="78" y="2"/>
                    </a:lnTo>
                    <a:lnTo>
                      <a:pt x="80" y="0"/>
                    </a:lnTo>
                    <a:lnTo>
                      <a:pt x="82" y="8"/>
                    </a:lnTo>
                    <a:lnTo>
                      <a:pt x="5" y="1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02320" y="3392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8"/>
                    </a:lnTo>
                    <a:lnTo>
                      <a:pt x="2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508800" y="339264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513480" y="339264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2" y="8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2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515280" y="339084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4" y="6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516720" y="338760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7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6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516720" y="33847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4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16720" y="337500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12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518160" y="337500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519960" y="337500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6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5" y="4"/>
                    </a:lnTo>
                    <a:lnTo>
                      <a:pt x="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21400" y="33717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3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23200" y="337032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523200" y="3348000"/>
                <a:ext cx="9360" cy="22320"/>
              </a:xfrm>
              <a:custGeom>
                <a:avLst/>
                <a:gdLst/>
                <a:ahLst/>
                <a:rect l="l" t="t" r="r" b="b"/>
                <a:pathLst>
                  <a:path w="11" h="28">
                    <a:moveTo>
                      <a:pt x="7" y="28"/>
                    </a:moveTo>
                    <a:lnTo>
                      <a:pt x="0" y="28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524640" y="33321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10" y="19"/>
                    </a:moveTo>
                    <a:lnTo>
                      <a:pt x="2" y="1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519960" y="3281400"/>
                <a:ext cx="11160" cy="50760"/>
              </a:xfrm>
              <a:custGeom>
                <a:avLst/>
                <a:gdLst/>
                <a:ahLst/>
                <a:rect l="l" t="t" r="r" b="b"/>
                <a:pathLst>
                  <a:path w="13" h="66">
                    <a:moveTo>
                      <a:pt x="13" y="66"/>
                    </a:moveTo>
                    <a:lnTo>
                      <a:pt x="5" y="6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3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519960" y="3184560"/>
                <a:ext cx="19080" cy="96840"/>
              </a:xfrm>
              <a:custGeom>
                <a:avLst/>
                <a:gdLst/>
                <a:ahLst/>
                <a:rect l="l" t="t" r="r" b="b"/>
                <a:pathLst>
                  <a:path w="23" h="122">
                    <a:moveTo>
                      <a:pt x="7" y="122"/>
                    </a:moveTo>
                    <a:lnTo>
                      <a:pt x="0" y="122"/>
                    </a:lnTo>
                    <a:lnTo>
                      <a:pt x="15" y="4"/>
                    </a:lnTo>
                    <a:lnTo>
                      <a:pt x="19" y="0"/>
                    </a:lnTo>
                    <a:lnTo>
                      <a:pt x="23" y="6"/>
                    </a:lnTo>
                    <a:lnTo>
                      <a:pt x="7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535800" y="31813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4" y="10"/>
                    </a:moveTo>
                    <a:lnTo>
                      <a:pt x="0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3" y="8"/>
                    </a:lnTo>
                    <a:lnTo>
                      <a:pt x="4" y="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545160" y="3181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2" y="8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2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550200" y="314640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31" h="47">
                    <a:moveTo>
                      <a:pt x="6" y="47"/>
                    </a:moveTo>
                    <a:lnTo>
                      <a:pt x="0" y="43"/>
                    </a:lnTo>
                    <a:lnTo>
                      <a:pt x="27" y="2"/>
                    </a:lnTo>
                    <a:lnTo>
                      <a:pt x="29" y="0"/>
                    </a:lnTo>
                    <a:lnTo>
                      <a:pt x="31" y="8"/>
                    </a:lnTo>
                    <a:lnTo>
                      <a:pt x="6" y="4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572160" y="31464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2" y="8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2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576840" y="314496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4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580080" y="314316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4" y="6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80080" y="313992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6"/>
                    </a:moveTo>
                    <a:lnTo>
                      <a:pt x="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578640" y="312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578640" y="312120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8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8" y="4"/>
                    </a:lnTo>
                    <a:lnTo>
                      <a:pt x="8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580080" y="311148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6" y="15"/>
                    </a:moveTo>
                    <a:lnTo>
                      <a:pt x="0" y="11"/>
                    </a:lnTo>
                    <a:lnTo>
                      <a:pt x="23" y="0"/>
                    </a:lnTo>
                    <a:lnTo>
                      <a:pt x="27" y="4"/>
                    </a:lnTo>
                    <a:lnTo>
                      <a:pt x="27" y="6"/>
                    </a:lnTo>
                    <a:lnTo>
                      <a:pt x="6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597720" y="310680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0"/>
                    </a:moveTo>
                    <a:lnTo>
                      <a:pt x="0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8"/>
                    </a:lnTo>
                    <a:lnTo>
                      <a:pt x="4" y="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602400" y="31050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2" y="10"/>
                    </a:moveTo>
                    <a:lnTo>
                      <a:pt x="0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8"/>
                    </a:lnTo>
                    <a:lnTo>
                      <a:pt x="2" y="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608880" y="3103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10"/>
                    </a:moveTo>
                    <a:lnTo>
                      <a:pt x="0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8"/>
                    </a:lnTo>
                    <a:lnTo>
                      <a:pt x="0" y="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616800" y="3103560"/>
                <a:ext cx="55440" cy="12600"/>
              </a:xfrm>
              <a:custGeom>
                <a:avLst/>
                <a:gdLst/>
                <a:ahLst/>
                <a:rect l="l" t="t" r="r" b="b"/>
                <a:pathLst>
                  <a:path w="69" h="16">
                    <a:moveTo>
                      <a:pt x="0" y="8"/>
                    </a:moveTo>
                    <a:lnTo>
                      <a:pt x="0" y="0"/>
                    </a:lnTo>
                    <a:lnTo>
                      <a:pt x="67" y="8"/>
                    </a:lnTo>
                    <a:lnTo>
                      <a:pt x="69" y="10"/>
                    </a:lnTo>
                    <a:lnTo>
                      <a:pt x="65" y="16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669000" y="311148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72" h="59">
                    <a:moveTo>
                      <a:pt x="0" y="6"/>
                    </a:moveTo>
                    <a:lnTo>
                      <a:pt x="4" y="0"/>
                    </a:lnTo>
                    <a:lnTo>
                      <a:pt x="70" y="55"/>
                    </a:lnTo>
                    <a:lnTo>
                      <a:pt x="72" y="57"/>
                    </a:lnTo>
                    <a:lnTo>
                      <a:pt x="65" y="59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719760" y="31575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2"/>
                    </a:moveTo>
                    <a:lnTo>
                      <a:pt x="7" y="0"/>
                    </a:lnTo>
                    <a:lnTo>
                      <a:pt x="9" y="12"/>
                    </a:lnTo>
                    <a:lnTo>
                      <a:pt x="5" y="19"/>
                    </a:lnTo>
                    <a:lnTo>
                      <a:pt x="2" y="16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724800" y="316692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0" y="7"/>
                    </a:moveTo>
                    <a:lnTo>
                      <a:pt x="4" y="0"/>
                    </a:lnTo>
                    <a:lnTo>
                      <a:pt x="14" y="0"/>
                    </a:lnTo>
                    <a:lnTo>
                      <a:pt x="19" y="6"/>
                    </a:lnTo>
                    <a:lnTo>
                      <a:pt x="16" y="7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735600" y="315612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5" y="20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9" y="2"/>
                    </a:lnTo>
                    <a:lnTo>
                      <a:pt x="5" y="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37400" y="3149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10"/>
                    </a:moveTo>
                    <a:lnTo>
                      <a:pt x="0" y="8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7" y="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740640" y="314640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6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743880" y="31431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8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4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746760" y="31431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8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2" y="2"/>
                    </a:lnTo>
                    <a:lnTo>
                      <a:pt x="13" y="4"/>
                    </a:lnTo>
                    <a:lnTo>
                      <a:pt x="12" y="10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754680" y="314640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3" h="28">
                    <a:moveTo>
                      <a:pt x="0" y="6"/>
                    </a:moveTo>
                    <a:lnTo>
                      <a:pt x="1" y="0"/>
                    </a:lnTo>
                    <a:lnTo>
                      <a:pt x="42" y="24"/>
                    </a:lnTo>
                    <a:lnTo>
                      <a:pt x="43" y="26"/>
                    </a:lnTo>
                    <a:lnTo>
                      <a:pt x="36" y="28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783480" y="3166920"/>
                <a:ext cx="6120" cy="1908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0" y="2"/>
                    </a:moveTo>
                    <a:lnTo>
                      <a:pt x="7" y="0"/>
                    </a:lnTo>
                    <a:lnTo>
                      <a:pt x="7" y="17"/>
                    </a:lnTo>
                    <a:lnTo>
                      <a:pt x="2" y="23"/>
                    </a:lnTo>
                    <a:lnTo>
                      <a:pt x="0" y="19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784920" y="3181320"/>
                <a:ext cx="44640" cy="31680"/>
              </a:xfrm>
              <a:custGeom>
                <a:avLst/>
                <a:gdLst/>
                <a:ahLst/>
                <a:rect l="l" t="t" r="r" b="b"/>
                <a:pathLst>
                  <a:path w="55" h="42">
                    <a:moveTo>
                      <a:pt x="0" y="6"/>
                    </a:moveTo>
                    <a:lnTo>
                      <a:pt x="5" y="0"/>
                    </a:lnTo>
                    <a:lnTo>
                      <a:pt x="53" y="38"/>
                    </a:lnTo>
                    <a:lnTo>
                      <a:pt x="55" y="40"/>
                    </a:lnTo>
                    <a:lnTo>
                      <a:pt x="49" y="42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824520" y="321156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2"/>
                    </a:moveTo>
                    <a:lnTo>
                      <a:pt x="6" y="0"/>
                    </a:lnTo>
                    <a:lnTo>
                      <a:pt x="10" y="10"/>
                    </a:lnTo>
                    <a:lnTo>
                      <a:pt x="10" y="12"/>
                    </a:lnTo>
                    <a:lnTo>
                      <a:pt x="2" y="10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770520" y="3219480"/>
                <a:ext cx="61920" cy="209520"/>
              </a:xfrm>
              <a:custGeom>
                <a:avLst/>
                <a:gdLst/>
                <a:ahLst/>
                <a:rect l="l" t="t" r="r" b="b"/>
                <a:pathLst>
                  <a:path w="78" h="264">
                    <a:moveTo>
                      <a:pt x="70" y="0"/>
                    </a:moveTo>
                    <a:lnTo>
                      <a:pt x="78" y="2"/>
                    </a:lnTo>
                    <a:lnTo>
                      <a:pt x="5" y="262"/>
                    </a:lnTo>
                    <a:lnTo>
                      <a:pt x="3" y="264"/>
                    </a:lnTo>
                    <a:lnTo>
                      <a:pt x="0" y="258"/>
                    </a:lnTo>
                    <a:lnTo>
                      <a:pt x="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64400" y="342432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8" y="0"/>
                    </a:moveTo>
                    <a:lnTo>
                      <a:pt x="11" y="6"/>
                    </a:lnTo>
                    <a:lnTo>
                      <a:pt x="4" y="8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53240" y="342576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3" y="0"/>
                    </a:moveTo>
                    <a:lnTo>
                      <a:pt x="17" y="6"/>
                    </a:lnTo>
                    <a:lnTo>
                      <a:pt x="3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30920" y="343224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29" y="0"/>
                    </a:moveTo>
                    <a:lnTo>
                      <a:pt x="32" y="4"/>
                    </a:lnTo>
                    <a:lnTo>
                      <a:pt x="8" y="55"/>
                    </a:lnTo>
                    <a:lnTo>
                      <a:pt x="0" y="53"/>
                    </a:lnTo>
                    <a:lnTo>
                      <a:pt x="2" y="51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707160" y="3475080"/>
                <a:ext cx="30240" cy="109440"/>
              </a:xfrm>
              <a:custGeom>
                <a:avLst/>
                <a:gdLst/>
                <a:ahLst/>
                <a:rect l="l" t="t" r="r" b="b"/>
                <a:pathLst>
                  <a:path w="38" h="138">
                    <a:moveTo>
                      <a:pt x="30" y="0"/>
                    </a:moveTo>
                    <a:lnTo>
                      <a:pt x="38" y="2"/>
                    </a:lnTo>
                    <a:lnTo>
                      <a:pt x="7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692760" y="3584520"/>
                <a:ext cx="20880" cy="120600"/>
              </a:xfrm>
              <a:custGeom>
                <a:avLst/>
                <a:gdLst/>
                <a:ahLst/>
                <a:rect l="l" t="t" r="r" b="b"/>
                <a:pathLst>
                  <a:path w="25" h="152">
                    <a:moveTo>
                      <a:pt x="18" y="0"/>
                    </a:moveTo>
                    <a:lnTo>
                      <a:pt x="25" y="0"/>
                    </a:lnTo>
                    <a:lnTo>
                      <a:pt x="8" y="152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689880" y="370512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11" h="85">
                    <a:moveTo>
                      <a:pt x="3" y="0"/>
                    </a:moveTo>
                    <a:lnTo>
                      <a:pt x="11" y="0"/>
                    </a:lnTo>
                    <a:lnTo>
                      <a:pt x="7" y="85"/>
                    </a:lnTo>
                    <a:lnTo>
                      <a:pt x="7" y="85"/>
                    </a:lnTo>
                    <a:lnTo>
                      <a:pt x="0" y="85"/>
                    </a:lnTo>
                    <a:lnTo>
                      <a:pt x="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688080" y="37720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2" y="0"/>
                    </a:moveTo>
                    <a:lnTo>
                      <a:pt x="9" y="0"/>
                    </a:lnTo>
                    <a:lnTo>
                      <a:pt x="7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688080" y="378000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0"/>
                    </a:lnTo>
                    <a:lnTo>
                      <a:pt x="7" y="8"/>
                    </a:lnTo>
                    <a:lnTo>
                      <a:pt x="3" y="12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688080" y="37828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0"/>
                    </a:moveTo>
                    <a:lnTo>
                      <a:pt x="3" y="4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684840" y="37828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4" y="0"/>
                    </a:moveTo>
                    <a:lnTo>
                      <a:pt x="4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673680" y="378288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0"/>
                    </a:moveTo>
                    <a:lnTo>
                      <a:pt x="15" y="8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613560" y="3786120"/>
                <a:ext cx="63360" cy="30240"/>
              </a:xfrm>
              <a:custGeom>
                <a:avLst/>
                <a:gdLst/>
                <a:ahLst/>
                <a:rect l="l" t="t" r="r" b="b"/>
                <a:pathLst>
                  <a:path w="80" h="38">
                    <a:moveTo>
                      <a:pt x="77" y="0"/>
                    </a:moveTo>
                    <a:lnTo>
                      <a:pt x="80" y="6"/>
                    </a:lnTo>
                    <a:lnTo>
                      <a:pt x="4" y="3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611760" y="381312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0"/>
                    </a:moveTo>
                    <a:lnTo>
                      <a:pt x="6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607080" y="38163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5" y="0"/>
                    </a:moveTo>
                    <a:lnTo>
                      <a:pt x="9" y="6"/>
                    </a:lnTo>
                    <a:lnTo>
                      <a:pt x="3" y="8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602400" y="38178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6" y="0"/>
                    </a:moveTo>
                    <a:lnTo>
                      <a:pt x="9" y="6"/>
                    </a:lnTo>
                    <a:lnTo>
                      <a:pt x="4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591240" y="382104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4" y="0"/>
                    </a:moveTo>
                    <a:lnTo>
                      <a:pt x="18" y="6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580080" y="382896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5" y="0"/>
                    </a:moveTo>
                    <a:lnTo>
                      <a:pt x="19" y="4"/>
                    </a:lnTo>
                    <a:lnTo>
                      <a:pt x="6" y="2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575400" y="384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6" y="0"/>
                    </a:moveTo>
                    <a:lnTo>
                      <a:pt x="12" y="4"/>
                    </a:lnTo>
                    <a:lnTo>
                      <a:pt x="6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546960" y="3854520"/>
                <a:ext cx="33120" cy="60120"/>
              </a:xfrm>
              <a:custGeom>
                <a:avLst/>
                <a:gdLst/>
                <a:ahLst/>
                <a:rect l="l" t="t" r="r" b="b"/>
                <a:pathLst>
                  <a:path w="42" h="77">
                    <a:moveTo>
                      <a:pt x="36" y="0"/>
                    </a:moveTo>
                    <a:lnTo>
                      <a:pt x="42" y="4"/>
                    </a:lnTo>
                    <a:lnTo>
                      <a:pt x="8" y="77"/>
                    </a:lnTo>
                    <a:lnTo>
                      <a:pt x="0" y="75"/>
                    </a:lnTo>
                    <a:lnTo>
                      <a:pt x="2" y="73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496200" y="3913200"/>
                <a:ext cx="55440" cy="173160"/>
              </a:xfrm>
              <a:custGeom>
                <a:avLst/>
                <a:gdLst/>
                <a:ahLst/>
                <a:rect l="l" t="t" r="r" b="b"/>
                <a:pathLst>
                  <a:path w="71" h="219">
                    <a:moveTo>
                      <a:pt x="63" y="0"/>
                    </a:moveTo>
                    <a:lnTo>
                      <a:pt x="71" y="2"/>
                    </a:lnTo>
                    <a:lnTo>
                      <a:pt x="8" y="219"/>
                    </a:lnTo>
                    <a:lnTo>
                      <a:pt x="0" y="217"/>
                    </a:lnTo>
                    <a:lnTo>
                      <a:pt x="0" y="217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483240" y="4084560"/>
                <a:ext cx="19080" cy="71640"/>
              </a:xfrm>
              <a:custGeom>
                <a:avLst/>
                <a:gdLst/>
                <a:ahLst/>
                <a:rect l="l" t="t" r="r" b="b"/>
                <a:pathLst>
                  <a:path w="23" h="88">
                    <a:moveTo>
                      <a:pt x="15" y="0"/>
                    </a:moveTo>
                    <a:lnTo>
                      <a:pt x="23" y="2"/>
                    </a:lnTo>
                    <a:lnTo>
                      <a:pt x="8" y="88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1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3511440" y="2249640"/>
              <a:ext cx="2994120" cy="3813120"/>
              <a:chOff x="3511440" y="2249640"/>
              <a:chExt cx="2994120" cy="3813120"/>
            </a:xfrm>
          </p:grpSpPr>
          <p:sp>
            <p:nvSpPr>
              <p:cNvPr id="297" name=""/>
              <p:cNvSpPr/>
              <p:nvPr/>
            </p:nvSpPr>
            <p:spPr>
              <a:xfrm>
                <a:off x="6483240" y="415620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0"/>
                    </a:moveTo>
                    <a:lnTo>
                      <a:pt x="8" y="0"/>
                    </a:lnTo>
                    <a:lnTo>
                      <a:pt x="8" y="6"/>
                    </a:lnTo>
                    <a:lnTo>
                      <a:pt x="6" y="10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483240" y="415908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8" y="6"/>
                    </a:lnTo>
                    <a:lnTo>
                      <a:pt x="4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448320" y="4160880"/>
                <a:ext cx="36720" cy="5076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44" y="0"/>
                    </a:moveTo>
                    <a:lnTo>
                      <a:pt x="48" y="6"/>
                    </a:lnTo>
                    <a:lnTo>
                      <a:pt x="6" y="65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4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424560" y="4208400"/>
                <a:ext cx="27000" cy="57240"/>
              </a:xfrm>
              <a:custGeom>
                <a:avLst/>
                <a:gdLst/>
                <a:ahLst/>
                <a:rect l="l" t="t" r="r" b="b"/>
                <a:pathLst>
                  <a:path w="35" h="70">
                    <a:moveTo>
                      <a:pt x="29" y="0"/>
                    </a:moveTo>
                    <a:lnTo>
                      <a:pt x="35" y="3"/>
                    </a:lnTo>
                    <a:lnTo>
                      <a:pt x="6" y="70"/>
                    </a:lnTo>
                    <a:lnTo>
                      <a:pt x="6" y="70"/>
                    </a:lnTo>
                    <a:lnTo>
                      <a:pt x="0" y="67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416640" y="42624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1" y="0"/>
                    </a:moveTo>
                    <a:lnTo>
                      <a:pt x="17" y="3"/>
                    </a:lnTo>
                    <a:lnTo>
                      <a:pt x="6" y="19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383160" y="427500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48" h="67">
                    <a:moveTo>
                      <a:pt x="42" y="0"/>
                    </a:moveTo>
                    <a:lnTo>
                      <a:pt x="48" y="4"/>
                    </a:lnTo>
                    <a:lnTo>
                      <a:pt x="6" y="67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4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378480" y="4324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6" y="0"/>
                    </a:moveTo>
                    <a:lnTo>
                      <a:pt x="12" y="4"/>
                    </a:lnTo>
                    <a:lnTo>
                      <a:pt x="8" y="10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377040" y="433080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0"/>
                    </a:moveTo>
                    <a:lnTo>
                      <a:pt x="10" y="2"/>
                    </a:lnTo>
                    <a:lnTo>
                      <a:pt x="8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375240" y="4335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1" y="0"/>
                    </a:moveTo>
                    <a:lnTo>
                      <a:pt x="9" y="2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373800" y="43434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2" y="0"/>
                    </a:moveTo>
                    <a:lnTo>
                      <a:pt x="9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373800" y="4359240"/>
                <a:ext cx="12600" cy="5868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0" y="0"/>
                    </a:moveTo>
                    <a:lnTo>
                      <a:pt x="7" y="0"/>
                    </a:lnTo>
                    <a:lnTo>
                      <a:pt x="17" y="73"/>
                    </a:lnTo>
                    <a:lnTo>
                      <a:pt x="9" y="75"/>
                    </a:lnTo>
                    <a:lnTo>
                      <a:pt x="9" y="7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381720" y="4416480"/>
                <a:ext cx="42840" cy="133200"/>
              </a:xfrm>
              <a:custGeom>
                <a:avLst/>
                <a:gdLst/>
                <a:ahLst/>
                <a:rect l="l" t="t" r="r" b="b"/>
                <a:pathLst>
                  <a:path w="55" h="167">
                    <a:moveTo>
                      <a:pt x="0" y="2"/>
                    </a:moveTo>
                    <a:lnTo>
                      <a:pt x="8" y="0"/>
                    </a:lnTo>
                    <a:lnTo>
                      <a:pt x="55" y="165"/>
                    </a:lnTo>
                    <a:lnTo>
                      <a:pt x="50" y="167"/>
                    </a:lnTo>
                    <a:lnTo>
                      <a:pt x="48" y="167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419880" y="454824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30" h="63">
                    <a:moveTo>
                      <a:pt x="0" y="2"/>
                    </a:moveTo>
                    <a:lnTo>
                      <a:pt x="5" y="0"/>
                    </a:lnTo>
                    <a:lnTo>
                      <a:pt x="30" y="59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440400" y="459576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0" y="4"/>
                    </a:moveTo>
                    <a:lnTo>
                      <a:pt x="5" y="0"/>
                    </a:lnTo>
                    <a:lnTo>
                      <a:pt x="19" y="24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451560" y="46148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4"/>
                    </a:moveTo>
                    <a:lnTo>
                      <a:pt x="4" y="0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453360" y="46162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26" h="41">
                    <a:moveTo>
                      <a:pt x="0" y="4"/>
                    </a:moveTo>
                    <a:lnTo>
                      <a:pt x="5" y="0"/>
                    </a:lnTo>
                    <a:lnTo>
                      <a:pt x="26" y="38"/>
                    </a:lnTo>
                    <a:lnTo>
                      <a:pt x="26" y="40"/>
                    </a:lnTo>
                    <a:lnTo>
                      <a:pt x="21" y="41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470640" y="464652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1"/>
                    </a:moveTo>
                    <a:lnTo>
                      <a:pt x="5" y="0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5" y="27"/>
                    </a:lnTo>
                    <a:lnTo>
                      <a:pt x="0" y="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475320" y="4667400"/>
                <a:ext cx="12960" cy="66600"/>
              </a:xfrm>
              <a:custGeom>
                <a:avLst/>
                <a:gdLst/>
                <a:ahLst/>
                <a:rect l="l" t="t" r="r" b="b"/>
                <a:pathLst>
                  <a:path w="18" h="85">
                    <a:moveTo>
                      <a:pt x="0" y="2"/>
                    </a:moveTo>
                    <a:lnTo>
                      <a:pt x="8" y="0"/>
                    </a:lnTo>
                    <a:lnTo>
                      <a:pt x="18" y="83"/>
                    </a:lnTo>
                    <a:lnTo>
                      <a:pt x="10" y="85"/>
                    </a:lnTo>
                    <a:lnTo>
                      <a:pt x="10" y="83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483240" y="4732200"/>
                <a:ext cx="17640" cy="49320"/>
              </a:xfrm>
              <a:custGeom>
                <a:avLst/>
                <a:gdLst/>
                <a:ahLst/>
                <a:rect l="l" t="t" r="r" b="b"/>
                <a:pathLst>
                  <a:path w="23" h="61">
                    <a:moveTo>
                      <a:pt x="0" y="2"/>
                    </a:moveTo>
                    <a:lnTo>
                      <a:pt x="8" y="0"/>
                    </a:lnTo>
                    <a:lnTo>
                      <a:pt x="23" y="55"/>
                    </a:lnTo>
                    <a:lnTo>
                      <a:pt x="19" y="61"/>
                    </a:lnTo>
                    <a:lnTo>
                      <a:pt x="15" y="59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497640" y="47768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6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0" y="4"/>
                    </a:lnTo>
                    <a:lnTo>
                      <a:pt x="2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70640" y="4780080"/>
                <a:ext cx="34920" cy="153720"/>
              </a:xfrm>
              <a:custGeom>
                <a:avLst/>
                <a:gdLst/>
                <a:ahLst/>
                <a:rect l="l" t="t" r="r" b="b"/>
                <a:pathLst>
                  <a:path w="44" h="193">
                    <a:moveTo>
                      <a:pt x="36" y="2"/>
                    </a:moveTo>
                    <a:lnTo>
                      <a:pt x="44" y="0"/>
                    </a:lnTo>
                    <a:lnTo>
                      <a:pt x="7" y="191"/>
                    </a:lnTo>
                    <a:lnTo>
                      <a:pt x="7" y="193"/>
                    </a:lnTo>
                    <a:lnTo>
                      <a:pt x="0" y="191"/>
                    </a:lnTo>
                    <a:lnTo>
                      <a:pt x="36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459480" y="4932360"/>
                <a:ext cx="17640" cy="33480"/>
              </a:xfrm>
              <a:custGeom>
                <a:avLst/>
                <a:gdLst/>
                <a:ahLst/>
                <a:rect l="l" t="t" r="r" b="b"/>
                <a:pathLst>
                  <a:path w="21" h="44">
                    <a:moveTo>
                      <a:pt x="14" y="0"/>
                    </a:moveTo>
                    <a:lnTo>
                      <a:pt x="21" y="2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0" y="42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392880" y="4964040"/>
                <a:ext cx="73080" cy="196920"/>
              </a:xfrm>
              <a:custGeom>
                <a:avLst/>
                <a:gdLst/>
                <a:ahLst/>
                <a:rect l="l" t="t" r="r" b="b"/>
                <a:pathLst>
                  <a:path w="92" h="246">
                    <a:moveTo>
                      <a:pt x="84" y="0"/>
                    </a:moveTo>
                    <a:lnTo>
                      <a:pt x="92" y="2"/>
                    </a:lnTo>
                    <a:lnTo>
                      <a:pt x="8" y="246"/>
                    </a:lnTo>
                    <a:lnTo>
                      <a:pt x="0" y="244"/>
                    </a:lnTo>
                    <a:lnTo>
                      <a:pt x="0" y="244"/>
                    </a:lnTo>
                    <a:lnTo>
                      <a:pt x="8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384960" y="5159520"/>
                <a:ext cx="14400" cy="2988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9" y="0"/>
                    </a:moveTo>
                    <a:lnTo>
                      <a:pt x="17" y="2"/>
                    </a:lnTo>
                    <a:lnTo>
                      <a:pt x="8" y="40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340320" y="5187960"/>
                <a:ext cx="51120" cy="192240"/>
              </a:xfrm>
              <a:custGeom>
                <a:avLst/>
                <a:gdLst/>
                <a:ahLst/>
                <a:rect l="l" t="t" r="r" b="b"/>
                <a:pathLst>
                  <a:path w="65" h="240">
                    <a:moveTo>
                      <a:pt x="57" y="0"/>
                    </a:moveTo>
                    <a:lnTo>
                      <a:pt x="65" y="2"/>
                    </a:lnTo>
                    <a:lnTo>
                      <a:pt x="7" y="238"/>
                    </a:lnTo>
                    <a:lnTo>
                      <a:pt x="2" y="240"/>
                    </a:lnTo>
                    <a:lnTo>
                      <a:pt x="0" y="238"/>
                    </a:lnTo>
                    <a:lnTo>
                      <a:pt x="5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342120" y="537840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"/>
                    </a:moveTo>
                    <a:lnTo>
                      <a:pt x="5" y="0"/>
                    </a:lnTo>
                    <a:lnTo>
                      <a:pt x="24" y="20"/>
                    </a:lnTo>
                    <a:lnTo>
                      <a:pt x="26" y="22"/>
                    </a:lnTo>
                    <a:lnTo>
                      <a:pt x="19" y="24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6520" y="5394240"/>
                <a:ext cx="6120" cy="144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0" y="2"/>
                    </a:moveTo>
                    <a:lnTo>
                      <a:pt x="7" y="0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354720" y="54086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9" y="0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0" y="17"/>
                    </a:lnTo>
                    <a:lnTo>
                      <a:pt x="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351480" y="542304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4" y="0"/>
                    </a:moveTo>
                    <a:lnTo>
                      <a:pt x="11" y="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0" y="20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316560" y="5438880"/>
                <a:ext cx="41400" cy="158760"/>
              </a:xfrm>
              <a:custGeom>
                <a:avLst/>
                <a:gdLst/>
                <a:ahLst/>
                <a:rect l="l" t="t" r="r" b="b"/>
                <a:pathLst>
                  <a:path w="54" h="199">
                    <a:moveTo>
                      <a:pt x="46" y="0"/>
                    </a:moveTo>
                    <a:lnTo>
                      <a:pt x="54" y="2"/>
                    </a:lnTo>
                    <a:lnTo>
                      <a:pt x="6" y="199"/>
                    </a:lnTo>
                    <a:lnTo>
                      <a:pt x="4" y="199"/>
                    </a:lnTo>
                    <a:lnTo>
                      <a:pt x="0" y="195"/>
                    </a:lnTo>
                    <a:lnTo>
                      <a:pt x="4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13320" y="559440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4" y="0"/>
                    </a:moveTo>
                    <a:lnTo>
                      <a:pt x="8" y="4"/>
                    </a:lnTo>
                    <a:lnTo>
                      <a:pt x="8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311880" y="559764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2" y="0"/>
                    </a:moveTo>
                    <a:lnTo>
                      <a:pt x="10" y="2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0" y="10"/>
                    </a:lnTo>
                    <a:lnTo>
                      <a:pt x="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300720" y="560376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13" y="0"/>
                    </a:moveTo>
                    <a:lnTo>
                      <a:pt x="19" y="4"/>
                    </a:lnTo>
                    <a:lnTo>
                      <a:pt x="6" y="26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283440" y="5621400"/>
                <a:ext cx="21960" cy="3312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23" y="0"/>
                    </a:moveTo>
                    <a:lnTo>
                      <a:pt x="29" y="4"/>
                    </a:lnTo>
                    <a:lnTo>
                      <a:pt x="6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2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32680" y="5651640"/>
                <a:ext cx="54000" cy="109440"/>
              </a:xfrm>
              <a:custGeom>
                <a:avLst/>
                <a:gdLst/>
                <a:ahLst/>
                <a:rect l="l" t="t" r="r" b="b"/>
                <a:pathLst>
                  <a:path w="69" h="138">
                    <a:moveTo>
                      <a:pt x="63" y="0"/>
                    </a:moveTo>
                    <a:lnTo>
                      <a:pt x="69" y="4"/>
                    </a:lnTo>
                    <a:lnTo>
                      <a:pt x="6" y="136"/>
                    </a:lnTo>
                    <a:lnTo>
                      <a:pt x="4" y="138"/>
                    </a:lnTo>
                    <a:lnTo>
                      <a:pt x="0" y="13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16480" y="575640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21" y="0"/>
                    </a:moveTo>
                    <a:lnTo>
                      <a:pt x="25" y="6"/>
                    </a:lnTo>
                    <a:lnTo>
                      <a:pt x="8" y="10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2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16480" y="576252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0" y="0"/>
                    </a:moveTo>
                    <a:lnTo>
                      <a:pt x="8" y="2"/>
                    </a:lnTo>
                    <a:lnTo>
                      <a:pt x="8" y="14"/>
                    </a:lnTo>
                    <a:lnTo>
                      <a:pt x="8" y="1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13600" y="5773680"/>
                <a:ext cx="7920" cy="1764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4" y="0"/>
                    </a:moveTo>
                    <a:lnTo>
                      <a:pt x="12" y="2"/>
                    </a:lnTo>
                    <a:lnTo>
                      <a:pt x="6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195960" y="578808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1" y="0"/>
                    </a:moveTo>
                    <a:lnTo>
                      <a:pt x="25" y="4"/>
                    </a:lnTo>
                    <a:lnTo>
                      <a:pt x="4" y="27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2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153120" y="580716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53" y="0"/>
                    </a:moveTo>
                    <a:lnTo>
                      <a:pt x="57" y="4"/>
                    </a:lnTo>
                    <a:lnTo>
                      <a:pt x="7" y="69"/>
                    </a:lnTo>
                    <a:lnTo>
                      <a:pt x="0" y="67"/>
                    </a:lnTo>
                    <a:lnTo>
                      <a:pt x="2" y="65"/>
                    </a:lnTo>
                    <a:lnTo>
                      <a:pt x="5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153120" y="585936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7" y="2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43760" y="58644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14" y="0"/>
                    </a:moveTo>
                    <a:lnTo>
                      <a:pt x="18" y="4"/>
                    </a:lnTo>
                    <a:lnTo>
                      <a:pt x="6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140520" y="5877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3" y="0"/>
                    </a:moveTo>
                    <a:lnTo>
                      <a:pt x="9" y="4"/>
                    </a:lnTo>
                    <a:lnTo>
                      <a:pt x="5" y="1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05600" y="5881680"/>
                <a:ext cx="39600" cy="74520"/>
              </a:xfrm>
              <a:custGeom>
                <a:avLst/>
                <a:gdLst/>
                <a:ahLst/>
                <a:rect l="l" t="t" r="r" b="b"/>
                <a:pathLst>
                  <a:path w="49" h="95">
                    <a:moveTo>
                      <a:pt x="44" y="0"/>
                    </a:moveTo>
                    <a:lnTo>
                      <a:pt x="49" y="4"/>
                    </a:lnTo>
                    <a:lnTo>
                      <a:pt x="5" y="93"/>
                    </a:lnTo>
                    <a:lnTo>
                      <a:pt x="4" y="95"/>
                    </a:lnTo>
                    <a:lnTo>
                      <a:pt x="0" y="89"/>
                    </a:lnTo>
                    <a:lnTo>
                      <a:pt x="4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102360" y="5951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8" y="6"/>
                    </a:lnTo>
                    <a:lnTo>
                      <a:pt x="4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091200" y="595296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3" y="0"/>
                    </a:moveTo>
                    <a:lnTo>
                      <a:pt x="17" y="6"/>
                    </a:lnTo>
                    <a:lnTo>
                      <a:pt x="5" y="23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059520" y="5969160"/>
                <a:ext cx="36360" cy="69840"/>
              </a:xfrm>
              <a:custGeom>
                <a:avLst/>
                <a:gdLst/>
                <a:ahLst/>
                <a:rect l="l" t="t" r="r" b="b"/>
                <a:pathLst>
                  <a:path w="45" h="87">
                    <a:moveTo>
                      <a:pt x="40" y="0"/>
                    </a:moveTo>
                    <a:lnTo>
                      <a:pt x="45" y="4"/>
                    </a:lnTo>
                    <a:lnTo>
                      <a:pt x="5" y="85"/>
                    </a:lnTo>
                    <a:lnTo>
                      <a:pt x="1" y="87"/>
                    </a:lnTo>
                    <a:lnTo>
                      <a:pt x="0" y="81"/>
                    </a:lnTo>
                    <a:lnTo>
                      <a:pt x="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045120" y="603396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20" y="0"/>
                    </a:moveTo>
                    <a:lnTo>
                      <a:pt x="2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96080" y="6027840"/>
                <a:ext cx="149040" cy="12600"/>
              </a:xfrm>
              <a:custGeom>
                <a:avLst/>
                <a:gdLst/>
                <a:ahLst/>
                <a:rect l="l" t="t" r="r" b="b"/>
                <a:pathLst>
                  <a:path w="187" h="16">
                    <a:moveTo>
                      <a:pt x="187" y="8"/>
                    </a:moveTo>
                    <a:lnTo>
                      <a:pt x="187" y="16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187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72320" y="60069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4" h="31">
                    <a:moveTo>
                      <a:pt x="34" y="25"/>
                    </a:moveTo>
                    <a:lnTo>
                      <a:pt x="30" y="31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34" y="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70520" y="60008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8"/>
                    </a:moveTo>
                    <a:lnTo>
                      <a:pt x="2" y="10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69080" y="59943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8"/>
                    </a:moveTo>
                    <a:lnTo>
                      <a:pt x="2" y="1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869080" y="598320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14"/>
                    </a:moveTo>
                    <a:lnTo>
                      <a:pt x="0" y="14"/>
                    </a:lnTo>
                    <a:lnTo>
                      <a:pt x="0" y="8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8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840280" y="598176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0" h="10">
                    <a:moveTo>
                      <a:pt x="40" y="2"/>
                    </a:moveTo>
                    <a:lnTo>
                      <a:pt x="36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4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819760" y="597996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25" y="2"/>
                    </a:moveTo>
                    <a:lnTo>
                      <a:pt x="25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5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99240" y="597708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7" h="12">
                    <a:moveTo>
                      <a:pt x="27" y="4"/>
                    </a:moveTo>
                    <a:lnTo>
                      <a:pt x="2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689440" y="5962680"/>
                <a:ext cx="109800" cy="20520"/>
              </a:xfrm>
              <a:custGeom>
                <a:avLst/>
                <a:gdLst/>
                <a:ahLst/>
                <a:rect l="l" t="t" r="r" b="b"/>
                <a:pathLst>
                  <a:path w="137" h="26">
                    <a:moveTo>
                      <a:pt x="137" y="18"/>
                    </a:moveTo>
                    <a:lnTo>
                      <a:pt x="137" y="2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37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35800" y="5952960"/>
                <a:ext cx="53640" cy="16200"/>
              </a:xfrm>
              <a:custGeom>
                <a:avLst/>
                <a:gdLst/>
                <a:ahLst/>
                <a:rect l="l" t="t" r="r" b="b"/>
                <a:pathLst>
                  <a:path w="69" h="19">
                    <a:moveTo>
                      <a:pt x="69" y="11"/>
                    </a:moveTo>
                    <a:lnTo>
                      <a:pt x="69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621400" y="595152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7" y="2"/>
                    </a:moveTo>
                    <a:lnTo>
                      <a:pt x="17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7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611680" y="595008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3" y="2"/>
                    </a:moveTo>
                    <a:lnTo>
                      <a:pt x="1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605560" y="59500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03760" y="595008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0"/>
                    </a:moveTo>
                    <a:lnTo>
                      <a:pt x="2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586480" y="595008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0"/>
                    </a:moveTo>
                    <a:lnTo>
                      <a:pt x="23" y="8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2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586480" y="5954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586480" y="595620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8" h="19">
                    <a:moveTo>
                      <a:pt x="0" y="0"/>
                    </a:moveTo>
                    <a:lnTo>
                      <a:pt x="8" y="0"/>
                    </a:lnTo>
                    <a:lnTo>
                      <a:pt x="6" y="15"/>
                    </a:lnTo>
                    <a:lnTo>
                      <a:pt x="4" y="19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540400" y="5967360"/>
                <a:ext cx="47520" cy="19080"/>
              </a:xfrm>
              <a:custGeom>
                <a:avLst/>
                <a:gdLst/>
                <a:ahLst/>
                <a:rect l="l" t="t" r="r" b="b"/>
                <a:pathLst>
                  <a:path w="61" h="24">
                    <a:moveTo>
                      <a:pt x="57" y="0"/>
                    </a:moveTo>
                    <a:lnTo>
                      <a:pt x="61" y="6"/>
                    </a:lnTo>
                    <a:lnTo>
                      <a:pt x="4" y="24"/>
                    </a:lnTo>
                    <a:lnTo>
                      <a:pt x="0" y="18"/>
                    </a:lnTo>
                    <a:lnTo>
                      <a:pt x="2" y="16"/>
                    </a:lnTo>
                    <a:lnTo>
                      <a:pt x="5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524560" y="598176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19" y="0"/>
                    </a:moveTo>
                    <a:lnTo>
                      <a:pt x="23" y="6"/>
                    </a:lnTo>
                    <a:lnTo>
                      <a:pt x="5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521320" y="59943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4" y="0"/>
                    </a:moveTo>
                    <a:lnTo>
                      <a:pt x="9" y="4"/>
                    </a:lnTo>
                    <a:lnTo>
                      <a:pt x="8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521320" y="59990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8" y="2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521320" y="59990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lnTo>
                      <a:pt x="6" y="4"/>
                    </a:lnTo>
                    <a:lnTo>
                      <a:pt x="6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487840" y="5999040"/>
                <a:ext cx="33480" cy="12960"/>
              </a:xfrm>
              <a:custGeom>
                <a:avLst/>
                <a:gdLst/>
                <a:ahLst/>
                <a:rect l="l" t="t" r="r" b="b"/>
                <a:pathLst>
                  <a:path w="42" h="16">
                    <a:moveTo>
                      <a:pt x="42" y="0"/>
                    </a:moveTo>
                    <a:lnTo>
                      <a:pt x="42" y="8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468760" y="600552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0"/>
                    </a:moveTo>
                    <a:lnTo>
                      <a:pt x="23" y="8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2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448240" y="601020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7" y="0"/>
                    </a:moveTo>
                    <a:lnTo>
                      <a:pt x="27" y="7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56080" y="601488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4" h="34">
                    <a:moveTo>
                      <a:pt x="114" y="0"/>
                    </a:moveTo>
                    <a:lnTo>
                      <a:pt x="114" y="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243400" y="6029280"/>
                <a:ext cx="112680" cy="12600"/>
              </a:xfrm>
              <a:custGeom>
                <a:avLst/>
                <a:gdLst/>
                <a:ahLst/>
                <a:rect l="l" t="t" r="r" b="b"/>
                <a:pathLst>
                  <a:path w="143" h="16">
                    <a:moveTo>
                      <a:pt x="143" y="8"/>
                    </a:moveTo>
                    <a:lnTo>
                      <a:pt x="143" y="16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143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238720" y="6026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4"/>
                    </a:moveTo>
                    <a:lnTo>
                      <a:pt x="6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1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227560" y="601020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19"/>
                    </a:moveTo>
                    <a:lnTo>
                      <a:pt x="13" y="23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17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127480" y="5916600"/>
                <a:ext cx="103320" cy="96840"/>
              </a:xfrm>
              <a:custGeom>
                <a:avLst/>
                <a:gdLst/>
                <a:ahLst/>
                <a:rect l="l" t="t" r="r" b="b"/>
                <a:pathLst>
                  <a:path w="129" h="123">
                    <a:moveTo>
                      <a:pt x="129" y="119"/>
                    </a:moveTo>
                    <a:lnTo>
                      <a:pt x="126" y="123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29" y="1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119560" y="59101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6" y="8"/>
                    </a:moveTo>
                    <a:lnTo>
                      <a:pt x="12" y="14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16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106960" y="59086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2"/>
                    </a:moveTo>
                    <a:lnTo>
                      <a:pt x="15" y="10"/>
                    </a:lnTo>
                    <a:lnTo>
                      <a:pt x="4" y="8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15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081760" y="5910120"/>
                <a:ext cx="28440" cy="4608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32" y="0"/>
                    </a:moveTo>
                    <a:lnTo>
                      <a:pt x="36" y="6"/>
                    </a:lnTo>
                    <a:lnTo>
                      <a:pt x="5" y="58"/>
                    </a:lnTo>
                    <a:lnTo>
                      <a:pt x="1" y="60"/>
                    </a:lnTo>
                    <a:lnTo>
                      <a:pt x="0" y="52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75280" y="595008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8" y="0"/>
                    </a:moveTo>
                    <a:lnTo>
                      <a:pt x="9" y="8"/>
                    </a:lnTo>
                    <a:lnTo>
                      <a:pt x="4" y="8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052960" y="595152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29" y="0"/>
                    </a:moveTo>
                    <a:lnTo>
                      <a:pt x="33" y="6"/>
                    </a:lnTo>
                    <a:lnTo>
                      <a:pt x="4" y="1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022720" y="596268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38" y="0"/>
                    </a:moveTo>
                    <a:lnTo>
                      <a:pt x="42" y="6"/>
                    </a:lnTo>
                    <a:lnTo>
                      <a:pt x="4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021280" y="598500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0"/>
                    </a:moveTo>
                    <a:lnTo>
                      <a:pt x="6" y="4"/>
                    </a:lnTo>
                    <a:lnTo>
                      <a:pt x="4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000760" y="598644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25" y="0"/>
                    </a:moveTo>
                    <a:lnTo>
                      <a:pt x="29" y="4"/>
                    </a:lnTo>
                    <a:lnTo>
                      <a:pt x="8" y="30"/>
                    </a:lnTo>
                    <a:lnTo>
                      <a:pt x="0" y="28"/>
                    </a:lnTo>
                    <a:lnTo>
                      <a:pt x="2" y="26"/>
                    </a:lnTo>
                    <a:lnTo>
                      <a:pt x="2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000760" y="600876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8" y="2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000760" y="601344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0"/>
                    </a:moveTo>
                    <a:lnTo>
                      <a:pt x="8" y="0"/>
                    </a:lnTo>
                    <a:lnTo>
                      <a:pt x="8" y="7"/>
                    </a:lnTo>
                    <a:lnTo>
                      <a:pt x="6" y="1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903920" y="6018120"/>
                <a:ext cx="101520" cy="44640"/>
              </a:xfrm>
              <a:custGeom>
                <a:avLst/>
                <a:gdLst/>
                <a:ahLst/>
                <a:rect l="l" t="t" r="r" b="b"/>
                <a:pathLst>
                  <a:path w="128" h="58">
                    <a:moveTo>
                      <a:pt x="122" y="0"/>
                    </a:moveTo>
                    <a:lnTo>
                      <a:pt x="128" y="6"/>
                    </a:lnTo>
                    <a:lnTo>
                      <a:pt x="2" y="58"/>
                    </a:lnTo>
                    <a:lnTo>
                      <a:pt x="0" y="58"/>
                    </a:lnTo>
                    <a:lnTo>
                      <a:pt x="0" y="50"/>
                    </a:lnTo>
                    <a:lnTo>
                      <a:pt x="1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90960" y="605628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5" y="0"/>
                    </a:moveTo>
                    <a:lnTo>
                      <a:pt x="15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76920" y="605484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2"/>
                    </a:moveTo>
                    <a:lnTo>
                      <a:pt x="19" y="10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19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32280" y="6027840"/>
                <a:ext cx="47520" cy="31680"/>
              </a:xfrm>
              <a:custGeom>
                <a:avLst/>
                <a:gdLst/>
                <a:ahLst/>
                <a:rect l="l" t="t" r="r" b="b"/>
                <a:pathLst>
                  <a:path w="59" h="42">
                    <a:moveTo>
                      <a:pt x="59" y="36"/>
                    </a:moveTo>
                    <a:lnTo>
                      <a:pt x="55" y="42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59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2920" y="60166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7" y="14"/>
                    </a:moveTo>
                    <a:lnTo>
                      <a:pt x="14" y="18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514680" y="4421160"/>
                <a:ext cx="498600" cy="498600"/>
              </a:xfrm>
              <a:custGeom>
                <a:avLst/>
                <a:gdLst/>
                <a:ahLst/>
                <a:rect l="l" t="t" r="r" b="b"/>
                <a:pathLst>
                  <a:path w="628" h="627">
                    <a:moveTo>
                      <a:pt x="326" y="560"/>
                    </a:moveTo>
                    <a:lnTo>
                      <a:pt x="288" y="542"/>
                    </a:lnTo>
                    <a:lnTo>
                      <a:pt x="282" y="538"/>
                    </a:lnTo>
                    <a:lnTo>
                      <a:pt x="200" y="492"/>
                    </a:lnTo>
                    <a:lnTo>
                      <a:pt x="197" y="492"/>
                    </a:lnTo>
                    <a:lnTo>
                      <a:pt x="191" y="467"/>
                    </a:lnTo>
                    <a:lnTo>
                      <a:pt x="176" y="435"/>
                    </a:lnTo>
                    <a:lnTo>
                      <a:pt x="166" y="418"/>
                    </a:lnTo>
                    <a:lnTo>
                      <a:pt x="99" y="323"/>
                    </a:lnTo>
                    <a:lnTo>
                      <a:pt x="6" y="159"/>
                    </a:lnTo>
                    <a:lnTo>
                      <a:pt x="0" y="122"/>
                    </a:lnTo>
                    <a:lnTo>
                      <a:pt x="2" y="106"/>
                    </a:lnTo>
                    <a:lnTo>
                      <a:pt x="63" y="35"/>
                    </a:lnTo>
                    <a:lnTo>
                      <a:pt x="76" y="29"/>
                    </a:lnTo>
                    <a:lnTo>
                      <a:pt x="118" y="15"/>
                    </a:lnTo>
                    <a:lnTo>
                      <a:pt x="174" y="6"/>
                    </a:lnTo>
                    <a:lnTo>
                      <a:pt x="195" y="4"/>
                    </a:lnTo>
                    <a:lnTo>
                      <a:pt x="242" y="0"/>
                    </a:lnTo>
                    <a:lnTo>
                      <a:pt x="298" y="17"/>
                    </a:lnTo>
                    <a:lnTo>
                      <a:pt x="319" y="39"/>
                    </a:lnTo>
                    <a:lnTo>
                      <a:pt x="323" y="41"/>
                    </a:lnTo>
                    <a:lnTo>
                      <a:pt x="372" y="73"/>
                    </a:lnTo>
                    <a:lnTo>
                      <a:pt x="386" y="75"/>
                    </a:lnTo>
                    <a:lnTo>
                      <a:pt x="494" y="102"/>
                    </a:lnTo>
                    <a:lnTo>
                      <a:pt x="513" y="102"/>
                    </a:lnTo>
                    <a:lnTo>
                      <a:pt x="513" y="114"/>
                    </a:lnTo>
                    <a:lnTo>
                      <a:pt x="515" y="118"/>
                    </a:lnTo>
                    <a:lnTo>
                      <a:pt x="515" y="120"/>
                    </a:lnTo>
                    <a:lnTo>
                      <a:pt x="523" y="122"/>
                    </a:lnTo>
                    <a:lnTo>
                      <a:pt x="527" y="122"/>
                    </a:lnTo>
                    <a:lnTo>
                      <a:pt x="534" y="122"/>
                    </a:lnTo>
                    <a:lnTo>
                      <a:pt x="534" y="126"/>
                    </a:lnTo>
                    <a:lnTo>
                      <a:pt x="552" y="167"/>
                    </a:lnTo>
                    <a:lnTo>
                      <a:pt x="592" y="244"/>
                    </a:lnTo>
                    <a:lnTo>
                      <a:pt x="594" y="246"/>
                    </a:lnTo>
                    <a:lnTo>
                      <a:pt x="592" y="268"/>
                    </a:lnTo>
                    <a:lnTo>
                      <a:pt x="592" y="280"/>
                    </a:lnTo>
                    <a:lnTo>
                      <a:pt x="592" y="295"/>
                    </a:lnTo>
                    <a:lnTo>
                      <a:pt x="613" y="307"/>
                    </a:lnTo>
                    <a:lnTo>
                      <a:pt x="615" y="341"/>
                    </a:lnTo>
                    <a:lnTo>
                      <a:pt x="616" y="376"/>
                    </a:lnTo>
                    <a:lnTo>
                      <a:pt x="620" y="418"/>
                    </a:lnTo>
                    <a:lnTo>
                      <a:pt x="628" y="500"/>
                    </a:lnTo>
                    <a:lnTo>
                      <a:pt x="613" y="615"/>
                    </a:lnTo>
                    <a:lnTo>
                      <a:pt x="590" y="621"/>
                    </a:lnTo>
                    <a:lnTo>
                      <a:pt x="464" y="627"/>
                    </a:lnTo>
                    <a:lnTo>
                      <a:pt x="449" y="623"/>
                    </a:lnTo>
                    <a:lnTo>
                      <a:pt x="326" y="5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36800" y="484668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4"/>
                    </a:moveTo>
                    <a:lnTo>
                      <a:pt x="5" y="10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9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673440" y="480996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84" h="53">
                    <a:moveTo>
                      <a:pt x="84" y="47"/>
                    </a:moveTo>
                    <a:lnTo>
                      <a:pt x="81" y="5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84" y="4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666960" y="480996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7"/>
                    </a:lnTo>
                    <a:lnTo>
                      <a:pt x="4" y="7"/>
                    </a:lnTo>
                    <a:lnTo>
                      <a:pt x="0" y="5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664080" y="4791240"/>
                <a:ext cx="9360" cy="23760"/>
              </a:xfrm>
              <a:custGeom>
                <a:avLst/>
                <a:gdLst/>
                <a:ahLst/>
                <a:rect l="l" t="t" r="r" b="b"/>
                <a:pathLst>
                  <a:path w="13" h="29">
                    <a:moveTo>
                      <a:pt x="13" y="27"/>
                    </a:moveTo>
                    <a:lnTo>
                      <a:pt x="10" y="27"/>
                    </a:lnTo>
                    <a:lnTo>
                      <a:pt x="6" y="29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13" y="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652920" y="476568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32"/>
                    </a:moveTo>
                    <a:lnTo>
                      <a:pt x="13" y="36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1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645000" y="475128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17"/>
                    </a:moveTo>
                    <a:lnTo>
                      <a:pt x="10" y="21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5" y="1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92440" y="4676760"/>
                <a:ext cx="57240" cy="77760"/>
              </a:xfrm>
              <a:custGeom>
                <a:avLst/>
                <a:gdLst/>
                <a:ahLst/>
                <a:rect l="l" t="t" r="r" b="b"/>
                <a:pathLst>
                  <a:path w="73" h="99">
                    <a:moveTo>
                      <a:pt x="73" y="95"/>
                    </a:moveTo>
                    <a:lnTo>
                      <a:pt x="67" y="9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73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16480" y="4548240"/>
                <a:ext cx="80640" cy="131760"/>
              </a:xfrm>
              <a:custGeom>
                <a:avLst/>
                <a:gdLst/>
                <a:ahLst/>
                <a:rect l="l" t="t" r="r" b="b"/>
                <a:pathLst>
                  <a:path w="101" h="166">
                    <a:moveTo>
                      <a:pt x="101" y="162"/>
                    </a:moveTo>
                    <a:lnTo>
                      <a:pt x="95" y="166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1" y="1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1440" y="4518000"/>
                <a:ext cx="11160" cy="30240"/>
              </a:xfrm>
              <a:custGeom>
                <a:avLst/>
                <a:gdLst/>
                <a:ahLst/>
                <a:rect l="l" t="t" r="r" b="b"/>
                <a:pathLst>
                  <a:path w="14" h="37">
                    <a:moveTo>
                      <a:pt x="14" y="37"/>
                    </a:moveTo>
                    <a:lnTo>
                      <a:pt x="6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1440" y="4505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8" y="18"/>
                    </a:moveTo>
                    <a:lnTo>
                      <a:pt x="0" y="18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10" y="4"/>
                    </a:lnTo>
                    <a:lnTo>
                      <a:pt x="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514680" y="4448160"/>
                <a:ext cx="50760" cy="60480"/>
              </a:xfrm>
              <a:custGeom>
                <a:avLst/>
                <a:gdLst/>
                <a:ahLst/>
                <a:rect l="l" t="t" r="r" b="b"/>
                <a:pathLst>
                  <a:path w="65" h="75">
                    <a:moveTo>
                      <a:pt x="6" y="75"/>
                    </a:moveTo>
                    <a:lnTo>
                      <a:pt x="0" y="71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5" y="6"/>
                    </a:lnTo>
                    <a:lnTo>
                      <a:pt x="6" y="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564000" y="444168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4" y="14"/>
                    </a:moveTo>
                    <a:lnTo>
                      <a:pt x="0" y="8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17" y="8"/>
                    </a:lnTo>
                    <a:lnTo>
                      <a:pt x="4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575160" y="443088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2" y="22"/>
                    </a:moveTo>
                    <a:lnTo>
                      <a:pt x="0" y="14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4" y="8"/>
                    </a:lnTo>
                    <a:lnTo>
                      <a:pt x="2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608280" y="4422600"/>
                <a:ext cx="44640" cy="14400"/>
              </a:xfrm>
              <a:custGeom>
                <a:avLst/>
                <a:gdLst/>
                <a:ahLst/>
                <a:rect l="l" t="t" r="r" b="b"/>
                <a:pathLst>
                  <a:path w="56" h="17">
                    <a:moveTo>
                      <a:pt x="2" y="17"/>
                    </a:moveTo>
                    <a:lnTo>
                      <a:pt x="0" y="9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7"/>
                    </a:lnTo>
                    <a:lnTo>
                      <a:pt x="2" y="1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652920" y="442116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0" y="9"/>
                    </a:moveTo>
                    <a:lnTo>
                      <a:pt x="0" y="2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8"/>
                    </a:lnTo>
                    <a:lnTo>
                      <a:pt x="0" y="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668760" y="441792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0" y="12"/>
                    </a:moveTo>
                    <a:lnTo>
                      <a:pt x="0" y="4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47" y="8"/>
                    </a:lnTo>
                    <a:lnTo>
                      <a:pt x="0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706920" y="4417920"/>
                <a:ext cx="46080" cy="20880"/>
              </a:xfrm>
              <a:custGeom>
                <a:avLst/>
                <a:gdLst/>
                <a:ahLst/>
                <a:rect l="l" t="t" r="r" b="b"/>
                <a:pathLst>
                  <a:path w="58" h="25">
                    <a:moveTo>
                      <a:pt x="0" y="8"/>
                    </a:moveTo>
                    <a:lnTo>
                      <a:pt x="2" y="0"/>
                    </a:lnTo>
                    <a:lnTo>
                      <a:pt x="58" y="17"/>
                    </a:lnTo>
                    <a:lnTo>
                      <a:pt x="58" y="19"/>
                    </a:lnTo>
                    <a:lnTo>
                      <a:pt x="54" y="25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749760" y="443376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0" y="6"/>
                    </a:moveTo>
                    <a:lnTo>
                      <a:pt x="4" y="0"/>
                    </a:lnTo>
                    <a:lnTo>
                      <a:pt x="25" y="22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765600" y="44514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6"/>
                    </a:moveTo>
                    <a:lnTo>
                      <a:pt x="4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4" y="8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768840" y="4452840"/>
                <a:ext cx="42840" cy="3024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0" y="6"/>
                    </a:moveTo>
                    <a:lnTo>
                      <a:pt x="3" y="0"/>
                    </a:lnTo>
                    <a:lnTo>
                      <a:pt x="53" y="30"/>
                    </a:lnTo>
                    <a:lnTo>
                      <a:pt x="51" y="38"/>
                    </a:lnTo>
                    <a:lnTo>
                      <a:pt x="49" y="38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809880" y="447660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8"/>
                    </a:moveTo>
                    <a:lnTo>
                      <a:pt x="2" y="0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4" y="9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821040" y="447840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108" h="35">
                    <a:moveTo>
                      <a:pt x="0" y="7"/>
                    </a:moveTo>
                    <a:lnTo>
                      <a:pt x="1" y="0"/>
                    </a:lnTo>
                    <a:lnTo>
                      <a:pt x="108" y="27"/>
                    </a:lnTo>
                    <a:lnTo>
                      <a:pt x="108" y="35"/>
                    </a:lnTo>
                    <a:lnTo>
                      <a:pt x="108" y="35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906720" y="450072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0" y="8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3" y="4"/>
                    </a:lnTo>
                    <a:lnTo>
                      <a:pt x="16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19680" y="450360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4"/>
                    </a:moveTo>
                    <a:lnTo>
                      <a:pt x="7" y="0"/>
                    </a:lnTo>
                    <a:lnTo>
                      <a:pt x="7" y="12"/>
                    </a:lnTo>
                    <a:lnTo>
                      <a:pt x="2" y="14"/>
                    </a:lnTo>
                    <a:lnTo>
                      <a:pt x="0" y="12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21120" y="451152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2"/>
                    </a:moveTo>
                    <a:lnTo>
                      <a:pt x="5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921120" y="451476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2"/>
                    </a:moveTo>
                    <a:lnTo>
                      <a:pt x="7" y="0"/>
                    </a:lnTo>
                    <a:lnTo>
                      <a:pt x="7" y="2"/>
                    </a:lnTo>
                    <a:lnTo>
                      <a:pt x="3" y="2"/>
                    </a:lnTo>
                    <a:lnTo>
                      <a:pt x="3" y="6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924360" y="45133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8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8" y="2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3929040" y="45147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8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932280" y="451476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1" y="4"/>
                    </a:lnTo>
                    <a:lnTo>
                      <a:pt x="7" y="4"/>
                    </a:lnTo>
                    <a:lnTo>
                      <a:pt x="7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3935520" y="451800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936960" y="4521240"/>
                <a:ext cx="19080" cy="3492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0" y="2"/>
                    </a:moveTo>
                    <a:lnTo>
                      <a:pt x="5" y="0"/>
                    </a:lnTo>
                    <a:lnTo>
                      <a:pt x="22" y="39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951360" y="4552920"/>
                <a:ext cx="36360" cy="65160"/>
              </a:xfrm>
              <a:custGeom>
                <a:avLst/>
                <a:gdLst/>
                <a:ahLst/>
                <a:rect l="l" t="t" r="r" b="b"/>
                <a:pathLst>
                  <a:path w="45" h="81">
                    <a:moveTo>
                      <a:pt x="0" y="4"/>
                    </a:moveTo>
                    <a:lnTo>
                      <a:pt x="5" y="0"/>
                    </a:lnTo>
                    <a:lnTo>
                      <a:pt x="45" y="77"/>
                    </a:lnTo>
                    <a:lnTo>
                      <a:pt x="40" y="81"/>
                    </a:lnTo>
                    <a:lnTo>
                      <a:pt x="40" y="81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3983040" y="46148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4"/>
                    </a:moveTo>
                    <a:lnTo>
                      <a:pt x="5" y="0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3981600" y="461808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2" y="0"/>
                    </a:moveTo>
                    <a:lnTo>
                      <a:pt x="6" y="0"/>
                    </a:lnTo>
                    <a:lnTo>
                      <a:pt x="9" y="0"/>
                    </a:lnTo>
                    <a:lnTo>
                      <a:pt x="7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981600" y="46339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3981600" y="4643280"/>
                <a:ext cx="6120" cy="1620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0"/>
                    </a:moveTo>
                    <a:lnTo>
                      <a:pt x="7" y="0"/>
                    </a:lnTo>
                    <a:lnTo>
                      <a:pt x="7" y="13"/>
                    </a:lnTo>
                    <a:lnTo>
                      <a:pt x="2" y="19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983040" y="465444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0" y="6"/>
                    </a:moveTo>
                    <a:lnTo>
                      <a:pt x="5" y="0"/>
                    </a:lnTo>
                    <a:lnTo>
                      <a:pt x="25" y="12"/>
                    </a:lnTo>
                    <a:lnTo>
                      <a:pt x="26" y="14"/>
                    </a:lnTo>
                    <a:lnTo>
                      <a:pt x="19" y="1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3997440" y="466560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9" h="34">
                    <a:moveTo>
                      <a:pt x="0" y="2"/>
                    </a:moveTo>
                    <a:lnTo>
                      <a:pt x="7" y="0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2" y="34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998880" y="4692600"/>
                <a:ext cx="7920" cy="2880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0" y="0"/>
                    </a:moveTo>
                    <a:lnTo>
                      <a:pt x="7" y="0"/>
                    </a:lnTo>
                    <a:lnTo>
                      <a:pt x="9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000680" y="472140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0" y="0"/>
                    </a:moveTo>
                    <a:lnTo>
                      <a:pt x="7" y="0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3" y="4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003560" y="4753080"/>
                <a:ext cx="12960" cy="6660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8" y="0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8" y="8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998880" y="4819680"/>
                <a:ext cx="17640" cy="93600"/>
              </a:xfrm>
              <a:custGeom>
                <a:avLst/>
                <a:gdLst/>
                <a:ahLst/>
                <a:rect l="l" t="t" r="r" b="b"/>
                <a:pathLst>
                  <a:path w="21" h="119">
                    <a:moveTo>
                      <a:pt x="13" y="0"/>
                    </a:moveTo>
                    <a:lnTo>
                      <a:pt x="21" y="0"/>
                    </a:lnTo>
                    <a:lnTo>
                      <a:pt x="5" y="115"/>
                    </a:lnTo>
                    <a:lnTo>
                      <a:pt x="4" y="119"/>
                    </a:lnTo>
                    <a:lnTo>
                      <a:pt x="0" y="113"/>
                    </a:lnTo>
                    <a:lnTo>
                      <a:pt x="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983040" y="490860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1" y="0"/>
                    </a:moveTo>
                    <a:lnTo>
                      <a:pt x="25" y="6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2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82960" y="4911840"/>
                <a:ext cx="100080" cy="11160"/>
              </a:xfrm>
              <a:custGeom>
                <a:avLst/>
                <a:gdLst/>
                <a:ahLst/>
                <a:rect l="l" t="t" r="r" b="b"/>
                <a:pathLst>
                  <a:path w="126" h="13">
                    <a:moveTo>
                      <a:pt x="126" y="0"/>
                    </a:moveTo>
                    <a:lnTo>
                      <a:pt x="126" y="8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12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68560" y="491508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7" y="2"/>
                    </a:moveTo>
                    <a:lnTo>
                      <a:pt x="17" y="9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17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772080" y="4863960"/>
                <a:ext cx="99720" cy="55800"/>
              </a:xfrm>
              <a:custGeom>
                <a:avLst/>
                <a:gdLst/>
                <a:ahLst/>
                <a:rect l="l" t="t" r="r" b="b"/>
                <a:pathLst>
                  <a:path w="126" h="69">
                    <a:moveTo>
                      <a:pt x="126" y="63"/>
                    </a:moveTo>
                    <a:lnTo>
                      <a:pt x="123" y="69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26" y="6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741840" y="484992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42" y="18"/>
                    </a:moveTo>
                    <a:lnTo>
                      <a:pt x="38" y="2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4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586480" y="2252520"/>
                <a:ext cx="436320" cy="1690920"/>
              </a:xfrm>
              <a:custGeom>
                <a:avLst/>
                <a:gdLst/>
                <a:ahLst/>
                <a:rect l="l" t="t" r="r" b="b"/>
                <a:pathLst>
                  <a:path w="552" h="2129">
                    <a:moveTo>
                      <a:pt x="189" y="2098"/>
                    </a:moveTo>
                    <a:lnTo>
                      <a:pt x="178" y="2096"/>
                    </a:lnTo>
                    <a:lnTo>
                      <a:pt x="172" y="2096"/>
                    </a:lnTo>
                    <a:lnTo>
                      <a:pt x="170" y="2082"/>
                    </a:lnTo>
                    <a:lnTo>
                      <a:pt x="36" y="1804"/>
                    </a:lnTo>
                    <a:lnTo>
                      <a:pt x="27" y="1777"/>
                    </a:lnTo>
                    <a:lnTo>
                      <a:pt x="19" y="1749"/>
                    </a:lnTo>
                    <a:lnTo>
                      <a:pt x="15" y="1721"/>
                    </a:lnTo>
                    <a:lnTo>
                      <a:pt x="10" y="1650"/>
                    </a:lnTo>
                    <a:lnTo>
                      <a:pt x="4" y="1581"/>
                    </a:lnTo>
                    <a:lnTo>
                      <a:pt x="2" y="1514"/>
                    </a:lnTo>
                    <a:lnTo>
                      <a:pt x="0" y="1449"/>
                    </a:lnTo>
                    <a:lnTo>
                      <a:pt x="2" y="1384"/>
                    </a:lnTo>
                    <a:lnTo>
                      <a:pt x="4" y="1321"/>
                    </a:lnTo>
                    <a:lnTo>
                      <a:pt x="10" y="1191"/>
                    </a:lnTo>
                    <a:lnTo>
                      <a:pt x="13" y="1126"/>
                    </a:lnTo>
                    <a:lnTo>
                      <a:pt x="17" y="1059"/>
                    </a:lnTo>
                    <a:lnTo>
                      <a:pt x="21" y="990"/>
                    </a:lnTo>
                    <a:lnTo>
                      <a:pt x="25" y="921"/>
                    </a:lnTo>
                    <a:lnTo>
                      <a:pt x="29" y="848"/>
                    </a:lnTo>
                    <a:lnTo>
                      <a:pt x="31" y="773"/>
                    </a:lnTo>
                    <a:lnTo>
                      <a:pt x="33" y="694"/>
                    </a:lnTo>
                    <a:lnTo>
                      <a:pt x="33" y="598"/>
                    </a:lnTo>
                    <a:lnTo>
                      <a:pt x="31" y="590"/>
                    </a:lnTo>
                    <a:lnTo>
                      <a:pt x="31" y="554"/>
                    </a:lnTo>
                    <a:lnTo>
                      <a:pt x="27" y="495"/>
                    </a:lnTo>
                    <a:lnTo>
                      <a:pt x="25" y="460"/>
                    </a:lnTo>
                    <a:lnTo>
                      <a:pt x="25" y="389"/>
                    </a:lnTo>
                    <a:lnTo>
                      <a:pt x="25" y="353"/>
                    </a:lnTo>
                    <a:lnTo>
                      <a:pt x="25" y="320"/>
                    </a:lnTo>
                    <a:lnTo>
                      <a:pt x="27" y="290"/>
                    </a:lnTo>
                    <a:lnTo>
                      <a:pt x="29" y="262"/>
                    </a:lnTo>
                    <a:lnTo>
                      <a:pt x="52" y="205"/>
                    </a:lnTo>
                    <a:lnTo>
                      <a:pt x="73" y="176"/>
                    </a:lnTo>
                    <a:lnTo>
                      <a:pt x="75" y="172"/>
                    </a:lnTo>
                    <a:lnTo>
                      <a:pt x="73" y="154"/>
                    </a:lnTo>
                    <a:lnTo>
                      <a:pt x="92" y="125"/>
                    </a:lnTo>
                    <a:lnTo>
                      <a:pt x="130" y="81"/>
                    </a:lnTo>
                    <a:lnTo>
                      <a:pt x="130" y="79"/>
                    </a:lnTo>
                    <a:lnTo>
                      <a:pt x="132" y="69"/>
                    </a:lnTo>
                    <a:lnTo>
                      <a:pt x="172" y="42"/>
                    </a:lnTo>
                    <a:lnTo>
                      <a:pt x="191" y="6"/>
                    </a:lnTo>
                    <a:lnTo>
                      <a:pt x="243" y="0"/>
                    </a:lnTo>
                    <a:lnTo>
                      <a:pt x="487" y="83"/>
                    </a:lnTo>
                    <a:lnTo>
                      <a:pt x="489" y="83"/>
                    </a:lnTo>
                    <a:lnTo>
                      <a:pt x="491" y="101"/>
                    </a:lnTo>
                    <a:lnTo>
                      <a:pt x="494" y="103"/>
                    </a:lnTo>
                    <a:lnTo>
                      <a:pt x="498" y="103"/>
                    </a:lnTo>
                    <a:lnTo>
                      <a:pt x="502" y="103"/>
                    </a:lnTo>
                    <a:lnTo>
                      <a:pt x="510" y="103"/>
                    </a:lnTo>
                    <a:lnTo>
                      <a:pt x="512" y="195"/>
                    </a:lnTo>
                    <a:lnTo>
                      <a:pt x="512" y="247"/>
                    </a:lnTo>
                    <a:lnTo>
                      <a:pt x="515" y="298"/>
                    </a:lnTo>
                    <a:lnTo>
                      <a:pt x="517" y="353"/>
                    </a:lnTo>
                    <a:lnTo>
                      <a:pt x="521" y="410"/>
                    </a:lnTo>
                    <a:lnTo>
                      <a:pt x="523" y="468"/>
                    </a:lnTo>
                    <a:lnTo>
                      <a:pt x="527" y="529"/>
                    </a:lnTo>
                    <a:lnTo>
                      <a:pt x="535" y="653"/>
                    </a:lnTo>
                    <a:lnTo>
                      <a:pt x="540" y="779"/>
                    </a:lnTo>
                    <a:lnTo>
                      <a:pt x="546" y="911"/>
                    </a:lnTo>
                    <a:lnTo>
                      <a:pt x="550" y="1041"/>
                    </a:lnTo>
                    <a:lnTo>
                      <a:pt x="552" y="1171"/>
                    </a:lnTo>
                    <a:lnTo>
                      <a:pt x="550" y="1299"/>
                    </a:lnTo>
                    <a:lnTo>
                      <a:pt x="544" y="1424"/>
                    </a:lnTo>
                    <a:lnTo>
                      <a:pt x="515" y="1530"/>
                    </a:lnTo>
                    <a:lnTo>
                      <a:pt x="517" y="1654"/>
                    </a:lnTo>
                    <a:lnTo>
                      <a:pt x="435" y="1777"/>
                    </a:lnTo>
                    <a:lnTo>
                      <a:pt x="426" y="1936"/>
                    </a:lnTo>
                    <a:lnTo>
                      <a:pt x="420" y="1942"/>
                    </a:lnTo>
                    <a:lnTo>
                      <a:pt x="374" y="1982"/>
                    </a:lnTo>
                    <a:lnTo>
                      <a:pt x="325" y="2056"/>
                    </a:lnTo>
                    <a:lnTo>
                      <a:pt x="317" y="2060"/>
                    </a:lnTo>
                    <a:lnTo>
                      <a:pt x="290" y="2116"/>
                    </a:lnTo>
                    <a:lnTo>
                      <a:pt x="267" y="2122"/>
                    </a:lnTo>
                    <a:lnTo>
                      <a:pt x="206" y="2129"/>
                    </a:lnTo>
                    <a:lnTo>
                      <a:pt x="199" y="2123"/>
                    </a:lnTo>
                    <a:lnTo>
                      <a:pt x="189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719680" y="39132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0"/>
                    </a:moveTo>
                    <a:lnTo>
                      <a:pt x="10" y="8"/>
                    </a:lnTo>
                    <a:lnTo>
                      <a:pt x="4" y="8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718240" y="390384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16"/>
                    </a:moveTo>
                    <a:lnTo>
                      <a:pt x="6" y="16"/>
                    </a:lnTo>
                    <a:lnTo>
                      <a:pt x="2" y="16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10" y="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611680" y="3683160"/>
                <a:ext cx="111240" cy="223560"/>
              </a:xfrm>
              <a:custGeom>
                <a:avLst/>
                <a:gdLst/>
                <a:ahLst/>
                <a:rect l="l" t="t" r="r" b="b"/>
                <a:pathLst>
                  <a:path w="141" h="282">
                    <a:moveTo>
                      <a:pt x="141" y="278"/>
                    </a:moveTo>
                    <a:lnTo>
                      <a:pt x="133" y="282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1" y="2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603760" y="366228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5"/>
                    </a:moveTo>
                    <a:lnTo>
                      <a:pt x="10" y="2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8" y="0"/>
                    </a:lnTo>
                    <a:lnTo>
                      <a:pt x="17" y="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597640" y="3639960"/>
                <a:ext cx="12600" cy="2412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16" y="28"/>
                    </a:moveTo>
                    <a:lnTo>
                      <a:pt x="8" y="29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594400" y="3619440"/>
                <a:ext cx="9360" cy="20520"/>
              </a:xfrm>
              <a:custGeom>
                <a:avLst/>
                <a:gdLst/>
                <a:ahLst/>
                <a:rect l="l" t="t" r="r" b="b"/>
                <a:pathLst>
                  <a:path w="11" h="28">
                    <a:moveTo>
                      <a:pt x="11" y="28"/>
                    </a:moveTo>
                    <a:lnTo>
                      <a:pt x="3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1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589720" y="3562200"/>
                <a:ext cx="11160" cy="57240"/>
              </a:xfrm>
              <a:custGeom>
                <a:avLst/>
                <a:gdLst/>
                <a:ahLst/>
                <a:rect l="l" t="t" r="r" b="b"/>
                <a:pathLst>
                  <a:path w="13" h="71">
                    <a:moveTo>
                      <a:pt x="13" y="71"/>
                    </a:moveTo>
                    <a:lnTo>
                      <a:pt x="6" y="71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3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586480" y="350820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13" h="69">
                    <a:moveTo>
                      <a:pt x="13" y="69"/>
                    </a:moveTo>
                    <a:lnTo>
                      <a:pt x="6" y="6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3" y="6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584680" y="3454560"/>
                <a:ext cx="6480" cy="53640"/>
              </a:xfrm>
              <a:custGeom>
                <a:avLst/>
                <a:gdLst/>
                <a:ahLst/>
                <a:rect l="l" t="t" r="r" b="b"/>
                <a:pathLst>
                  <a:path w="10" h="67">
                    <a:moveTo>
                      <a:pt x="10" y="67"/>
                    </a:moveTo>
                    <a:lnTo>
                      <a:pt x="2" y="6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583240" y="3403440"/>
                <a:ext cx="6480" cy="51120"/>
              </a:xfrm>
              <a:custGeom>
                <a:avLst/>
                <a:gdLst/>
                <a:ahLst/>
                <a:rect l="l" t="t" r="r" b="b"/>
                <a:pathLst>
                  <a:path w="10" h="65">
                    <a:moveTo>
                      <a:pt x="10" y="65"/>
                    </a:moveTo>
                    <a:lnTo>
                      <a:pt x="2" y="6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583240" y="3351240"/>
                <a:ext cx="6480" cy="52200"/>
              </a:xfrm>
              <a:custGeom>
                <a:avLst/>
                <a:gdLst/>
                <a:ahLst/>
                <a:rect l="l" t="t" r="r" b="b"/>
                <a:pathLst>
                  <a:path w="10" h="65">
                    <a:moveTo>
                      <a:pt x="8" y="65"/>
                    </a:moveTo>
                    <a:lnTo>
                      <a:pt x="0" y="6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0" y="0"/>
                    </a:lnTo>
                    <a:lnTo>
                      <a:pt x="8" y="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584680" y="3301920"/>
                <a:ext cx="6480" cy="49320"/>
              </a:xfrm>
              <a:custGeom>
                <a:avLst/>
                <a:gdLst/>
                <a:ahLst/>
                <a:rect l="l" t="t" r="r" b="b"/>
                <a:pathLst>
                  <a:path w="10" h="63">
                    <a:moveTo>
                      <a:pt x="8" y="63"/>
                    </a:moveTo>
                    <a:lnTo>
                      <a:pt x="0" y="6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0" y="0"/>
                    </a:lnTo>
                    <a:lnTo>
                      <a:pt x="8" y="6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586480" y="3198960"/>
                <a:ext cx="9360" cy="102960"/>
              </a:xfrm>
              <a:custGeom>
                <a:avLst/>
                <a:gdLst/>
                <a:ahLst/>
                <a:rect l="l" t="t" r="r" b="b"/>
                <a:pathLst>
                  <a:path w="13" h="130">
                    <a:moveTo>
                      <a:pt x="8" y="130"/>
                    </a:moveTo>
                    <a:lnTo>
                      <a:pt x="0" y="13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8" y="1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89720" y="3146400"/>
                <a:ext cx="9360" cy="52560"/>
              </a:xfrm>
              <a:custGeom>
                <a:avLst/>
                <a:gdLst/>
                <a:ahLst/>
                <a:rect l="l" t="t" r="r" b="b"/>
                <a:pathLst>
                  <a:path w="11" h="65">
                    <a:moveTo>
                      <a:pt x="7" y="65"/>
                    </a:moveTo>
                    <a:lnTo>
                      <a:pt x="0" y="65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592600" y="3092400"/>
                <a:ext cx="9720" cy="54000"/>
              </a:xfrm>
              <a:custGeom>
                <a:avLst/>
                <a:gdLst/>
                <a:ahLst/>
                <a:rect l="l" t="t" r="r" b="b"/>
                <a:pathLst>
                  <a:path w="11" h="67">
                    <a:moveTo>
                      <a:pt x="7" y="67"/>
                    </a:moveTo>
                    <a:lnTo>
                      <a:pt x="0" y="67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595840" y="3038400"/>
                <a:ext cx="9720" cy="54000"/>
              </a:xfrm>
              <a:custGeom>
                <a:avLst/>
                <a:gdLst/>
                <a:ahLst/>
                <a:rect l="l" t="t" r="r" b="b"/>
                <a:pathLst>
                  <a:path w="12" h="69">
                    <a:moveTo>
                      <a:pt x="8" y="69"/>
                    </a:moveTo>
                    <a:lnTo>
                      <a:pt x="0" y="6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2" y="0"/>
                    </a:lnTo>
                    <a:lnTo>
                      <a:pt x="8" y="6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9080" y="2982960"/>
                <a:ext cx="9720" cy="55440"/>
              </a:xfrm>
              <a:custGeom>
                <a:avLst/>
                <a:gdLst/>
                <a:ahLst/>
                <a:rect l="l" t="t" r="r" b="b"/>
                <a:pathLst>
                  <a:path w="12" h="69">
                    <a:moveTo>
                      <a:pt x="8" y="69"/>
                    </a:moveTo>
                    <a:lnTo>
                      <a:pt x="0" y="69"/>
                    </a:lnTo>
                    <a:lnTo>
                      <a:pt x="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8" y="6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602320" y="2925720"/>
                <a:ext cx="9360" cy="57240"/>
              </a:xfrm>
              <a:custGeom>
                <a:avLst/>
                <a:gdLst/>
                <a:ahLst/>
                <a:rect l="l" t="t" r="r" b="b"/>
                <a:pathLst>
                  <a:path w="12" h="73">
                    <a:moveTo>
                      <a:pt x="8" y="73"/>
                    </a:moveTo>
                    <a:lnTo>
                      <a:pt x="0" y="73"/>
                    </a:lnTo>
                    <a:lnTo>
                      <a:pt x="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8" y="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605560" y="2867040"/>
                <a:ext cx="7920" cy="58680"/>
              </a:xfrm>
              <a:custGeom>
                <a:avLst/>
                <a:gdLst/>
                <a:ahLst/>
                <a:rect l="l" t="t" r="r" b="b"/>
                <a:pathLst>
                  <a:path w="9" h="75">
                    <a:moveTo>
                      <a:pt x="8" y="75"/>
                    </a:moveTo>
                    <a:lnTo>
                      <a:pt x="0" y="75"/>
                    </a:lnTo>
                    <a:lnTo>
                      <a:pt x="2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607000" y="2803680"/>
                <a:ext cx="7920" cy="63360"/>
              </a:xfrm>
              <a:custGeom>
                <a:avLst/>
                <a:gdLst/>
                <a:ahLst/>
                <a:rect l="l" t="t" r="r" b="b"/>
                <a:pathLst>
                  <a:path w="9" h="79">
                    <a:moveTo>
                      <a:pt x="7" y="79"/>
                    </a:moveTo>
                    <a:lnTo>
                      <a:pt x="0" y="79"/>
                    </a:lnTo>
                    <a:lnTo>
                      <a:pt x="2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7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608800" y="2727360"/>
                <a:ext cx="6120" cy="76320"/>
              </a:xfrm>
              <a:custGeom>
                <a:avLst/>
                <a:gdLst/>
                <a:ahLst/>
                <a:rect l="l" t="t" r="r" b="b"/>
                <a:pathLst>
                  <a:path w="7" h="96">
                    <a:moveTo>
                      <a:pt x="7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607000" y="27208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8"/>
                    </a:moveTo>
                    <a:lnTo>
                      <a:pt x="2" y="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9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607000" y="269244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7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603760" y="264636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11" y="59"/>
                    </a:moveTo>
                    <a:lnTo>
                      <a:pt x="4" y="5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1" y="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602320" y="2617920"/>
                <a:ext cx="7920" cy="28440"/>
              </a:xfrm>
              <a:custGeom>
                <a:avLst/>
                <a:gdLst/>
                <a:ahLst/>
                <a:rect l="l" t="t" r="r" b="b"/>
                <a:pathLst>
                  <a:path w="10" h="35">
                    <a:moveTo>
                      <a:pt x="10" y="35"/>
                    </a:moveTo>
                    <a:lnTo>
                      <a:pt x="2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602320" y="2560680"/>
                <a:ext cx="6480" cy="57240"/>
              </a:xfrm>
              <a:custGeom>
                <a:avLst/>
                <a:gdLst/>
                <a:ahLst/>
                <a:rect l="l" t="t" r="r" b="b"/>
                <a:pathLst>
                  <a:path w="8" h="71">
                    <a:moveTo>
                      <a:pt x="8" y="71"/>
                    </a:moveTo>
                    <a:lnTo>
                      <a:pt x="0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602320" y="253368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8" h="36">
                    <a:moveTo>
                      <a:pt x="8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602320" y="250668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33"/>
                    </a:moveTo>
                    <a:lnTo>
                      <a:pt x="0" y="3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02320" y="2482920"/>
                <a:ext cx="7920" cy="2376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8" y="30"/>
                    </a:moveTo>
                    <a:lnTo>
                      <a:pt x="0" y="3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0" y="0"/>
                    </a:lnTo>
                    <a:lnTo>
                      <a:pt x="8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603760" y="2459160"/>
                <a:ext cx="7920" cy="2376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8" y="29"/>
                    </a:moveTo>
                    <a:lnTo>
                      <a:pt x="0" y="29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10" y="3"/>
                    </a:lnTo>
                    <a:lnTo>
                      <a:pt x="8" y="2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607000" y="241452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28" h="61">
                    <a:moveTo>
                      <a:pt x="6" y="61"/>
                    </a:moveTo>
                    <a:lnTo>
                      <a:pt x="0" y="5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8" y="4"/>
                    </a:lnTo>
                    <a:lnTo>
                      <a:pt x="6" y="6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624640" y="2390760"/>
                <a:ext cx="21960" cy="2700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5" y="33"/>
                    </a:moveTo>
                    <a:lnTo>
                      <a:pt x="0" y="29"/>
                    </a:lnTo>
                    <a:lnTo>
                      <a:pt x="21" y="0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5" y="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641920" y="23893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640480" y="237348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9" y="20"/>
                    </a:moveTo>
                    <a:lnTo>
                      <a:pt x="2" y="2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7" y="4"/>
                    </a:lnTo>
                    <a:lnTo>
                      <a:pt x="9" y="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641920" y="234936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5" y="33"/>
                    </a:moveTo>
                    <a:lnTo>
                      <a:pt x="0" y="29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5" y="3"/>
                    </a:lnTo>
                    <a:lnTo>
                      <a:pt x="5" y="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656320" y="231624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6" y="47"/>
                    </a:moveTo>
                    <a:lnTo>
                      <a:pt x="0" y="44"/>
                    </a:lnTo>
                    <a:lnTo>
                      <a:pt x="38" y="0"/>
                    </a:lnTo>
                    <a:lnTo>
                      <a:pt x="40" y="2"/>
                    </a:lnTo>
                    <a:lnTo>
                      <a:pt x="44" y="2"/>
                    </a:lnTo>
                    <a:lnTo>
                      <a:pt x="42" y="4"/>
                    </a:lnTo>
                    <a:lnTo>
                      <a:pt x="6" y="4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86560" y="2316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686560" y="230652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8" y="12"/>
                    </a:moveTo>
                    <a:lnTo>
                      <a:pt x="0" y="1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10" y="4"/>
                    </a:lnTo>
                    <a:lnTo>
                      <a:pt x="8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688000" y="2284560"/>
                <a:ext cx="36360" cy="252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6" y="31"/>
                    </a:moveTo>
                    <a:lnTo>
                      <a:pt x="0" y="27"/>
                    </a:lnTo>
                    <a:lnTo>
                      <a:pt x="40" y="0"/>
                    </a:lnTo>
                    <a:lnTo>
                      <a:pt x="46" y="4"/>
                    </a:lnTo>
                    <a:lnTo>
                      <a:pt x="44" y="6"/>
                    </a:lnTo>
                    <a:lnTo>
                      <a:pt x="6" y="3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719680" y="2254320"/>
                <a:ext cx="19080" cy="33120"/>
              </a:xfrm>
              <a:custGeom>
                <a:avLst/>
                <a:gdLst/>
                <a:ahLst/>
                <a:rect l="l" t="t" r="r" b="b"/>
                <a:pathLst>
                  <a:path w="23" h="42">
                    <a:moveTo>
                      <a:pt x="6" y="42"/>
                    </a:moveTo>
                    <a:lnTo>
                      <a:pt x="0" y="38"/>
                    </a:lnTo>
                    <a:lnTo>
                      <a:pt x="19" y="2"/>
                    </a:lnTo>
                    <a:lnTo>
                      <a:pt x="21" y="0"/>
                    </a:lnTo>
                    <a:lnTo>
                      <a:pt x="23" y="8"/>
                    </a:lnTo>
                    <a:lnTo>
                      <a:pt x="6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737320" y="2249640"/>
                <a:ext cx="42840" cy="1080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2" y="14"/>
                    </a:moveTo>
                    <a:lnTo>
                      <a:pt x="0" y="6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2" y="8"/>
                    </a:lnTo>
                    <a:lnTo>
                      <a:pt x="2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778360" y="2249640"/>
                <a:ext cx="193680" cy="72720"/>
              </a:xfrm>
              <a:custGeom>
                <a:avLst/>
                <a:gdLst/>
                <a:ahLst/>
                <a:rect l="l" t="t" r="r" b="b"/>
                <a:pathLst>
                  <a:path w="244" h="91">
                    <a:moveTo>
                      <a:pt x="0" y="8"/>
                    </a:moveTo>
                    <a:lnTo>
                      <a:pt x="1" y="0"/>
                    </a:lnTo>
                    <a:lnTo>
                      <a:pt x="244" y="83"/>
                    </a:lnTo>
                    <a:lnTo>
                      <a:pt x="244" y="91"/>
                    </a:lnTo>
                    <a:lnTo>
                      <a:pt x="244" y="91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972040" y="231624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4"/>
                    </a:lnTo>
                    <a:lnTo>
                      <a:pt x="2" y="4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970600" y="231948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9" y="16"/>
                    </a:lnTo>
                    <a:lnTo>
                      <a:pt x="4" y="22"/>
                    </a:lnTo>
                    <a:lnTo>
                      <a:pt x="2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973840" y="23302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6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978520" y="23302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8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981760" y="233028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8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985000" y="23302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8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986440" y="2333520"/>
                <a:ext cx="7920" cy="74880"/>
              </a:xfrm>
              <a:custGeom>
                <a:avLst/>
                <a:gdLst/>
                <a:ahLst/>
                <a:rect l="l" t="t" r="r" b="b"/>
                <a:pathLst>
                  <a:path w="9" h="92">
                    <a:moveTo>
                      <a:pt x="0" y="4"/>
                    </a:moveTo>
                    <a:lnTo>
                      <a:pt x="8" y="0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2" y="92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987880" y="2408400"/>
                <a:ext cx="6480" cy="39600"/>
              </a:xfrm>
              <a:custGeom>
                <a:avLst/>
                <a:gdLst/>
                <a:ahLst/>
                <a:rect l="l" t="t" r="r" b="b"/>
                <a:pathLst>
                  <a:path w="7" h="52">
                    <a:moveTo>
                      <a:pt x="0" y="0"/>
                    </a:moveTo>
                    <a:lnTo>
                      <a:pt x="7" y="0"/>
                    </a:lnTo>
                    <a:lnTo>
                      <a:pt x="7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987880" y="2448000"/>
                <a:ext cx="9720" cy="41040"/>
              </a:xfrm>
              <a:custGeom>
                <a:avLst/>
                <a:gdLst/>
                <a:ahLst/>
                <a:rect l="l" t="t" r="r" b="b"/>
                <a:pathLst>
                  <a:path w="11" h="51">
                    <a:moveTo>
                      <a:pt x="0" y="0"/>
                    </a:moveTo>
                    <a:lnTo>
                      <a:pt x="7" y="0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4" y="5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991120" y="2489040"/>
                <a:ext cx="7920" cy="44640"/>
              </a:xfrm>
              <a:custGeom>
                <a:avLst/>
                <a:gdLst/>
                <a:ahLst/>
                <a:rect l="l" t="t" r="r" b="b"/>
                <a:pathLst>
                  <a:path w="9" h="55">
                    <a:moveTo>
                      <a:pt x="0" y="0"/>
                    </a:moveTo>
                    <a:lnTo>
                      <a:pt x="7" y="0"/>
                    </a:lnTo>
                    <a:lnTo>
                      <a:pt x="9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992920" y="2533680"/>
                <a:ext cx="9360" cy="442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0" y="0"/>
                    </a:moveTo>
                    <a:lnTo>
                      <a:pt x="7" y="0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3" y="57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996160" y="257796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0" h="58">
                    <a:moveTo>
                      <a:pt x="0" y="0"/>
                    </a:moveTo>
                    <a:lnTo>
                      <a:pt x="8" y="0"/>
                    </a:lnTo>
                    <a:lnTo>
                      <a:pt x="10" y="58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997600" y="2624040"/>
                <a:ext cx="9360" cy="47880"/>
              </a:xfrm>
              <a:custGeom>
                <a:avLst/>
                <a:gdLst/>
                <a:ahLst/>
                <a:rect l="l" t="t" r="r" b="b"/>
                <a:pathLst>
                  <a:path w="12" h="61">
                    <a:moveTo>
                      <a:pt x="0" y="0"/>
                    </a:moveTo>
                    <a:lnTo>
                      <a:pt x="8" y="0"/>
                    </a:lnTo>
                    <a:lnTo>
                      <a:pt x="12" y="61"/>
                    </a:lnTo>
                    <a:lnTo>
                      <a:pt x="12" y="61"/>
                    </a:lnTo>
                    <a:lnTo>
                      <a:pt x="4" y="6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000840" y="2671920"/>
                <a:ext cx="12600" cy="98280"/>
              </a:xfrm>
              <a:custGeom>
                <a:avLst/>
                <a:gdLst/>
                <a:ahLst/>
                <a:rect l="l" t="t" r="r" b="b"/>
                <a:pathLst>
                  <a:path w="15" h="124">
                    <a:moveTo>
                      <a:pt x="0" y="0"/>
                    </a:moveTo>
                    <a:lnTo>
                      <a:pt x="8" y="0"/>
                    </a:lnTo>
                    <a:lnTo>
                      <a:pt x="15" y="124"/>
                    </a:lnTo>
                    <a:lnTo>
                      <a:pt x="15" y="124"/>
                    </a:lnTo>
                    <a:lnTo>
                      <a:pt x="8" y="12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006960" y="2770200"/>
                <a:ext cx="11160" cy="100080"/>
              </a:xfrm>
              <a:custGeom>
                <a:avLst/>
                <a:gdLst/>
                <a:ahLst/>
                <a:rect l="l" t="t" r="r" b="b"/>
                <a:pathLst>
                  <a:path w="13" h="126">
                    <a:moveTo>
                      <a:pt x="0" y="0"/>
                    </a:moveTo>
                    <a:lnTo>
                      <a:pt x="7" y="0"/>
                    </a:lnTo>
                    <a:lnTo>
                      <a:pt x="13" y="126"/>
                    </a:lnTo>
                    <a:lnTo>
                      <a:pt x="13" y="126"/>
                    </a:lnTo>
                    <a:lnTo>
                      <a:pt x="5" y="12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012000" y="2870280"/>
                <a:ext cx="9360" cy="106200"/>
              </a:xfrm>
              <a:custGeom>
                <a:avLst/>
                <a:gdLst/>
                <a:ahLst/>
                <a:rect l="l" t="t" r="r" b="b"/>
                <a:pathLst>
                  <a:path w="14" h="132">
                    <a:moveTo>
                      <a:pt x="0" y="0"/>
                    </a:moveTo>
                    <a:lnTo>
                      <a:pt x="8" y="0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6" y="13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6016680" y="2976480"/>
              <a:ext cx="7920" cy="103320"/>
            </a:xfrm>
            <a:custGeom>
              <a:avLst/>
              <a:gdLst/>
              <a:ahLst/>
              <a:rect l="l" t="t" r="r" b="b"/>
              <a:pathLst>
                <a:path w="12" h="130">
                  <a:moveTo>
                    <a:pt x="0" y="0"/>
                  </a:moveTo>
                  <a:lnTo>
                    <a:pt x="8" y="0"/>
                  </a:lnTo>
                  <a:lnTo>
                    <a:pt x="12" y="130"/>
                  </a:lnTo>
                  <a:lnTo>
                    <a:pt x="12" y="130"/>
                  </a:lnTo>
                  <a:lnTo>
                    <a:pt x="4" y="13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18120" y="3079800"/>
              <a:ext cx="7920" cy="102960"/>
            </a:xfrm>
            <a:custGeom>
              <a:avLst/>
              <a:gdLst/>
              <a:ahLst/>
              <a:rect l="l" t="t" r="r" b="b"/>
              <a:pathLst>
                <a:path w="10" h="130">
                  <a:moveTo>
                    <a:pt x="0" y="0"/>
                  </a:moveTo>
                  <a:lnTo>
                    <a:pt x="8" y="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2" y="13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018120" y="3182760"/>
              <a:ext cx="7920" cy="101880"/>
            </a:xfrm>
            <a:custGeom>
              <a:avLst/>
              <a:gdLst/>
              <a:ahLst/>
              <a:rect l="l" t="t" r="r" b="b"/>
              <a:pathLst>
                <a:path w="10" h="128">
                  <a:moveTo>
                    <a:pt x="2" y="0"/>
                  </a:moveTo>
                  <a:lnTo>
                    <a:pt x="10" y="0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0" y="128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14880" y="3284640"/>
              <a:ext cx="9720" cy="100080"/>
            </a:xfrm>
            <a:custGeom>
              <a:avLst/>
              <a:gdLst/>
              <a:ahLst/>
              <a:rect l="l" t="t" r="r" b="b"/>
              <a:pathLst>
                <a:path w="14" h="127">
                  <a:moveTo>
                    <a:pt x="6" y="0"/>
                  </a:moveTo>
                  <a:lnTo>
                    <a:pt x="14" y="0"/>
                  </a:lnTo>
                  <a:lnTo>
                    <a:pt x="8" y="125"/>
                  </a:lnTo>
                  <a:lnTo>
                    <a:pt x="8" y="127"/>
                  </a:lnTo>
                  <a:lnTo>
                    <a:pt x="0" y="125"/>
                  </a:ln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991120" y="3382920"/>
              <a:ext cx="28800" cy="84240"/>
            </a:xfrm>
            <a:custGeom>
              <a:avLst/>
              <a:gdLst/>
              <a:ahLst/>
              <a:rect l="l" t="t" r="r" b="b"/>
              <a:pathLst>
                <a:path w="36" h="106">
                  <a:moveTo>
                    <a:pt x="28" y="0"/>
                  </a:moveTo>
                  <a:lnTo>
                    <a:pt x="36" y="2"/>
                  </a:lnTo>
                  <a:lnTo>
                    <a:pt x="7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991120" y="3467160"/>
              <a:ext cx="7920" cy="100080"/>
            </a:xfrm>
            <a:custGeom>
              <a:avLst/>
              <a:gdLst/>
              <a:ahLst/>
              <a:rect l="l" t="t" r="r" b="b"/>
              <a:pathLst>
                <a:path w="9" h="126">
                  <a:moveTo>
                    <a:pt x="0" y="0"/>
                  </a:moveTo>
                  <a:lnTo>
                    <a:pt x="7" y="0"/>
                  </a:lnTo>
                  <a:lnTo>
                    <a:pt x="9" y="124"/>
                  </a:lnTo>
                  <a:lnTo>
                    <a:pt x="9" y="126"/>
                  </a:lnTo>
                  <a:lnTo>
                    <a:pt x="2" y="1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27760" y="3565440"/>
              <a:ext cx="71280" cy="98640"/>
            </a:xfrm>
            <a:custGeom>
              <a:avLst/>
              <a:gdLst/>
              <a:ahLst/>
              <a:rect l="l" t="t" r="r" b="b"/>
              <a:pathLst>
                <a:path w="90" h="124">
                  <a:moveTo>
                    <a:pt x="83" y="0"/>
                  </a:moveTo>
                  <a:lnTo>
                    <a:pt x="90" y="2"/>
                  </a:lnTo>
                  <a:lnTo>
                    <a:pt x="8" y="124"/>
                  </a:lnTo>
                  <a:lnTo>
                    <a:pt x="0" y="123"/>
                  </a:lnTo>
                  <a:lnTo>
                    <a:pt x="2" y="121"/>
                  </a:lnTo>
                  <a:lnTo>
                    <a:pt x="83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919840" y="3662280"/>
              <a:ext cx="14400" cy="128520"/>
            </a:xfrm>
            <a:custGeom>
              <a:avLst/>
              <a:gdLst/>
              <a:ahLst/>
              <a:rect l="l" t="t" r="r" b="b"/>
              <a:pathLst>
                <a:path w="17" h="161">
                  <a:moveTo>
                    <a:pt x="9" y="0"/>
                  </a:moveTo>
                  <a:lnTo>
                    <a:pt x="17" y="1"/>
                  </a:lnTo>
                  <a:lnTo>
                    <a:pt x="8" y="159"/>
                  </a:lnTo>
                  <a:lnTo>
                    <a:pt x="6" y="161"/>
                  </a:lnTo>
                  <a:lnTo>
                    <a:pt x="0" y="157"/>
                  </a:lnTo>
                  <a:lnTo>
                    <a:pt x="9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18040" y="3787920"/>
              <a:ext cx="6480" cy="79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0"/>
                  </a:moveTo>
                  <a:lnTo>
                    <a:pt x="10" y="4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881680" y="3792600"/>
              <a:ext cx="38160" cy="3492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46" y="0"/>
                  </a:moveTo>
                  <a:lnTo>
                    <a:pt x="50" y="4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6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42080" y="3824280"/>
              <a:ext cx="42840" cy="63360"/>
            </a:xfrm>
            <a:custGeom>
              <a:avLst/>
              <a:gdLst/>
              <a:ahLst/>
              <a:rect l="l" t="t" r="r" b="b"/>
              <a:pathLst>
                <a:path w="53" h="80">
                  <a:moveTo>
                    <a:pt x="49" y="0"/>
                  </a:moveTo>
                  <a:lnTo>
                    <a:pt x="53" y="4"/>
                  </a:lnTo>
                  <a:lnTo>
                    <a:pt x="5" y="78"/>
                  </a:lnTo>
                  <a:lnTo>
                    <a:pt x="3" y="80"/>
                  </a:lnTo>
                  <a:lnTo>
                    <a:pt x="0" y="74"/>
                  </a:lnTo>
                  <a:lnTo>
                    <a:pt x="49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35600" y="3882960"/>
              <a:ext cx="9720" cy="64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8" y="0"/>
                  </a:moveTo>
                  <a:lnTo>
                    <a:pt x="11" y="6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815080" y="3886200"/>
              <a:ext cx="23760" cy="49320"/>
            </a:xfrm>
            <a:custGeom>
              <a:avLst/>
              <a:gdLst/>
              <a:ahLst/>
              <a:rect l="l" t="t" r="r" b="b"/>
              <a:pathLst>
                <a:path w="31" h="62">
                  <a:moveTo>
                    <a:pt x="27" y="0"/>
                  </a:moveTo>
                  <a:lnTo>
                    <a:pt x="31" y="4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797440" y="3930480"/>
              <a:ext cx="20880" cy="972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21" y="0"/>
                  </a:moveTo>
                  <a:lnTo>
                    <a:pt x="25" y="6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4"/>
                  </a:lnTo>
                  <a:lnTo>
                    <a:pt x="21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748480" y="3933720"/>
              <a:ext cx="48960" cy="1296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63" y="0"/>
                  </a:moveTo>
                  <a:lnTo>
                    <a:pt x="63" y="7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4" y="7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2000" y="3936960"/>
              <a:ext cx="9360" cy="9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3"/>
                  </a:moveTo>
                  <a:lnTo>
                    <a:pt x="7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734080" y="3914640"/>
              <a:ext cx="12600" cy="255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5" y="28"/>
                  </a:moveTo>
                  <a:lnTo>
                    <a:pt x="10" y="31"/>
                  </a:lnTo>
                  <a:lnTo>
                    <a:pt x="0" y="8"/>
                  </a:lnTo>
                  <a:lnTo>
                    <a:pt x="2" y="0"/>
                  </a:lnTo>
                  <a:lnTo>
                    <a:pt x="6" y="4"/>
                  </a:lnTo>
                  <a:lnTo>
                    <a:pt x="15" y="28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26160" y="3913200"/>
              <a:ext cx="9360" cy="79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2"/>
                  </a:moveTo>
                  <a:lnTo>
                    <a:pt x="9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791240" y="2050920"/>
              <a:ext cx="502920" cy="1646280"/>
            </a:xfrm>
            <a:custGeom>
              <a:avLst/>
              <a:gdLst/>
              <a:ahLst/>
              <a:rect l="l" t="t" r="r" b="b"/>
              <a:pathLst>
                <a:path w="636" h="2074">
                  <a:moveTo>
                    <a:pt x="315" y="1963"/>
                  </a:moveTo>
                  <a:lnTo>
                    <a:pt x="307" y="1934"/>
                  </a:lnTo>
                  <a:lnTo>
                    <a:pt x="260" y="1611"/>
                  </a:lnTo>
                  <a:lnTo>
                    <a:pt x="298" y="1561"/>
                  </a:lnTo>
                  <a:lnTo>
                    <a:pt x="330" y="1506"/>
                  </a:lnTo>
                  <a:lnTo>
                    <a:pt x="357" y="1494"/>
                  </a:lnTo>
                  <a:lnTo>
                    <a:pt x="380" y="1467"/>
                  </a:lnTo>
                  <a:lnTo>
                    <a:pt x="378" y="1461"/>
                  </a:lnTo>
                  <a:lnTo>
                    <a:pt x="376" y="1453"/>
                  </a:lnTo>
                  <a:lnTo>
                    <a:pt x="342" y="1398"/>
                  </a:lnTo>
                  <a:lnTo>
                    <a:pt x="273" y="1317"/>
                  </a:lnTo>
                  <a:lnTo>
                    <a:pt x="227" y="1268"/>
                  </a:lnTo>
                  <a:lnTo>
                    <a:pt x="223" y="1266"/>
                  </a:lnTo>
                  <a:lnTo>
                    <a:pt x="220" y="1260"/>
                  </a:lnTo>
                  <a:lnTo>
                    <a:pt x="160" y="1173"/>
                  </a:lnTo>
                  <a:lnTo>
                    <a:pt x="118" y="1059"/>
                  </a:lnTo>
                  <a:lnTo>
                    <a:pt x="107" y="1015"/>
                  </a:lnTo>
                  <a:lnTo>
                    <a:pt x="97" y="972"/>
                  </a:lnTo>
                  <a:lnTo>
                    <a:pt x="80" y="883"/>
                  </a:lnTo>
                  <a:lnTo>
                    <a:pt x="67" y="794"/>
                  </a:lnTo>
                  <a:lnTo>
                    <a:pt x="61" y="751"/>
                  </a:lnTo>
                  <a:lnTo>
                    <a:pt x="55" y="710"/>
                  </a:lnTo>
                  <a:lnTo>
                    <a:pt x="50" y="670"/>
                  </a:lnTo>
                  <a:lnTo>
                    <a:pt x="42" y="629"/>
                  </a:lnTo>
                  <a:lnTo>
                    <a:pt x="42" y="623"/>
                  </a:lnTo>
                  <a:lnTo>
                    <a:pt x="40" y="615"/>
                  </a:lnTo>
                  <a:lnTo>
                    <a:pt x="36" y="593"/>
                  </a:lnTo>
                  <a:lnTo>
                    <a:pt x="29" y="554"/>
                  </a:lnTo>
                  <a:lnTo>
                    <a:pt x="23" y="524"/>
                  </a:lnTo>
                  <a:lnTo>
                    <a:pt x="17" y="491"/>
                  </a:lnTo>
                  <a:lnTo>
                    <a:pt x="2" y="384"/>
                  </a:lnTo>
                  <a:lnTo>
                    <a:pt x="0" y="351"/>
                  </a:lnTo>
                  <a:lnTo>
                    <a:pt x="10" y="258"/>
                  </a:lnTo>
                  <a:lnTo>
                    <a:pt x="25" y="239"/>
                  </a:lnTo>
                  <a:lnTo>
                    <a:pt x="40" y="235"/>
                  </a:lnTo>
                  <a:lnTo>
                    <a:pt x="52" y="209"/>
                  </a:lnTo>
                  <a:lnTo>
                    <a:pt x="55" y="205"/>
                  </a:lnTo>
                  <a:lnTo>
                    <a:pt x="73" y="144"/>
                  </a:lnTo>
                  <a:lnTo>
                    <a:pt x="94" y="112"/>
                  </a:lnTo>
                  <a:lnTo>
                    <a:pt x="99" y="110"/>
                  </a:lnTo>
                  <a:lnTo>
                    <a:pt x="120" y="91"/>
                  </a:lnTo>
                  <a:lnTo>
                    <a:pt x="139" y="69"/>
                  </a:lnTo>
                  <a:lnTo>
                    <a:pt x="139" y="49"/>
                  </a:lnTo>
                  <a:lnTo>
                    <a:pt x="170" y="6"/>
                  </a:lnTo>
                  <a:lnTo>
                    <a:pt x="179" y="0"/>
                  </a:lnTo>
                  <a:lnTo>
                    <a:pt x="200" y="0"/>
                  </a:lnTo>
                  <a:lnTo>
                    <a:pt x="431" y="108"/>
                  </a:lnTo>
                  <a:lnTo>
                    <a:pt x="475" y="158"/>
                  </a:lnTo>
                  <a:lnTo>
                    <a:pt x="485" y="185"/>
                  </a:lnTo>
                  <a:lnTo>
                    <a:pt x="504" y="250"/>
                  </a:lnTo>
                  <a:lnTo>
                    <a:pt x="508" y="266"/>
                  </a:lnTo>
                  <a:lnTo>
                    <a:pt x="517" y="313"/>
                  </a:lnTo>
                  <a:lnTo>
                    <a:pt x="519" y="377"/>
                  </a:lnTo>
                  <a:lnTo>
                    <a:pt x="611" y="944"/>
                  </a:lnTo>
                  <a:lnTo>
                    <a:pt x="618" y="996"/>
                  </a:lnTo>
                  <a:lnTo>
                    <a:pt x="626" y="1049"/>
                  </a:lnTo>
                  <a:lnTo>
                    <a:pt x="632" y="1100"/>
                  </a:lnTo>
                  <a:lnTo>
                    <a:pt x="636" y="1149"/>
                  </a:lnTo>
                  <a:lnTo>
                    <a:pt x="617" y="1205"/>
                  </a:lnTo>
                  <a:lnTo>
                    <a:pt x="605" y="1220"/>
                  </a:lnTo>
                  <a:lnTo>
                    <a:pt x="601" y="1220"/>
                  </a:lnTo>
                  <a:lnTo>
                    <a:pt x="599" y="1222"/>
                  </a:lnTo>
                  <a:lnTo>
                    <a:pt x="597" y="1224"/>
                  </a:lnTo>
                  <a:lnTo>
                    <a:pt x="597" y="1228"/>
                  </a:lnTo>
                  <a:lnTo>
                    <a:pt x="548" y="1275"/>
                  </a:lnTo>
                  <a:lnTo>
                    <a:pt x="534" y="1358"/>
                  </a:lnTo>
                  <a:lnTo>
                    <a:pt x="534" y="1396"/>
                  </a:lnTo>
                  <a:lnTo>
                    <a:pt x="536" y="1431"/>
                  </a:lnTo>
                  <a:lnTo>
                    <a:pt x="578" y="1595"/>
                  </a:lnTo>
                  <a:lnTo>
                    <a:pt x="580" y="1642"/>
                  </a:lnTo>
                  <a:lnTo>
                    <a:pt x="578" y="1743"/>
                  </a:lnTo>
                  <a:lnTo>
                    <a:pt x="565" y="1914"/>
                  </a:lnTo>
                  <a:lnTo>
                    <a:pt x="536" y="2021"/>
                  </a:lnTo>
                  <a:lnTo>
                    <a:pt x="536" y="2029"/>
                  </a:lnTo>
                  <a:lnTo>
                    <a:pt x="534" y="2034"/>
                  </a:lnTo>
                  <a:lnTo>
                    <a:pt x="504" y="2040"/>
                  </a:lnTo>
                  <a:lnTo>
                    <a:pt x="500" y="2042"/>
                  </a:lnTo>
                  <a:lnTo>
                    <a:pt x="498" y="2046"/>
                  </a:lnTo>
                  <a:lnTo>
                    <a:pt x="498" y="2062"/>
                  </a:lnTo>
                  <a:lnTo>
                    <a:pt x="414" y="2074"/>
                  </a:lnTo>
                  <a:lnTo>
                    <a:pt x="407" y="2070"/>
                  </a:lnTo>
                  <a:lnTo>
                    <a:pt x="315" y="1963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992840" y="3327480"/>
              <a:ext cx="44280" cy="258840"/>
            </a:xfrm>
            <a:custGeom>
              <a:avLst/>
              <a:gdLst/>
              <a:ahLst/>
              <a:rect l="l" t="t" r="r" b="b"/>
              <a:pathLst>
                <a:path w="55" h="325">
                  <a:moveTo>
                    <a:pt x="55" y="325"/>
                  </a:moveTo>
                  <a:lnTo>
                    <a:pt x="48" y="325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4"/>
                  </a:lnTo>
                  <a:lnTo>
                    <a:pt x="55" y="325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994280" y="3289320"/>
              <a:ext cx="34920" cy="4140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5" y="54"/>
                  </a:moveTo>
                  <a:lnTo>
                    <a:pt x="0" y="5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5" y="54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024520" y="3244680"/>
              <a:ext cx="30240" cy="4788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6" y="59"/>
                  </a:moveTo>
                  <a:lnTo>
                    <a:pt x="0" y="5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6" y="6"/>
                  </a:lnTo>
                  <a:lnTo>
                    <a:pt x="6" y="59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051520" y="3235320"/>
              <a:ext cx="23760" cy="14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4" y="18"/>
                  </a:moveTo>
                  <a:lnTo>
                    <a:pt x="0" y="12"/>
                  </a:lnTo>
                  <a:lnTo>
                    <a:pt x="27" y="0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4" y="18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072040" y="3214800"/>
              <a:ext cx="22320" cy="237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4" y="29"/>
                  </a:moveTo>
                  <a:lnTo>
                    <a:pt x="0" y="25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7" y="2"/>
                  </a:lnTo>
                  <a:lnTo>
                    <a:pt x="4" y="29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087880" y="3209760"/>
              <a:ext cx="6480" cy="50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0"/>
                  </a:lnTo>
                  <a:lnTo>
                    <a:pt x="10" y="6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87880" y="3201840"/>
              <a:ext cx="4680" cy="97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10"/>
                  </a:moveTo>
                  <a:lnTo>
                    <a:pt x="0" y="12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1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59440" y="3159000"/>
              <a:ext cx="31680" cy="4608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40" y="55"/>
                  </a:moveTo>
                  <a:lnTo>
                    <a:pt x="34" y="59"/>
                  </a:lnTo>
                  <a:lnTo>
                    <a:pt x="0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40" y="55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05440" y="3094200"/>
              <a:ext cx="57240" cy="6804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73" y="81"/>
                  </a:moveTo>
                  <a:lnTo>
                    <a:pt x="69" y="85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73" y="81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968720" y="3056040"/>
              <a:ext cx="39960" cy="410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0" y="49"/>
                  </a:moveTo>
                  <a:lnTo>
                    <a:pt x="46" y="53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50" y="49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65840" y="3054240"/>
              <a:ext cx="6120" cy="6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4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962600" y="3049560"/>
              <a:ext cx="61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6"/>
                  </a:moveTo>
                  <a:lnTo>
                    <a:pt x="3" y="10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6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916520" y="2979720"/>
              <a:ext cx="50760" cy="73080"/>
            </a:xfrm>
            <a:custGeom>
              <a:avLst/>
              <a:gdLst/>
              <a:ahLst/>
              <a:rect l="l" t="t" r="r" b="b"/>
              <a:pathLst>
                <a:path w="65" h="91">
                  <a:moveTo>
                    <a:pt x="65" y="87"/>
                  </a:moveTo>
                  <a:lnTo>
                    <a:pt x="60" y="91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0"/>
                  </a:lnTo>
                  <a:lnTo>
                    <a:pt x="65" y="87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881600" y="2890800"/>
              <a:ext cx="39600" cy="92160"/>
            </a:xfrm>
            <a:custGeom>
              <a:avLst/>
              <a:gdLst/>
              <a:ahLst/>
              <a:rect l="l" t="t" r="r" b="b"/>
              <a:pathLst>
                <a:path w="49" h="116">
                  <a:moveTo>
                    <a:pt x="49" y="112"/>
                  </a:moveTo>
                  <a:lnTo>
                    <a:pt x="43" y="116"/>
                  </a:lnTo>
                  <a:lnTo>
                    <a:pt x="2" y="2"/>
                  </a:lnTo>
                  <a:lnTo>
                    <a:pt x="0" y="2"/>
                  </a:lnTo>
                  <a:lnTo>
                    <a:pt x="7" y="0"/>
                  </a:lnTo>
                  <a:lnTo>
                    <a:pt x="49" y="11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871880" y="2857680"/>
              <a:ext cx="16200" cy="3492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19" y="44"/>
                  </a:moveTo>
                  <a:lnTo>
                    <a:pt x="12" y="46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0"/>
                  </a:lnTo>
                  <a:lnTo>
                    <a:pt x="19" y="44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863960" y="2822400"/>
              <a:ext cx="14400" cy="3672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7" y="43"/>
                  </a:moveTo>
                  <a:lnTo>
                    <a:pt x="9" y="45"/>
                  </a:lnTo>
                  <a:lnTo>
                    <a:pt x="0" y="2"/>
                  </a:lnTo>
                  <a:lnTo>
                    <a:pt x="0" y="0"/>
                  </a:lnTo>
                  <a:lnTo>
                    <a:pt x="7" y="0"/>
                  </a:lnTo>
                  <a:lnTo>
                    <a:pt x="17" y="43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851360" y="2752560"/>
              <a:ext cx="19080" cy="69840"/>
            </a:xfrm>
            <a:custGeom>
              <a:avLst/>
              <a:gdLst/>
              <a:ahLst/>
              <a:rect l="l" t="t" r="r" b="b"/>
              <a:pathLst>
                <a:path w="25" h="89">
                  <a:moveTo>
                    <a:pt x="25" y="89"/>
                  </a:moveTo>
                  <a:lnTo>
                    <a:pt x="1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25" y="89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840200" y="2681280"/>
              <a:ext cx="17640" cy="7128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21" y="89"/>
                  </a:moveTo>
                  <a:lnTo>
                    <a:pt x="13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21" y="89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835520" y="2647800"/>
              <a:ext cx="11160" cy="3348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14" y="43"/>
                  </a:moveTo>
                  <a:lnTo>
                    <a:pt x="6" y="43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43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830840" y="2614680"/>
              <a:ext cx="11160" cy="3312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13" y="41"/>
                  </a:moveTo>
                  <a:lnTo>
                    <a:pt x="5" y="41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41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26160" y="2583000"/>
              <a:ext cx="10800" cy="31680"/>
            </a:xfrm>
            <a:custGeom>
              <a:avLst/>
              <a:gdLst/>
              <a:ahLst/>
              <a:rect l="l" t="t" r="r" b="b"/>
              <a:pathLst>
                <a:path w="13" h="40">
                  <a:moveTo>
                    <a:pt x="13" y="40"/>
                  </a:moveTo>
                  <a:lnTo>
                    <a:pt x="6" y="4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3" y="4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821120" y="2549520"/>
              <a:ext cx="11160" cy="3348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6" y="41"/>
                  </a:moveTo>
                  <a:lnTo>
                    <a:pt x="8" y="41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41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21120" y="2544840"/>
              <a:ext cx="5040" cy="46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6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819680" y="2540160"/>
              <a:ext cx="648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8"/>
                  </a:moveTo>
                  <a:lnTo>
                    <a:pt x="2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8" y="0"/>
                  </a:lnTo>
                  <a:lnTo>
                    <a:pt x="10" y="8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16440" y="2522520"/>
              <a:ext cx="7920" cy="1764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22"/>
                  </a:moveTo>
                  <a:lnTo>
                    <a:pt x="3" y="22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1" y="2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809960" y="2490840"/>
              <a:ext cx="12960" cy="316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9"/>
                  </a:moveTo>
                  <a:lnTo>
                    <a:pt x="8" y="39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39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05280" y="2467080"/>
              <a:ext cx="11160" cy="2376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30"/>
                  </a:moveTo>
                  <a:lnTo>
                    <a:pt x="6" y="3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4" y="3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00600" y="2440080"/>
              <a:ext cx="11160" cy="270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4" y="33"/>
                  </a:moveTo>
                  <a:lnTo>
                    <a:pt x="6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4" y="33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789440" y="2355840"/>
              <a:ext cx="17640" cy="84240"/>
            </a:xfrm>
            <a:custGeom>
              <a:avLst/>
              <a:gdLst/>
              <a:ahLst/>
              <a:rect l="l" t="t" r="r" b="b"/>
              <a:pathLst>
                <a:path w="23" h="107">
                  <a:moveTo>
                    <a:pt x="23" y="107"/>
                  </a:moveTo>
                  <a:lnTo>
                    <a:pt x="15" y="107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23" y="107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88000" y="2328840"/>
              <a:ext cx="6120" cy="2700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10" y="33"/>
                  </a:moveTo>
                  <a:lnTo>
                    <a:pt x="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0" y="33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788000" y="2254320"/>
              <a:ext cx="12600" cy="7452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8" y="95"/>
                  </a:moveTo>
                  <a:lnTo>
                    <a:pt x="0" y="95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7" y="4"/>
                  </a:lnTo>
                  <a:lnTo>
                    <a:pt x="8" y="95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795920" y="2236680"/>
              <a:ext cx="15840" cy="2088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5" y="25"/>
                  </a:moveTo>
                  <a:lnTo>
                    <a:pt x="0" y="21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9" y="7"/>
                  </a:lnTo>
                  <a:lnTo>
                    <a:pt x="5" y="25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9960" y="2235240"/>
              <a:ext cx="14400" cy="792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2" y="9"/>
                  </a:moveTo>
                  <a:lnTo>
                    <a:pt x="0" y="2"/>
                  </a:lnTo>
                  <a:lnTo>
                    <a:pt x="13" y="0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2" y="9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21120" y="2214720"/>
              <a:ext cx="12960" cy="2376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6" y="30"/>
                  </a:moveTo>
                  <a:lnTo>
                    <a:pt x="0" y="2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7" y="4"/>
                  </a:lnTo>
                  <a:lnTo>
                    <a:pt x="6" y="3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29040" y="2212920"/>
              <a:ext cx="7920" cy="46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832280" y="2163600"/>
              <a:ext cx="19080" cy="51120"/>
            </a:xfrm>
            <a:custGeom>
              <a:avLst/>
              <a:gdLst/>
              <a:ahLst/>
              <a:rect l="l" t="t" r="r" b="b"/>
              <a:pathLst>
                <a:path w="22" h="65">
                  <a:moveTo>
                    <a:pt x="5" y="65"/>
                  </a:moveTo>
                  <a:lnTo>
                    <a:pt x="0" y="61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22" y="4"/>
                  </a:lnTo>
                  <a:lnTo>
                    <a:pt x="5" y="65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846680" y="2136600"/>
              <a:ext cx="19080" cy="3024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5" y="38"/>
                  </a:moveTo>
                  <a:lnTo>
                    <a:pt x="0" y="34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5" y="8"/>
                  </a:lnTo>
                  <a:lnTo>
                    <a:pt x="5" y="38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863960" y="2136600"/>
              <a:ext cx="6480" cy="64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4"/>
                  </a:lnTo>
                  <a:lnTo>
                    <a:pt x="7" y="6"/>
                  </a:lnTo>
                  <a:lnTo>
                    <a:pt x="2" y="8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867200" y="2120760"/>
              <a:ext cx="20880" cy="19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4" y="23"/>
                  </a:moveTo>
                  <a:lnTo>
                    <a:pt x="0" y="19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4" y="23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884840" y="2104920"/>
              <a:ext cx="19080" cy="190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4" y="26"/>
                  </a:moveTo>
                  <a:lnTo>
                    <a:pt x="0" y="22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23" y="4"/>
                  </a:lnTo>
                  <a:lnTo>
                    <a:pt x="4" y="26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897440" y="2089080"/>
              <a:ext cx="6480" cy="1584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7" y="22"/>
                  </a:moveTo>
                  <a:lnTo>
                    <a:pt x="0" y="20"/>
                  </a:lnTo>
                  <a:lnTo>
                    <a:pt x="0" y="2"/>
                  </a:lnTo>
                  <a:lnTo>
                    <a:pt x="1" y="0"/>
                  </a:lnTo>
                  <a:lnTo>
                    <a:pt x="7" y="4"/>
                  </a:lnTo>
                  <a:lnTo>
                    <a:pt x="7" y="2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898880" y="2054160"/>
              <a:ext cx="27000" cy="3816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6" y="47"/>
                  </a:moveTo>
                  <a:lnTo>
                    <a:pt x="0" y="43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4"/>
                  </a:lnTo>
                  <a:lnTo>
                    <a:pt x="6" y="47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924440" y="2048040"/>
              <a:ext cx="93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4" y="12"/>
                  </a:moveTo>
                  <a:lnTo>
                    <a:pt x="0" y="8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3" y="8"/>
                  </a:lnTo>
                  <a:lnTo>
                    <a:pt x="4" y="1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932360" y="2048040"/>
              <a:ext cx="19080" cy="612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2" y="8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1" y="8"/>
                  </a:lnTo>
                  <a:lnTo>
                    <a:pt x="2" y="8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50000" y="2049480"/>
              <a:ext cx="183960" cy="90360"/>
            </a:xfrm>
            <a:custGeom>
              <a:avLst/>
              <a:gdLst/>
              <a:ahLst/>
              <a:rect l="l" t="t" r="r" b="b"/>
              <a:pathLst>
                <a:path w="233" h="114">
                  <a:moveTo>
                    <a:pt x="0" y="6"/>
                  </a:moveTo>
                  <a:lnTo>
                    <a:pt x="2" y="0"/>
                  </a:lnTo>
                  <a:lnTo>
                    <a:pt x="233" y="108"/>
                  </a:lnTo>
                  <a:lnTo>
                    <a:pt x="233" y="108"/>
                  </a:lnTo>
                  <a:lnTo>
                    <a:pt x="230" y="11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30720" y="2135160"/>
              <a:ext cx="39600" cy="4284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0" y="6"/>
                  </a:moveTo>
                  <a:lnTo>
                    <a:pt x="3" y="0"/>
                  </a:lnTo>
                  <a:lnTo>
                    <a:pt x="47" y="50"/>
                  </a:lnTo>
                  <a:lnTo>
                    <a:pt x="49" y="52"/>
                  </a:lnTo>
                  <a:lnTo>
                    <a:pt x="43" y="5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65640" y="2176560"/>
              <a:ext cx="12960" cy="237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2"/>
                  </a:moveTo>
                  <a:lnTo>
                    <a:pt x="6" y="0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8" y="29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2120" y="2198520"/>
              <a:ext cx="20520" cy="525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0" y="2"/>
                  </a:moveTo>
                  <a:lnTo>
                    <a:pt x="8" y="0"/>
                  </a:lnTo>
                  <a:lnTo>
                    <a:pt x="27" y="65"/>
                  </a:lnTo>
                  <a:lnTo>
                    <a:pt x="27" y="65"/>
                  </a:lnTo>
                  <a:lnTo>
                    <a:pt x="19" y="67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87960" y="2249640"/>
              <a:ext cx="7920" cy="14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2"/>
                  </a:moveTo>
                  <a:lnTo>
                    <a:pt x="8" y="0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4" y="18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89400" y="2262240"/>
              <a:ext cx="14400" cy="38160"/>
            </a:xfrm>
            <a:custGeom>
              <a:avLst/>
              <a:gdLst/>
              <a:ahLst/>
              <a:rect l="l" t="t" r="r" b="b"/>
              <a:pathLst>
                <a:path w="17" h="47">
                  <a:moveTo>
                    <a:pt x="0" y="2"/>
                  </a:moveTo>
                  <a:lnTo>
                    <a:pt x="8" y="0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9" y="47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97320" y="2300400"/>
              <a:ext cx="7920" cy="48960"/>
            </a:xfrm>
            <a:custGeom>
              <a:avLst/>
              <a:gdLst/>
              <a:ahLst/>
              <a:rect l="l" t="t" r="r" b="b"/>
              <a:pathLst>
                <a:path w="10" h="64">
                  <a:moveTo>
                    <a:pt x="0" y="0"/>
                  </a:moveTo>
                  <a:lnTo>
                    <a:pt x="8" y="0"/>
                  </a:lnTo>
                  <a:lnTo>
                    <a:pt x="10" y="64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99120" y="2349360"/>
              <a:ext cx="79200" cy="451080"/>
            </a:xfrm>
            <a:custGeom>
              <a:avLst/>
              <a:gdLst/>
              <a:ahLst/>
              <a:rect l="l" t="t" r="r" b="b"/>
              <a:pathLst>
                <a:path w="100" h="567">
                  <a:moveTo>
                    <a:pt x="0" y="0"/>
                  </a:moveTo>
                  <a:lnTo>
                    <a:pt x="8" y="0"/>
                  </a:lnTo>
                  <a:lnTo>
                    <a:pt x="100" y="567"/>
                  </a:lnTo>
                  <a:lnTo>
                    <a:pt x="100" y="567"/>
                  </a:lnTo>
                  <a:lnTo>
                    <a:pt x="92" y="56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72200" y="2800440"/>
              <a:ext cx="12600" cy="41040"/>
            </a:xfrm>
            <a:custGeom>
              <a:avLst/>
              <a:gdLst/>
              <a:ahLst/>
              <a:rect l="l" t="t" r="r" b="b"/>
              <a:pathLst>
                <a:path w="15" h="52">
                  <a:moveTo>
                    <a:pt x="0" y="0"/>
                  </a:moveTo>
                  <a:lnTo>
                    <a:pt x="8" y="0"/>
                  </a:lnTo>
                  <a:lnTo>
                    <a:pt x="15" y="52"/>
                  </a:lnTo>
                  <a:lnTo>
                    <a:pt x="15" y="52"/>
                  </a:lnTo>
                  <a:lnTo>
                    <a:pt x="8" y="5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278320" y="2841480"/>
              <a:ext cx="11160" cy="41400"/>
            </a:xfrm>
            <a:custGeom>
              <a:avLst/>
              <a:gdLst/>
              <a:ahLst/>
              <a:rect l="l" t="t" r="r" b="b"/>
              <a:pathLst>
                <a:path w="15" h="53">
                  <a:moveTo>
                    <a:pt x="0" y="0"/>
                  </a:moveTo>
                  <a:lnTo>
                    <a:pt x="7" y="0"/>
                  </a:lnTo>
                  <a:lnTo>
                    <a:pt x="15" y="53"/>
                  </a:lnTo>
                  <a:lnTo>
                    <a:pt x="15" y="53"/>
                  </a:lnTo>
                  <a:lnTo>
                    <a:pt x="7" y="5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284800" y="2882880"/>
              <a:ext cx="9360" cy="4140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0" y="0"/>
                  </a:moveTo>
                  <a:lnTo>
                    <a:pt x="8" y="0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6" y="5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289480" y="2924280"/>
              <a:ext cx="7920" cy="410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0"/>
                  </a:moveTo>
                  <a:lnTo>
                    <a:pt x="8" y="0"/>
                  </a:lnTo>
                  <a:lnTo>
                    <a:pt x="11" y="49"/>
                  </a:lnTo>
                  <a:lnTo>
                    <a:pt x="11" y="51"/>
                  </a:lnTo>
                  <a:lnTo>
                    <a:pt x="4" y="4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78320" y="2963880"/>
              <a:ext cx="19080" cy="44280"/>
            </a:xfrm>
            <a:custGeom>
              <a:avLst/>
              <a:gdLst/>
              <a:ahLst/>
              <a:rect l="l" t="t" r="r" b="b"/>
              <a:pathLst>
                <a:path w="24" h="57">
                  <a:moveTo>
                    <a:pt x="17" y="0"/>
                  </a:moveTo>
                  <a:lnTo>
                    <a:pt x="24" y="2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0" y="54"/>
                  </a:lnTo>
                  <a:lnTo>
                    <a:pt x="17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68960" y="3005280"/>
              <a:ext cx="14400" cy="172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2" y="0"/>
                  </a:moveTo>
                  <a:lnTo>
                    <a:pt x="17" y="3"/>
                  </a:lnTo>
                  <a:lnTo>
                    <a:pt x="6" y="19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265720" y="3016080"/>
              <a:ext cx="4680" cy="64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4" y="0"/>
                  </a:moveTo>
                  <a:lnTo>
                    <a:pt x="6" y="8"/>
                  </a:lnTo>
                  <a:lnTo>
                    <a:pt x="2" y="8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264280" y="3017880"/>
              <a:ext cx="4680" cy="46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0"/>
                  </a:moveTo>
                  <a:lnTo>
                    <a:pt x="4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61040" y="3019320"/>
              <a:ext cx="6120" cy="50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lnTo>
                    <a:pt x="7" y="4"/>
                  </a:lnTo>
                  <a:lnTo>
                    <a:pt x="5" y="6"/>
                  </a:lnTo>
                  <a:lnTo>
                    <a:pt x="3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61040" y="3022560"/>
              <a:ext cx="6120" cy="4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5" y="6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22880" y="3024360"/>
              <a:ext cx="42840" cy="4104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0" y="0"/>
                  </a:moveTo>
                  <a:lnTo>
                    <a:pt x="55" y="4"/>
                  </a:lnTo>
                  <a:lnTo>
                    <a:pt x="8" y="51"/>
                  </a:lnTo>
                  <a:lnTo>
                    <a:pt x="0" y="49"/>
                  </a:lnTo>
                  <a:lnTo>
                    <a:pt x="2" y="48"/>
                  </a:lnTo>
                  <a:lnTo>
                    <a:pt x="5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11720" y="3063960"/>
              <a:ext cx="15840" cy="65160"/>
            </a:xfrm>
            <a:custGeom>
              <a:avLst/>
              <a:gdLst/>
              <a:ahLst/>
              <a:rect l="l" t="t" r="r" b="b"/>
              <a:pathLst>
                <a:path w="21" h="83">
                  <a:moveTo>
                    <a:pt x="13" y="0"/>
                  </a:moveTo>
                  <a:lnTo>
                    <a:pt x="21" y="2"/>
                  </a:lnTo>
                  <a:lnTo>
                    <a:pt x="7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3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211720" y="3129120"/>
              <a:ext cx="6480" cy="2988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0"/>
                  </a:moveTo>
                  <a:lnTo>
                    <a:pt x="7" y="0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211720" y="3159000"/>
              <a:ext cx="7920" cy="30240"/>
            </a:xfrm>
            <a:custGeom>
              <a:avLst/>
              <a:gdLst/>
              <a:ahLst/>
              <a:rect l="l" t="t" r="r" b="b"/>
              <a:pathLst>
                <a:path w="9" h="37">
                  <a:moveTo>
                    <a:pt x="0" y="0"/>
                  </a:moveTo>
                  <a:lnTo>
                    <a:pt x="7" y="0"/>
                  </a:lnTo>
                  <a:lnTo>
                    <a:pt x="9" y="35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13520" y="3187800"/>
              <a:ext cx="39600" cy="128520"/>
            </a:xfrm>
            <a:custGeom>
              <a:avLst/>
              <a:gdLst/>
              <a:ahLst/>
              <a:rect l="l" t="t" r="r" b="b"/>
              <a:pathLst>
                <a:path w="49" h="164">
                  <a:moveTo>
                    <a:pt x="0" y="2"/>
                  </a:moveTo>
                  <a:lnTo>
                    <a:pt x="7" y="0"/>
                  </a:lnTo>
                  <a:lnTo>
                    <a:pt x="49" y="164"/>
                  </a:lnTo>
                  <a:lnTo>
                    <a:pt x="49" y="164"/>
                  </a:lnTo>
                  <a:lnTo>
                    <a:pt x="42" y="164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46640" y="3316320"/>
              <a:ext cx="7920" cy="3816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0" y="0"/>
                  </a:moveTo>
                  <a:lnTo>
                    <a:pt x="7" y="0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1" y="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46640" y="3354480"/>
              <a:ext cx="7920" cy="79200"/>
            </a:xfrm>
            <a:custGeom>
              <a:avLst/>
              <a:gdLst/>
              <a:ahLst/>
              <a:rect l="l" t="t" r="r" b="b"/>
              <a:pathLst>
                <a:path w="9" h="101">
                  <a:moveTo>
                    <a:pt x="1" y="0"/>
                  </a:moveTo>
                  <a:lnTo>
                    <a:pt x="9" y="0"/>
                  </a:lnTo>
                  <a:lnTo>
                    <a:pt x="7" y="101"/>
                  </a:lnTo>
                  <a:lnTo>
                    <a:pt x="7" y="101"/>
                  </a:lnTo>
                  <a:lnTo>
                    <a:pt x="0" y="101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235480" y="3433680"/>
              <a:ext cx="17640" cy="138240"/>
            </a:xfrm>
            <a:custGeom>
              <a:avLst/>
              <a:gdLst/>
              <a:ahLst/>
              <a:rect l="l" t="t" r="r" b="b"/>
              <a:pathLst>
                <a:path w="21" h="173">
                  <a:moveTo>
                    <a:pt x="14" y="0"/>
                  </a:moveTo>
                  <a:lnTo>
                    <a:pt x="21" y="0"/>
                  </a:lnTo>
                  <a:lnTo>
                    <a:pt x="8" y="171"/>
                  </a:lnTo>
                  <a:lnTo>
                    <a:pt x="8" y="173"/>
                  </a:lnTo>
                  <a:lnTo>
                    <a:pt x="0" y="1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13520" y="3570120"/>
              <a:ext cx="28440" cy="84240"/>
            </a:xfrm>
            <a:custGeom>
              <a:avLst/>
              <a:gdLst/>
              <a:ahLst/>
              <a:rect l="l" t="t" r="r" b="b"/>
              <a:pathLst>
                <a:path w="36" h="107">
                  <a:moveTo>
                    <a:pt x="28" y="0"/>
                  </a:moveTo>
                  <a:lnTo>
                    <a:pt x="36" y="2"/>
                  </a:lnTo>
                  <a:lnTo>
                    <a:pt x="7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13520" y="3654360"/>
              <a:ext cx="61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7" y="0"/>
                  </a:lnTo>
                  <a:lnTo>
                    <a:pt x="7" y="8"/>
                  </a:lnTo>
                  <a:lnTo>
                    <a:pt x="7" y="10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13520" y="3660840"/>
              <a:ext cx="6120" cy="79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7" y="2"/>
                  </a:lnTo>
                  <a:lnTo>
                    <a:pt x="5" y="7"/>
                  </a:lnTo>
                  <a:lnTo>
                    <a:pt x="1" y="9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189400" y="3664080"/>
              <a:ext cx="25560" cy="936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31" y="0"/>
                  </a:moveTo>
                  <a:lnTo>
                    <a:pt x="32" y="6"/>
                  </a:lnTo>
                  <a:lnTo>
                    <a:pt x="4" y="12"/>
                  </a:lnTo>
                  <a:lnTo>
                    <a:pt x="0" y="6"/>
                  </a:lnTo>
                  <a:lnTo>
                    <a:pt x="2" y="4"/>
                  </a:lnTo>
                  <a:lnTo>
                    <a:pt x="31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186520" y="3668760"/>
              <a:ext cx="4680" cy="46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4" y="0"/>
                  </a:moveTo>
                  <a:lnTo>
                    <a:pt x="8" y="6"/>
                  </a:lnTo>
                  <a:lnTo>
                    <a:pt x="4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83280" y="3670200"/>
              <a:ext cx="6120" cy="6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8" y="4"/>
                  </a:lnTo>
                  <a:lnTo>
                    <a:pt x="8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83280" y="3675240"/>
              <a:ext cx="6120" cy="1584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0" y="0"/>
                  </a:moveTo>
                  <a:lnTo>
                    <a:pt x="8" y="2"/>
                  </a:lnTo>
                  <a:lnTo>
                    <a:pt x="8" y="16"/>
                  </a:lnTo>
                  <a:lnTo>
                    <a:pt x="4" y="20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118120" y="3686040"/>
              <a:ext cx="68400" cy="14400"/>
            </a:xfrm>
            <a:custGeom>
              <a:avLst/>
              <a:gdLst/>
              <a:ahLst/>
              <a:rect l="l" t="t" r="r" b="b"/>
              <a:pathLst>
                <a:path w="86" h="18">
                  <a:moveTo>
                    <a:pt x="82" y="0"/>
                  </a:moveTo>
                  <a:lnTo>
                    <a:pt x="86" y="6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82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11640" y="3692520"/>
              <a:ext cx="792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2"/>
                  </a:moveTo>
                  <a:lnTo>
                    <a:pt x="7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9" y="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37120" y="3608280"/>
              <a:ext cx="77760" cy="8748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98" y="106"/>
                  </a:moveTo>
                  <a:lnTo>
                    <a:pt x="94" y="110"/>
                  </a:lnTo>
                  <a:lnTo>
                    <a:pt x="2" y="3"/>
                  </a:lnTo>
                  <a:lnTo>
                    <a:pt x="0" y="3"/>
                  </a:lnTo>
                  <a:lnTo>
                    <a:pt x="8" y="0"/>
                  </a:lnTo>
                  <a:lnTo>
                    <a:pt x="98" y="106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030640" y="3586320"/>
              <a:ext cx="12960" cy="2520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5" y="28"/>
                  </a:moveTo>
                  <a:lnTo>
                    <a:pt x="7" y="31"/>
                  </a:lnTo>
                  <a:lnTo>
                    <a:pt x="0" y="2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28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y shock, terrify, and startle us, yet no other creatures have the power to capture our imaginations in such a dramatic way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Tas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You and your partner have been hired by Sea World to study sharks and write/produce a shark commercial or adventure story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209320" y="167616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hark fac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Aquafacts – Shar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ational Geographic Shark Surfari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harks – Fact and Fantas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a World – Shar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hark Gall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hark/Ocean Projec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onterey Bay Aquariu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roc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828800" y="1371240"/>
            <a:ext cx="73152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With your partner, surf the Internet for information on shark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ecord general shark information off of the provided Shark Cluster Map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hoose two sharks you would like to compare and contrast using Inspiratio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se this information (minimum of 5 facts) to help you plan, then write a shark commercial / adventure stor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oofread for mistakes and type a final copy on the compute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esent your commercial/story with your clas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valu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You will be evaluated on the following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Your level of cooperation and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rticip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quality of information gathered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from your research, using a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inimum of 5 fac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he neatness, completeness, and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quality of your projec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Your presentation to the clas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980720" y="1447920"/>
            <a:ext cx="7162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e hope you enjoyed your detailed study of sharks and have come to appreciate these fascinating creatur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9T22:10:31Z</dcterms:created>
  <dc:creator>Roed Enrique Freeland</dc:creator>
  <dc:description/>
  <dc:language>en-US</dc:language>
  <cp:lastModifiedBy>Roed Enrique Freeland</cp:lastModifiedBy>
  <dcterms:modified xsi:type="dcterms:W3CDTF">2002-01-05T18:04:50Z</dcterms:modified>
  <cp:revision>6</cp:revision>
  <dc:subject/>
  <dc:title>GRASPS Performance Task Template</dc:title>
</cp:coreProperties>
</file>