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7DAD-F4EB-4EA2-87D5-87D6350FC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AA5-5F10-47F9-8CB5-BA2AFCB1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0889-3C45-48B8-BCC6-D786EC3A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A286-D4F8-451C-AD86-846F529BF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297B2-B1C8-4118-93A6-319AB0383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A2FD5-B72B-40A7-8442-3C81324A9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8464-E415-4FDC-A55E-F8A69D9F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5E0EE-FFD1-4206-A911-4E4AB57B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6CBD-6DB3-4D11-A643-CEE8CEF10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4D44-5698-4FF7-BD2F-FBB7D2F4D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3516-5CBB-4E9D-81B5-D63ED65A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83A6-22D1-4B1C-8C3C-28BC506F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11886-0F23-4390-99D8-71281509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DA0BC-9D8B-419F-9B3A-9A0DE832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96E0-9003-4460-B8EC-7BED83CC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EABB-9EC5-4ED5-9846-9049F5C52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28BF-91DF-47AC-9B4F-25FF25115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F87-9411-4024-9075-96277FA3B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7FFE-83C4-46FE-AD65-33D2D39A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312C-948D-4F57-B69F-B1592FA3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0354-1495-4F18-B3A4-FC13D0E5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4969-1A5D-4884-8AA2-CBAD6F13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9A00-6509-4C0B-808F-2F9D9E6D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50C8-35D3-4DAD-8E63-1155C2D1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1D615-1AAC-4274-996B-B933A6F6177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BCF2D-7170-4664-AD54-CAD19598A5A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s.s.%20landform%20map.xls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andforms 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erformance Task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422100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are to design an interactive map for a social studies text publisher to teach the following terms: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apital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lain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unta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lley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er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slan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ke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iver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ninsula ocean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ass ro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O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are an illustrator and technology specialist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DI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will be sharing your map proposal with a representative from the text book publishing company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ITU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are an illustrator and technology specialist in charge of creating an interactive map for a new publishing company of social studies tex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JECT ASSIG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 will use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draw tool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to create a map with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comment boxes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labeling and defining the essential components.  The </a:t>
            </a:r>
            <a:r>
              <a:rPr b="0" lang="en-US" sz="3200" spc="-1" strike="noStrike" u="sng">
                <a:solidFill>
                  <a:srgbClr val="40458c"/>
                </a:solidFill>
                <a:uFillTx/>
                <a:latin typeface="Tahoma"/>
              </a:rPr>
              <a:t>interactive map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you create will ask users to identify various landforms in a self-checking game format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 FOR SUCCES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Your map must meet the following standards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-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t must include the following feature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capital, plain, mountain, valley, desert, island, lake, river, peninsula, compass rose and ocea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The features must be accurately labeled with their title and definition using comment box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The title must be created using Word Art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-A list of 11 Hide and Seek questions must be included for the representative from the publishing company.  </a:t>
            </a:r>
            <a:r>
              <a:rPr b="0" lang="en-US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ample Interactive Ma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9:24:28Z</dcterms:created>
  <dc:creator>Harrington School District</dc:creator>
  <dc:description/>
  <dc:language>en-US</dc:language>
  <cp:lastModifiedBy>Preferred Customer</cp:lastModifiedBy>
  <dcterms:modified xsi:type="dcterms:W3CDTF">2002-11-09T23:30:49Z</dcterms:modified>
  <cp:revision>16</cp:revision>
  <dc:subject/>
  <dc:title>GRASPS Performance Task Template</dc:title>
</cp:coreProperties>
</file>