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C4BB-EB2A-41E6-83B7-FF246B5C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B123-45B8-4C5B-8612-59A682D2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DA54-33CE-4E11-9A86-3F1FAD99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A6C-B36E-4B9A-BDA3-33183D70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D5AD9-A1F8-4417-BDBA-EE37FB822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57AF2-D37E-4863-8455-711FE5C2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0857-3E09-4224-8AC9-98E4EF77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F114-15FD-45EB-BCC9-CF11664F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A978-2846-44B9-A2AD-9D5C2BF22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5C53-0ABA-4203-A295-1C7CED01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A576-D879-48DB-ACB6-101B784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2875-6516-4B9C-ADE8-D6B87215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524-528A-4A7F-AFCF-BC3D74A5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1DAB-6E7B-4F1A-AC91-CD81C4E0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E600-AFF4-4128-973C-101B8513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24C4-C44F-4980-8C3B-C4472578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0C94D-F560-4D93-88AF-BC088901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A58F-A9DB-4E8F-9C8D-8335C2FD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9A96-0ABC-4F47-A9D0-F8075A65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5638-44DE-4DF6-9898-61825EF3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073-9220-4FCE-91A0-92BDB146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3A73-E9FE-437C-85E2-1AB8C306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E872-6718-4796-8B74-6CE6B194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31F7-C68A-4CA6-81B8-AF31CBA8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2BBD-256C-4DD3-B37C-B75EF1F033D9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0045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0045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Comic Sans MS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3911-6BBE-4799-B4C0-0889068150CD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Excel%20Tips%20&amp;%20Tricks.xls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Right-clicks, Tips  &amp;</a:t>
            </a:r>
            <a:br>
              <a:rPr sz="4400"/>
            </a:b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Other Tricks</a:t>
            </a: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 minute tech ti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553080" y="3119400"/>
            <a:ext cx="13939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Tech Tip(s) #4</a:t>
            </a: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synonym shortcu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F7 – checks spelling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Shift+F7 brings up thesauru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Right-click on misspelled word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85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Right-click on word and go to synonym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an also go to thesauru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0099cc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ometimes antonym is shown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Tech Tip(s) #5</a:t>
            </a: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dit cells quickly in </a:t>
            </a:r>
            <a:r>
              <a:rPr b="0" lang="en-US" sz="3600" spc="-1" strike="noStrike" u="sng">
                <a:solidFill>
                  <a:srgbClr val="0099cc"/>
                </a:solidFill>
                <a:uFillTx/>
                <a:latin typeface="Tahoma"/>
                <a:hlinkClick r:id="rId2"/>
              </a:rPr>
              <a:t>Excel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– without the mous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rrow key to cell, press F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ter to change, esc to canc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s well with hyperlin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Tech Tip(s) #5 (cont.)</a:t>
            </a: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eate Excel chart with one butt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ight data, press F1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cc"/>
                </a:solidFill>
                <a:latin typeface="Tahoma"/>
              </a:rPr>
              <a:t>Tech Tip(s) #5 (cont.)</a:t>
            </a:r>
            <a:endParaRPr b="0" lang="en-US" sz="4400" spc="-1" strike="noStrike">
              <a:solidFill>
                <a:srgbClr val="ccffcc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56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Insert copied cells between existing cel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ighlight data, hold Shift key down while clicking and dragg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rag to desired lo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3T00:08:12Z</dcterms:created>
  <dc:creator>Jeffrey A. Miller</dc:creator>
  <dc:description/>
  <dc:language>en-US</dc:language>
  <cp:lastModifiedBy>TLP User</cp:lastModifiedBy>
  <dcterms:modified xsi:type="dcterms:W3CDTF">2003-12-15T23:59:46Z</dcterms:modified>
  <cp:revision>11</cp:revision>
  <dc:subject/>
  <dc:title>Right-clicks, Tips  &amp; Other Tricks</dc:title>
</cp:coreProperties>
</file>