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7EBC-BDA6-4EF0-9A1B-328305E44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umbs up/thumbs down, concept attainment, creating and checking definitions, analogies, reflections, journals, pair/share, talk to the people in your table group, fill out the rubrics in the Mr. Claus activity and comparing it to the orig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1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730200" y="167652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9056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1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730200" y="3826080"/>
            <a:ext cx="2399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99840" y="247320"/>
            <a:ext cx="754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09080" y="382608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9056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09080" y="1676520"/>
            <a:ext cx="3636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90560" y="3826080"/>
            <a:ext cx="7452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00cc99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690560" y="1676520"/>
            <a:ext cx="745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1278000" y="6400800"/>
            <a:ext cx="7866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90680" y="533520"/>
            <a:ext cx="7529400" cy="826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692000" y="2362320"/>
            <a:ext cx="74516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Papyrus"/>
                <a:ea typeface="Times New Roman"/>
              </a:rPr>
              <a:t>What tools were used today by the instructors to check your understanding?</a:t>
            </a: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599840" y="247320"/>
            <a:ext cx="754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pyrus"/>
              </a:rPr>
              <a:t>Journaling Promp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7T21:51:41Z</dcterms:created>
  <dc:creator>Default</dc:creator>
  <dc:description/>
  <dc:language>en-US</dc:language>
  <cp:lastModifiedBy>Default</cp:lastModifiedBy>
  <dcterms:modified xsi:type="dcterms:W3CDTF">2002-01-06T23:51:11Z</dcterms:modified>
  <cp:revision>2</cp:revision>
  <dc:subject/>
  <dc:title>Journaling Prompt</dc:title>
</cp:coreProperties>
</file>