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Papyrus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D2F6-F6CE-4A01-80D7-A220828B10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lideshow to be viewed on continuous loop during the work session on Sunday. These questions were modified from the ubd exchange self assessment of un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work use these questions to self-assess and have a peer assess. Make this a five slide rotating work session slide sh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7452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90560" y="3826080"/>
            <a:ext cx="7452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0908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90560" y="382608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09080" y="382608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10200" y="167652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0200" y="167652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90560" y="382608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10200" y="382608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0200" y="382608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90560" y="1676520"/>
            <a:ext cx="745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745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363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09080" y="1676520"/>
            <a:ext cx="363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99840" y="247320"/>
            <a:ext cx="754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509080" y="1676520"/>
            <a:ext cx="363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90560" y="382608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90560" y="1676520"/>
            <a:ext cx="745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363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0908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509080" y="382608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0908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90560" y="3826080"/>
            <a:ext cx="7452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7452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90560" y="3826080"/>
            <a:ext cx="7452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50908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90560" y="382608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509080" y="382608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10200" y="167652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730200" y="167652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90560" y="382608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10200" y="382608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730200" y="382608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745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363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09080" y="1676520"/>
            <a:ext cx="363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99840" y="247320"/>
            <a:ext cx="754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9080" y="1676520"/>
            <a:ext cx="363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90560" y="382608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363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908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09080" y="382608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0908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90560" y="3826080"/>
            <a:ext cx="7452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690560" y="1676520"/>
            <a:ext cx="745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1611360" y="5920920"/>
            <a:ext cx="75326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90680" y="460440"/>
            <a:ext cx="7529400" cy="900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Papyrus"/>
              </a:rPr>
              <a:t>Click to edit the title text format</a:t>
            </a: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6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2285640"/>
            <a:ext cx="7466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Papyrus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1645920" y="5934240"/>
            <a:ext cx="7497720" cy="92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7600" y="1226880"/>
            <a:ext cx="74660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ff"/>
                </a:solidFill>
                <a:latin typeface="Papyrus"/>
              </a:rPr>
              <a:t>Work Time Filters</a:t>
            </a:r>
            <a:endParaRPr b="0" lang="en-US" sz="60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893600" y="26812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As you work, consider the following questions to     self-assess or peer assess: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rom UbD Exchange by Jay McTighe and Grant Wiggins. Alexandria, VA.: Association  Supervision and Curriculum Development. Copyright (C) 1998 Thomas Armstrong. Reprinted by permission. All rights reserved.      </a:t>
            </a:r>
          </a:p>
        </p:txBody>
      </p:sp>
    </p:spTree>
  </p:cSld>
  <p:transition spd="med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542360" cy="105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Papyrus"/>
              </a:rPr>
              <a:t>Self-assess or peer assess</a:t>
            </a: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90200" y="1922400"/>
            <a:ext cx="7162920" cy="389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1960" indent="-561960">
              <a:spcBef>
                <a:spcPts val="100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To what extent do the assessments provide valid and reliable measures of the enduring understandings?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om UbD Exchange by Jay McTighe and Grant Wiggins. Alexandria, VA.: Association  Supervision and Curriculum Development. Copyright (C) 1998 Thomas Armstrong. Reprinted by permission. All rights reserved.      </a:t>
            </a:r>
          </a:p>
        </p:txBody>
      </p:sp>
    </p:spTree>
  </p:cSld>
  <p:transition spd="med" advTm="5000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690560" y="1924200"/>
            <a:ext cx="7452000" cy="38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1960" indent="-561960">
              <a:spcBef>
                <a:spcPts val="100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What are the opportunities for students to exhibit their understanding through “authentic” performance tasks?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1599840" y="247680"/>
            <a:ext cx="7542360" cy="105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Papyrus"/>
              </a:rPr>
              <a:t>Self-assess or peer assess</a:t>
            </a: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om UbD Exchange by Jay McTighe and Grant Wiggins. Alexandria, VA.: Association  Supervision and Curriculum Development. Copyright (C) 1998 Thomas Armstrong. Reprinted by permission. All rights reserved.     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90560" y="1979280"/>
            <a:ext cx="7452000" cy="391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1960" indent="-561960">
              <a:lnSpc>
                <a:spcPct val="90000"/>
              </a:lnSpc>
              <a:spcBef>
                <a:spcPts val="100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Is there sufficient and varied information to support inferences about each student’s degree of understanding, knowledge and skill?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0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Papyrus"/>
              </a:rPr>
              <a:t>Self-assess or peer assess</a:t>
            </a: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om UbD Exchange by Jay McTighe and Grant Wiggins. Alexandria, VA.: Association  Supervision and Curriculum Development. Copyright (C) 1998 Thomas Armstrong. Reprinted by permission. All rights reserved.      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0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Papyrus"/>
              </a:rPr>
              <a:t>Self-assess or peer assess</a:t>
            </a:r>
            <a:endParaRPr b="1" lang="en-US" sz="4400" spc="-1" strike="noStrike">
              <a:solidFill>
                <a:srgbClr val="0066ff"/>
              </a:solidFill>
              <a:latin typeface="Papyru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90560" y="1922400"/>
            <a:ext cx="7452000" cy="391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1960" indent="-561960">
              <a:spcBef>
                <a:spcPts val="1001"/>
              </a:spcBef>
              <a:buClr>
                <a:srgbClr val="33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"/>
              </a:rPr>
              <a:t>Are there opportunities for student self-assessment and self-adjustment, based on feedback?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  <a:p>
            <a:pPr marL="561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rom UbD Exchange by Jay McTighe and Grant Wiggins. Alexandria, VA.: Association  Supervision and Curriculum Development. Copyright (C) 1998 Thomas Armstrong. Reprinted by permission. All rights reserved.      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ulee Hartline School Distri</cp:lastModifiedBy>
  <dcterms:modified xsi:type="dcterms:W3CDTF">2003-01-10T03:11:04Z</dcterms:modified>
  <cp:revision>10</cp:revision>
  <dc:subject/>
  <dc:title>Work Time Filters</dc:title>
</cp:coreProperties>
</file>