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072E-8B04-45EF-825E-C58FE68E9955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is slide to guide the participants during the entry activity from 9:00-9:30.  It is your choice as to how participants will report back to the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018C-0C4D-4E52-8B9F-BE5F39F9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0D40-1DE6-4D88-A515-908701B3F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97EE-4F5E-44AD-9A81-39D1561E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FFE4-5F17-4C17-B1E2-C462EDA0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45C3A-933D-4E17-A194-C385A44A6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9CD-1838-453C-BF9C-7347C5F43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0F46-70AB-43A7-8C1E-24422486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DFF7-7449-4879-AD80-1CBE180D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4D48-13F0-4250-9A68-6411B2017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BEADC-3CD6-4563-81D8-4C9D8821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85A7-C867-43BB-9B7E-242F9CE5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5178-2FE3-4AEB-B72E-4C19C3B6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FA63-8E15-4640-91CB-9940BC36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4DF-A346-4CBB-83A1-DC79F929B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22DFA-BD85-46B4-AC27-F26C8E41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77105-44B6-4C3E-B03A-6ADCD0347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86DA-A8A4-4D75-8A1B-2681B5C75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CC4A-B125-4406-9C32-064D861F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0411-B1C7-4812-81B7-709ECFAA1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99CD-C4B0-4566-9709-182D891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5E23-18EA-4898-9FDD-17BA8EB9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6FE6-7C78-4821-B905-4BD20D82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296A-E629-4D2D-A125-1E31BB25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7B7-D8DF-460E-9152-CBCA6212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76F6-AE25-4CA0-B480-9B39F87A5C28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EF9A-2212-40FF-B40C-DAC5FFC09C29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Reflect and Shar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view your goals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In your table group discuss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at were you able to accomp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hy or why not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hare a brief summary with the whole group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31T19:51:02Z</dcterms:created>
  <dc:creator>Joyce Standing</dc:creator>
  <dc:description/>
  <dc:language>en-US</dc:language>
  <cp:lastModifiedBy>Preferred Customer</cp:lastModifiedBy>
  <dcterms:modified xsi:type="dcterms:W3CDTF">2002-11-07T19:58:17Z</dcterms:modified>
  <cp:revision>18</cp:revision>
  <dc:subject/>
  <dc:title>WECOME!</dc:title>
</cp:coreProperties>
</file>