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A01B2-9A96-4B03-897C-D2DA67F93A0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this slideshow running on a loop as participants arrive.  Edit grade band and 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010-0728-47FC-9F4C-2BB719F91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0EA7-C965-4D79-ADBE-762B3880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7902-6078-46BB-ABF1-CA4117C42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862C-FBF9-46C2-AA13-4FF47DD66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804D-14AD-47CC-9558-9C6AAC05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0963-730B-4EAB-8786-E78341F1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95C50-E9BB-415B-93BE-D30D0472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EA0D-DF96-46D5-B33F-5695B24B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6AF0-EF33-4EFC-B29D-2AA58851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DC38-07C3-46BF-977F-191DDED7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D0CA-F626-46EE-82DD-A8FD9122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A648-E728-4F62-BFF6-CC0078986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01BA-24AD-4D43-A28B-F886B2B8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86F27-5BB6-42D3-AB63-240CB38F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F36BB-DDAA-4EE5-859F-C15D4702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E505-59FB-4AF0-B78C-8B4C15A5D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4DD75-AEC9-4E2C-BE76-911D7416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16AF-1ACE-4B90-9A4D-9C3E9CA2D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8F9C-8C51-4910-B08C-F1CA99674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8AE2-1131-418A-9365-D014258F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8B7-E53C-4956-A337-BCAAF835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CB1B-22B3-4409-9EEA-5509E1F2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B52B-F80D-4ECD-8A93-ED343057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E6C9-E87B-444F-B30D-BFCA449B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F291-9E43-4294-90C8-32850F34DC63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98B8-F7AD-4FC8-9399-57190A7B4745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05120" y="23619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Mississippi TLP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Arial"/>
              </a:rPr>
              <a:t>Winter Regional Meeting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Get Ready!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Arial"/>
              </a:rPr>
              <a:t>Pull up journal with goals from last session.</a:t>
            </a:r>
            <a:endParaRPr b="0" lang="en-US" sz="3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Arial"/>
              </a:rPr>
              <a:t>Have </a:t>
            </a:r>
            <a:r>
              <a:rPr b="0" lang="en-US" sz="3400" spc="-1" strike="noStrike" u="sng">
                <a:solidFill>
                  <a:srgbClr val="eaeaea"/>
                </a:solidFill>
                <a:uFillTx/>
                <a:latin typeface="Arial"/>
              </a:rPr>
              <a:t>Understanding by Design</a:t>
            </a:r>
            <a:r>
              <a:rPr b="0" lang="en-US" sz="3400" spc="-1" strike="noStrike">
                <a:solidFill>
                  <a:srgbClr val="eaeaea"/>
                </a:solidFill>
                <a:latin typeface="Arial"/>
              </a:rPr>
              <a:t> book ready.</a:t>
            </a:r>
            <a:endParaRPr b="0" lang="en-US" sz="3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eaeaea"/>
                </a:solidFill>
                <a:latin typeface="Arial"/>
              </a:rPr>
              <a:t>Participant files will be passed around on a pocket drive so please share with your group members.</a:t>
            </a:r>
            <a:endParaRPr b="0" lang="en-US" sz="3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1T19:51:02Z</dcterms:created>
  <dc:creator>Joyce Standing</dc:creator>
  <dc:description/>
  <dc:language>en-US</dc:language>
  <cp:lastModifiedBy>Kelley Schafer</cp:lastModifiedBy>
  <dcterms:modified xsi:type="dcterms:W3CDTF">2004-08-06T19:19:11Z</dcterms:modified>
  <cp:revision>22</cp:revision>
  <dc:subject/>
  <dc:title>WECOME!</dc:title>
</cp:coreProperties>
</file>