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922-41C5-42B3-9E14-44573C82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38552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DA0-5BDE-4AE7-BB22-BBEBAF7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330-780C-46F6-9002-6F05C759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FB8-8675-49A4-BF47-25DA1E6B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556D-830E-42BB-9AE4-2FF977E0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A7EC-DB6C-4F45-A3F8-79D2FBE8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2B41-AC2E-4E17-8CE7-3A8AC83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B3FF-A273-45B0-A242-673EA1F6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7E2-6E59-438F-8340-A386E97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11426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A7B-B17D-4163-87FD-E45FC24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8AE2-736A-45D5-91A7-F9F2E8C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5B4-7B74-4069-9899-156F440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5691-1624-4200-A0ED-BB65CC2D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9258-27AD-48A5-A65F-2D2B882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38552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52D7-BA94-4243-BF03-9AC6A6C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1DD-DDC6-4C17-BC1F-7B33D79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51460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385520"/>
            <a:ext cx="2281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3DE-16D7-45CC-BAA7-FE7ED64A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CD0-A727-4F25-BBF1-2707CA1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484-2992-4350-8B59-B40719E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0FD-2C69-410D-825A-4911F0E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11426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864-7DC1-48CF-BAE0-1E8E691E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AB9-2DA5-476D-87D4-D0678E2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38552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BE7-B41A-4856-A63F-A7804D1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514600"/>
            <a:ext cx="3458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385520"/>
            <a:ext cx="7086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384-7B28-4E0C-ABED-77B1473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0F3-B552-4D7C-A9DF-55720014C93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61B-CA5F-4787-9EC8-73CFA169E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Have a discussion within your table group discussing: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are you with your technology in your classroom?” </a:t>
            </a:r>
            <a:br>
              <a:rPr sz="4000"/>
            </a:br>
            <a:br>
              <a:rPr sz="2400"/>
            </a:b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 Share your successes and your problems/frustrations.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advTm="10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6960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oose a reporter to: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558720" indent="-444960">
              <a:spcBef>
                <a:spcPts val="901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Introduce the members of your group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558720" indent="-444960">
              <a:spcBef>
                <a:spcPts val="901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As you discuss, prepare to: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2" marL="989640" indent="-320040">
              <a:spcBef>
                <a:spcPts val="70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ell where your group is with technolog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89640" indent="-320040">
              <a:spcBef>
                <a:spcPts val="70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ention a success or frustration you feel others would benefit from hear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89640" indent="-320040">
              <a:spcBef>
                <a:spcPts val="700"/>
              </a:spcBef>
              <a:buClr>
                <a:srgbClr val="f8f8f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hare any common themes among your table grou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advTm="1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1:36:32Z</dcterms:created>
  <dc:creator>Theresa Meyer</dc:creator>
  <dc:description/>
  <dc:language>en-US</dc:language>
  <cp:lastModifiedBy>Theresa Meyer</cp:lastModifiedBy>
  <dcterms:modified xsi:type="dcterms:W3CDTF">2002-09-10T01:39:10Z</dcterms:modified>
  <cp:revision>1</cp:revision>
  <dc:subject/>
  <dc:title>Slide 1</dc:title>
</cp:coreProperties>
</file>