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FB44-9F48-4516-850F-B96B78557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grade bands may want to change the graphic here.  Anything academic is sugges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participants think of their own 40-40-40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aper Strip Activity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ing Activity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271-D65A-4A02-9B03-4E8C4607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460-3C50-47AB-9220-6BD8CAAC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F1C-90FD-4219-9BAC-2CFBA564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563-8E97-4419-BBDF-01958411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D49A-F7FE-4D6C-B742-9895C6C8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3E74-AB39-4308-BE39-E9B535D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4428-6408-48B8-9033-ADD583A5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5E7C-EF50-4AEF-A92E-B5245C04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316A-8A07-4F02-9D25-1E00E6B3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0978-584B-4529-9942-FDDC2E14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146E-855D-44A5-8E30-06809496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AA5-C0CC-49D0-8196-8327F1CD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16DF-4A20-497B-B05A-556F206F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EA03-7778-4185-8336-B2EEA12B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3519-EBEE-4261-B77B-168A358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DD9D-A036-4A18-AF3E-AD16EA5F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2188-6418-4603-A642-04C776BC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570-4CAB-457F-8640-D64AF40E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F46-7778-4DDE-922A-12E8C619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476-F5DB-4615-87E8-08DA6D21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30D-EE83-4874-B7F4-035345C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C65-86EE-48C3-8E0B-9B243B8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BF9-B3A3-44C1-BEBA-7A1C8BB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867-4004-4A96-B294-F15EBC1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14A8-BD1A-489C-B19E-BEACB21AB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53452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" name="" descr=""/>
          <p:cNvPicPr/>
          <p:nvPr/>
        </p:nvPicPr>
        <p:blipFill>
          <a:blip r:embed="rId4"/>
          <a:srcRect l="20416" t="0" r="0" b="0"/>
          <a:stretch/>
        </p:blipFill>
        <p:spPr>
          <a:xfrm>
            <a:off x="0" y="0"/>
            <a:ext cx="29718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895120" y="61722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8C93-1FAF-400B-AD09-D27BB0515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965160"/>
            <a:ext cx="3240" cy="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6280" y="1809720"/>
            <a:ext cx="5868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270400"/>
            <a:ext cx="324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44928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4"/>
          <a:srcRect l="20416" t="0" r="0" b="0"/>
          <a:stretch/>
        </p:blipFill>
        <p:spPr>
          <a:xfrm flipH="1">
            <a:off x="6477120" y="5862600"/>
            <a:ext cx="2666880" cy="995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06c%20-%20EQ%20Call%20Out%20Form.doc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06d%20-%20Six%20Facet%20Form.doc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Introduction to Backward Desig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d on the work of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y McTighe and Grant Wiggi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ing by Desig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00200" y="6094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urriculum Desig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7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8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28800"/>
            <a:ext cx="8915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topics &amp; Benchmarks mix together and the “Big Picture” is establ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uring Understand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414600"/>
            <a:ext cx="2590920" cy="24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" y="3568680"/>
            <a:ext cx="494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make COFFEE you mix coff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nds and water.  Neithe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the ingredients has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fore the other, and both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ed to end up with coffee.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28800"/>
            <a:ext cx="8915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topics &amp; Benchmarks mix together and the “Big Picture” is establ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uring Understand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352680"/>
            <a:ext cx="494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establish ENDURING UNDERSTANDINGS you mix topics and standards.  Neither one of the ingredients has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fore the other, and both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ed to end up with Enduring Understandings.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86400" y="3352680"/>
            <a:ext cx="2590920" cy="23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uring Understand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828800"/>
            <a:ext cx="441972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chor th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we want students to retain after they have forgotten many of the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a larger purp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48320" y="1905120"/>
            <a:ext cx="3961800" cy="3580920"/>
            <a:chOff x="4648320" y="1905120"/>
            <a:chExt cx="3961800" cy="3580920"/>
          </a:xfrm>
        </p:grpSpPr>
        <p:sp>
          <p:nvSpPr>
            <p:cNvPr id="126" name=""/>
            <p:cNvSpPr/>
            <p:nvPr/>
          </p:nvSpPr>
          <p:spPr>
            <a:xfrm>
              <a:off x="4648320" y="1905120"/>
              <a:ext cx="3961800" cy="358092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78440" y="2485800"/>
              <a:ext cx="3250440" cy="2710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46360" y="3066480"/>
              <a:ext cx="2539800" cy="193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7280" y="195336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Worth being      familiar wi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254664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mportant to       know and 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0840" y="3744000"/>
              <a:ext cx="233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nduring Understa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8120" y="2133720"/>
            <a:ext cx="5333760" cy="3962160"/>
            <a:chOff x="3048120" y="2133720"/>
            <a:chExt cx="5333760" cy="3962160"/>
          </a:xfrm>
        </p:grpSpPr>
        <p:sp>
          <p:nvSpPr>
            <p:cNvPr id="133" name=""/>
            <p:cNvSpPr/>
            <p:nvPr/>
          </p:nvSpPr>
          <p:spPr>
            <a:xfrm>
              <a:off x="3048120" y="2133720"/>
              <a:ext cx="5333760" cy="396216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76560" y="2286000"/>
              <a:ext cx="1625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Worth being      familiar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uring Understand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4479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Your Driving Test &amp; the 40/40/40 fil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352680" y="2743200"/>
            <a:ext cx="4724280" cy="3200400"/>
            <a:chOff x="3352680" y="2743200"/>
            <a:chExt cx="4724280" cy="3200400"/>
          </a:xfrm>
        </p:grpSpPr>
        <p:sp>
          <p:nvSpPr>
            <p:cNvPr id="138" name=""/>
            <p:cNvSpPr/>
            <p:nvPr/>
          </p:nvSpPr>
          <p:spPr>
            <a:xfrm>
              <a:off x="3352680" y="2743200"/>
              <a:ext cx="4724280" cy="3200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27320" y="2774880"/>
              <a:ext cx="162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Important to   know and 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733920" y="3200400"/>
            <a:ext cx="3886200" cy="2544840"/>
            <a:chOff x="3733920" y="3200400"/>
            <a:chExt cx="3886200" cy="2544840"/>
          </a:xfrm>
        </p:grpSpPr>
        <p:sp>
          <p:nvSpPr>
            <p:cNvPr id="141" name=""/>
            <p:cNvSpPr/>
            <p:nvPr/>
          </p:nvSpPr>
          <p:spPr>
            <a:xfrm>
              <a:off x="3733920" y="3200400"/>
              <a:ext cx="3886200" cy="2544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6040" y="3200400"/>
              <a:ext cx="233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nduring Understand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597040" y="3733920"/>
            <a:ext cx="64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any inches away from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rb are you supposed to pa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9000" y="3505320"/>
            <a:ext cx="406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do you pl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hands o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ering whe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809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y is it important 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op at a red ligh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at are the consequen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or not stopping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362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your mind for 4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6576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your mind for 4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1973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your mind for 40+ years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uring Understand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648320" y="1905120"/>
            <a:ext cx="3961800" cy="3580920"/>
            <a:chOff x="4648320" y="1905120"/>
            <a:chExt cx="3961800" cy="3580920"/>
          </a:xfrm>
        </p:grpSpPr>
        <p:sp>
          <p:nvSpPr>
            <p:cNvPr id="151" name=""/>
            <p:cNvSpPr/>
            <p:nvPr/>
          </p:nvSpPr>
          <p:spPr>
            <a:xfrm>
              <a:off x="4648320" y="1905120"/>
              <a:ext cx="3961800" cy="358092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78440" y="2485800"/>
              <a:ext cx="3250440" cy="2710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46360" y="3066480"/>
              <a:ext cx="2539800" cy="193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7280" y="195336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Worth being      familiar wi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7280" y="254664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mportant to       know and 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60840" y="3744000"/>
              <a:ext cx="233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nduring Understa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04920" y="1981080"/>
            <a:ext cx="464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your table groups come up with your own example of a 40/40/40 filter!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esired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What are the Enduring Understanding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Unit Top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Which Frameworks are targe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essential question(s) will guide and focus the teaching and learning?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no one obvious right 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ise important questions across content ar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lect conceptual prior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ur natur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med to provoke/sustain student inter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74960" indent="-21924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e handbook pages 118 &amp; 120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15238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ny students view classroom activities as “…an arbitrary sequence of exercises with no overarching rationale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3962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4495680"/>
            <a:ext cx="79250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“Inside the Black Box” by Paul Black and Dylan Wilia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hi Delta Kappa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October 1998.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Types of EQ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46748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verarc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pic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handbook page 116 &amp; 117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19320" y="700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arching ques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676520"/>
            <a:ext cx="784872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 beyond the unit and focus on larger, broader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 ideas or information about the unit is not mentio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 other topics or subjec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theme within the classroom including several different subject areas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ing by Design S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ge 1 – Identify desired resul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ge 2 – Determine acceptab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evid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ge 3 – Plan learning experience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and instru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Determine the role of technology in helping students reach learning goals.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623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ical ques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754280"/>
            <a:ext cx="845820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answered by researching the material within the unit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difficult to answer, but can be answered using the facts and information from within the unit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623880"/>
            <a:ext cx="86104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2406600"/>
            <a:ext cx="8458200" cy="23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your table groups sort through the sample Essential Questions to determine which are topical and which are overarch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457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 Facets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facets can be used as a stimulus for generating Essential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n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f-Knowledge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e page 10 in your handbook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623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754280"/>
            <a:ext cx="845820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ever possible EQ’s should be in a kid friendly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does an organism’s structure enable it to survive in its environ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How does the size, shape, and strength of an animal help it to live where it do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esired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What are the Enduring Understanding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Unit Top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Which Frameworks are targe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What essential question(s) will guide and focus the teaching and learnin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knowledge and skills will be need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kills and Knowled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you have y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ing 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, you need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w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requisite knowledge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ed to support t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cept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648320" y="1905120"/>
            <a:ext cx="3961800" cy="3580920"/>
            <a:chOff x="4648320" y="1905120"/>
            <a:chExt cx="3961800" cy="3580920"/>
          </a:xfrm>
        </p:grpSpPr>
        <p:sp>
          <p:nvSpPr>
            <p:cNvPr id="182" name=""/>
            <p:cNvSpPr/>
            <p:nvPr/>
          </p:nvSpPr>
          <p:spPr>
            <a:xfrm>
              <a:off x="4648320" y="1905120"/>
              <a:ext cx="3961800" cy="358092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8440" y="2485800"/>
              <a:ext cx="3250440" cy="2710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46360" y="3066480"/>
              <a:ext cx="2539800" cy="193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280" y="1953360"/>
              <a:ext cx="1625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Knowledge that is Worth being      familiar wi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2546640"/>
              <a:ext cx="1625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Knowledge and skills that are important to know and 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60840" y="3744000"/>
              <a:ext cx="233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nduring Understa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n Min Tech T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7627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ic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ssippi Framework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historical time, chronology, and causation. How events occur in time and place, are sequenced chronologically, and impact future ev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ore and explain biological adaptations in a particular environ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earch and investigate environmental changes and the inability of a species to adap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nd analyze challenges or problems from local, regional, national, or global contexts in which science/technology can be or has been used to design a solu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uring Understanding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cieties have always been shaped by Mother Natu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cieties adapt to meet the challenges of nature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our Enduring Understandings, in your groups develop Essential questions for the Disaster Un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Q info. see section 107-122 in your handbo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uring Understanding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ieties have always been shaped by Mother Natu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ieties adapt to meet the challenges of natu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e questions with the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Comic Sans MS"/>
                <a:hlinkClick r:id="rId2"/>
              </a:rPr>
              <a:t>EQ Call Out For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esired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the Enduring Understanding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Top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rameworks are targe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essential question(s) will guide and focus the teaching and learnin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knowledge and skills will be needed?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 Fac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the EQ’s that were generated and sort them by the 6 fac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ine the patterns regarding types of facets that are most often u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 the skills and prior knowledge that will be nee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Comic Sans MS"/>
                <a:hlinkClick r:id="rId2"/>
              </a:rPr>
              <a:t>6 facet fo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o sort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erials from ASCD on Understanding by Desig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ing by Desi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Grant Wiggins and Jay McTig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 price $16.95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-member price  $20.95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Resourc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udent-Centered Classroom Assess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dition, Richard J. Stiggins – available statewide to ESDs and distri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udent-Involved Classroom Assess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dition, Richard J. Stiggins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ide the Black Box”  - available at www.pdkintl.org/kappan/kbla9810.htm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 2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termine Acceptable Evid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method of assess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ance tas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 evid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zzes, tests, prompts, work s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 self-assessment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 Learning and Instr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necessary prerequisite knowledge and ski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 sequence of activi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the role of technology in enhancing teaching and learning.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echnology fit 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including technology into a curriculum plan ask the following question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can technology help stud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 productiv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earch/Process inform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e?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n In-Depth Look at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age On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335268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an intentional curriculum design enhance teaching, learning, and the appropriate integration of technolog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s can hit any appropriate achievement target that is clear and holds still for them.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62520" y="426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Rick Stiggi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essment Training Instit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esired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the Enduring Understanding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Topic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rameworks are targeted?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6T06:26:34Z</dcterms:created>
  <dc:creator>TLP Participant</dc:creator>
  <dc:description/>
  <dc:language>en-US</dc:language>
  <cp:lastModifiedBy>Kelley Schafer</cp:lastModifiedBy>
  <dcterms:modified xsi:type="dcterms:W3CDTF">2004-08-06T18:39:51Z</dcterms:modified>
  <cp:revision>220</cp:revision>
  <dc:subject/>
  <dc:title>PowerPoint Presentation</dc:title>
</cp:coreProperties>
</file>