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thinktheme.wav" ContentType="audio/x-wav"/>
  <Override PartName="/ppt/media/jepardytheme.wav" ContentType="audio/x-wav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dailydoubl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7848720" y="5867280"/>
          <a:ext cx="1066680" cy="81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5867280"/>
                    <a:ext cx="10666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521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ff"/>
                </a:solidFill>
                <a:latin typeface="Times New Roman"/>
              </a:rPr>
              <a:t>Template created by Theresa Me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audio" Target="../media/jepardytheme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dailydouble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hinkthem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4.xml"/><Relationship Id="rId3" Type="http://schemas.openxmlformats.org/officeDocument/2006/relationships/image" Target="../media/image4.png"/><Relationship Id="rId4" Type="http://schemas.openxmlformats.org/officeDocument/2006/relationships/slide" Target="slide25.xml"/><Relationship Id="rId5" Type="http://schemas.openxmlformats.org/officeDocument/2006/relationships/image" Target="../media/image4.png"/><Relationship Id="rId6" Type="http://schemas.openxmlformats.org/officeDocument/2006/relationships/slide" Target="slide19.xml"/><Relationship Id="rId7" Type="http://schemas.openxmlformats.org/officeDocument/2006/relationships/image" Target="../media/image4.png"/><Relationship Id="rId8" Type="http://schemas.openxmlformats.org/officeDocument/2006/relationships/slide" Target="slide20.xml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" Target="slide21.xml"/><Relationship Id="rId14" Type="http://schemas.openxmlformats.org/officeDocument/2006/relationships/image" Target="../media/image4.png"/><Relationship Id="rId15" Type="http://schemas.openxmlformats.org/officeDocument/2006/relationships/slide" Target="slide22.xml"/><Relationship Id="rId16" Type="http://schemas.openxmlformats.org/officeDocument/2006/relationships/image" Target="../media/image4.png"/><Relationship Id="rId17" Type="http://schemas.openxmlformats.org/officeDocument/2006/relationships/slide" Target="slide23.xml"/><Relationship Id="rId18" Type="http://schemas.openxmlformats.org/officeDocument/2006/relationships/image" Target="../media/image4.png"/><Relationship Id="rId19" Type="http://schemas.openxmlformats.org/officeDocument/2006/relationships/slide" Target="slide14.xml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slide" Target="slide5.xml"/><Relationship Id="rId27" Type="http://schemas.openxmlformats.org/officeDocument/2006/relationships/image" Target="../media/image4.png"/><Relationship Id="rId28" Type="http://schemas.openxmlformats.org/officeDocument/2006/relationships/slide" Target="slide6.xml"/><Relationship Id="rId29" Type="http://schemas.openxmlformats.org/officeDocument/2006/relationships/image" Target="../media/image4.png"/><Relationship Id="rId30" Type="http://schemas.openxmlformats.org/officeDocument/2006/relationships/slide" Target="slide7.xml"/><Relationship Id="rId31" Type="http://schemas.openxmlformats.org/officeDocument/2006/relationships/image" Target="../media/image4.png"/><Relationship Id="rId32" Type="http://schemas.openxmlformats.org/officeDocument/2006/relationships/slide" Target="slide8.xml"/><Relationship Id="rId33" Type="http://schemas.openxmlformats.org/officeDocument/2006/relationships/image" Target="../media/image4.png"/><Relationship Id="rId34" Type="http://schemas.openxmlformats.org/officeDocument/2006/relationships/slide" Target="slide9.xml"/><Relationship Id="rId35" Type="http://schemas.openxmlformats.org/officeDocument/2006/relationships/image" Target="../media/image4.png"/><Relationship Id="rId36" Type="http://schemas.openxmlformats.org/officeDocument/2006/relationships/slide" Target="slide10.xml"/><Relationship Id="rId37" Type="http://schemas.openxmlformats.org/officeDocument/2006/relationships/image" Target="../media/image4.png"/><Relationship Id="rId38" Type="http://schemas.openxmlformats.org/officeDocument/2006/relationships/slide" Target="slide11.xml"/><Relationship Id="rId39" Type="http://schemas.openxmlformats.org/officeDocument/2006/relationships/image" Target="../media/image4.png"/><Relationship Id="rId40" Type="http://schemas.openxmlformats.org/officeDocument/2006/relationships/slide" Target="slide12.xml"/><Relationship Id="rId41" Type="http://schemas.openxmlformats.org/officeDocument/2006/relationships/image" Target="../media/image4.png"/><Relationship Id="rId42" Type="http://schemas.openxmlformats.org/officeDocument/2006/relationships/slide" Target="slide13.xml"/><Relationship Id="rId43" Type="http://schemas.openxmlformats.org/officeDocument/2006/relationships/image" Target="../media/image5.jpeg"/><Relationship Id="rId44" Type="http://schemas.openxmlformats.org/officeDocument/2006/relationships/image" Target="../media/image5.jpeg"/><Relationship Id="rId45" Type="http://schemas.openxmlformats.org/officeDocument/2006/relationships/image" Target="../media/image5.jpeg"/><Relationship Id="rId46" Type="http://schemas.openxmlformats.org/officeDocument/2006/relationships/image" Target="../media/image5.jpeg"/><Relationship Id="rId47" Type="http://schemas.openxmlformats.org/officeDocument/2006/relationships/image" Target="../media/image5.jpeg"/><Relationship Id="rId48" Type="http://schemas.openxmlformats.org/officeDocument/2006/relationships/image" Target="../media/image6.png"/><Relationship Id="rId49" Type="http://schemas.openxmlformats.org/officeDocument/2006/relationships/image" Target="../media/image7.png"/><Relationship Id="rId5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sound clips and studio images are from Jeopardy’s web site at www.sony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5562720"/>
            <a:ext cx="152388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B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B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B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B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C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C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C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C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C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D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952880" y="1600200"/>
            <a:ext cx="28195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Uni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86200" y="3200400"/>
            <a:ext cx="58672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Jeopard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D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ILY DOUBLE - Category 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D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D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4876920"/>
            <a:ext cx="304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E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E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E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E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E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NAL JEOPARD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hinkthe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Stencil"/>
              </a:rPr>
              <a:t>Unit Jeopar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15200" y="1828800"/>
            <a:ext cx="1523880" cy="762120"/>
          </a:xfrm>
          <a:custGeom>
            <a:avLst/>
            <a:gdLst>
              <a:gd name="textAreaLeft" fmla="*/ 64800 w 1523880"/>
              <a:gd name="textAreaRight" fmla="*/ 1459080 w 152388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335" y="1845"/>
                </a:lnTo>
                <a:lnTo>
                  <a:pt x="1845" y="1845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335" y="19755"/>
                </a:lnTo>
                <a:lnTo>
                  <a:pt x="41335" y="1845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35" y="19755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2743200"/>
            <a:ext cx="1523880" cy="762120"/>
          </a:xfrm>
          <a:custGeom>
            <a:avLst/>
            <a:gdLst>
              <a:gd name="textAreaLeft" fmla="*/ 64800 w 1523880"/>
              <a:gd name="textAreaRight" fmla="*/ 1459080 w 152388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335" y="1845"/>
                </a:lnTo>
                <a:lnTo>
                  <a:pt x="1845" y="1845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335" y="19755"/>
                </a:lnTo>
                <a:lnTo>
                  <a:pt x="41335" y="1845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35" y="19755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1828800"/>
            <a:ext cx="1523880" cy="762120"/>
          </a:xfrm>
          <a:custGeom>
            <a:avLst/>
            <a:gdLst>
              <a:gd name="textAreaLeft" fmla="*/ 64800 w 1523880"/>
              <a:gd name="textAreaRight" fmla="*/ 1459080 w 152388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335" y="1845"/>
                </a:lnTo>
                <a:lnTo>
                  <a:pt x="1845" y="1845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335" y="19755"/>
                </a:lnTo>
                <a:lnTo>
                  <a:pt x="41335" y="1845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35" y="19755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2743200"/>
            <a:ext cx="1523880" cy="762120"/>
          </a:xfrm>
          <a:custGeom>
            <a:avLst/>
            <a:gdLst>
              <a:gd name="textAreaLeft" fmla="*/ 64800 w 1523880"/>
              <a:gd name="textAreaRight" fmla="*/ 1459080 w 152388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335" y="1845"/>
                </a:lnTo>
                <a:lnTo>
                  <a:pt x="1845" y="1845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335" y="19755"/>
                </a:lnTo>
                <a:lnTo>
                  <a:pt x="41335" y="1845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35" y="19755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3657600"/>
            <a:ext cx="1523880" cy="762120"/>
          </a:xfrm>
          <a:custGeom>
            <a:avLst/>
            <a:gdLst>
              <a:gd name="textAreaLeft" fmla="*/ 64800 w 1523880"/>
              <a:gd name="textAreaRight" fmla="*/ 1459080 w 152388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335" y="1845"/>
                </a:lnTo>
                <a:lnTo>
                  <a:pt x="1845" y="1845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335" y="19755"/>
                </a:lnTo>
                <a:lnTo>
                  <a:pt x="41335" y="1845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35" y="19755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15200" y="4572000"/>
            <a:ext cx="1523880" cy="762120"/>
          </a:xfrm>
          <a:custGeom>
            <a:avLst/>
            <a:gdLst>
              <a:gd name="textAreaLeft" fmla="*/ 64800 w 1523880"/>
              <a:gd name="textAreaRight" fmla="*/ 1459080 w 152388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335" y="1845"/>
                </a:lnTo>
                <a:lnTo>
                  <a:pt x="1845" y="1845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335" y="19755"/>
                </a:lnTo>
                <a:lnTo>
                  <a:pt x="41335" y="1845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35" y="19755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5486400"/>
            <a:ext cx="1523880" cy="762120"/>
          </a:xfrm>
          <a:custGeom>
            <a:avLst/>
            <a:gdLst>
              <a:gd name="textAreaLeft" fmla="*/ 64800 w 1523880"/>
              <a:gd name="textAreaRight" fmla="*/ 1459080 w 152388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335" y="1845"/>
                </a:lnTo>
                <a:lnTo>
                  <a:pt x="1845" y="1845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335" y="19755"/>
                </a:lnTo>
                <a:lnTo>
                  <a:pt x="41335" y="1845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35" y="19755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3657600"/>
            <a:ext cx="1523880" cy="762120"/>
          </a:xfrm>
          <a:custGeom>
            <a:avLst/>
            <a:gdLst>
              <a:gd name="textAreaLeft" fmla="*/ 64800 w 1523880"/>
              <a:gd name="textAreaRight" fmla="*/ 1459080 w 152388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335" y="1845"/>
                </a:lnTo>
                <a:lnTo>
                  <a:pt x="1845" y="1845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335" y="19755"/>
                </a:lnTo>
                <a:lnTo>
                  <a:pt x="41335" y="1845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35" y="19755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4572000"/>
            <a:ext cx="1523880" cy="762120"/>
          </a:xfrm>
          <a:custGeom>
            <a:avLst/>
            <a:gdLst>
              <a:gd name="textAreaLeft" fmla="*/ 64800 w 1523880"/>
              <a:gd name="textAreaRight" fmla="*/ 1459080 w 152388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335" y="1845"/>
                </a:lnTo>
                <a:lnTo>
                  <a:pt x="1845" y="1845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335" y="19755"/>
                </a:lnTo>
                <a:lnTo>
                  <a:pt x="41335" y="1845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35" y="19755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5486400"/>
            <a:ext cx="1523880" cy="762120"/>
          </a:xfrm>
          <a:custGeom>
            <a:avLst/>
            <a:gdLst>
              <a:gd name="textAreaLeft" fmla="*/ 64800 w 1523880"/>
              <a:gd name="textAreaRight" fmla="*/ 1459080 w 152388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335" y="1845"/>
                </a:lnTo>
                <a:lnTo>
                  <a:pt x="1845" y="1845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335" y="19755"/>
                </a:lnTo>
                <a:lnTo>
                  <a:pt x="41335" y="1845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35" y="19755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1828800"/>
            <a:ext cx="1524240" cy="762120"/>
          </a:xfrm>
          <a:custGeom>
            <a:avLst/>
            <a:gdLst>
              <a:gd name="textAreaLeft" fmla="*/ 64800 w 1524240"/>
              <a:gd name="textAreaRight" fmla="*/ 1459440 w 152424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345" y="1845"/>
                </a:lnTo>
                <a:lnTo>
                  <a:pt x="1845" y="1845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345" y="19755"/>
                </a:lnTo>
                <a:lnTo>
                  <a:pt x="41345" y="1845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5" y="19755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2743200"/>
            <a:ext cx="1524240" cy="762120"/>
          </a:xfrm>
          <a:custGeom>
            <a:avLst/>
            <a:gdLst>
              <a:gd name="textAreaLeft" fmla="*/ 64800 w 1524240"/>
              <a:gd name="textAreaRight" fmla="*/ 1459440 w 152424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345" y="1845"/>
                </a:lnTo>
                <a:lnTo>
                  <a:pt x="1845" y="1845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345" y="19755"/>
                </a:lnTo>
                <a:lnTo>
                  <a:pt x="41345" y="1845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5" y="19755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3657600"/>
            <a:ext cx="1524240" cy="762120"/>
          </a:xfrm>
          <a:custGeom>
            <a:avLst/>
            <a:gdLst>
              <a:gd name="textAreaLeft" fmla="*/ 64800 w 1524240"/>
              <a:gd name="textAreaRight" fmla="*/ 1459440 w 152424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345" y="1845"/>
                </a:lnTo>
                <a:lnTo>
                  <a:pt x="1845" y="1845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345" y="19755"/>
                </a:lnTo>
                <a:lnTo>
                  <a:pt x="41345" y="1845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5" y="19755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4572000"/>
            <a:ext cx="1524240" cy="762120"/>
          </a:xfrm>
          <a:custGeom>
            <a:avLst/>
            <a:gdLst>
              <a:gd name="textAreaLeft" fmla="*/ 64800 w 1524240"/>
              <a:gd name="textAreaRight" fmla="*/ 1459440 w 152424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345" y="1845"/>
                </a:lnTo>
                <a:lnTo>
                  <a:pt x="1845" y="1845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345" y="19755"/>
                </a:lnTo>
                <a:lnTo>
                  <a:pt x="41345" y="1845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5" y="19755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86400"/>
            <a:ext cx="1524240" cy="762120"/>
          </a:xfrm>
          <a:custGeom>
            <a:avLst/>
            <a:gdLst>
              <a:gd name="textAreaLeft" fmla="*/ 64800 w 1524240"/>
              <a:gd name="textAreaRight" fmla="*/ 1459440 w 152424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345" y="1845"/>
                </a:lnTo>
                <a:lnTo>
                  <a:pt x="1845" y="1845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345" y="19755"/>
                </a:lnTo>
                <a:lnTo>
                  <a:pt x="41345" y="1845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5" y="19755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828800"/>
            <a:ext cx="1523880" cy="762120"/>
          </a:xfrm>
          <a:custGeom>
            <a:avLst/>
            <a:gdLst>
              <a:gd name="textAreaLeft" fmla="*/ 66600 w 1523880"/>
              <a:gd name="textAreaRight" fmla="*/ 1457280 w 1523880"/>
              <a:gd name="textAreaTop" fmla="*/ 66600 h 762120"/>
              <a:gd name="textAreaBottom" fmla="*/ 6955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290" y="1890"/>
                </a:lnTo>
                <a:lnTo>
                  <a:pt x="1890" y="189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290" y="19710"/>
                </a:lnTo>
                <a:lnTo>
                  <a:pt x="41290" y="189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0" y="1971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743200"/>
            <a:ext cx="1523880" cy="762120"/>
          </a:xfrm>
          <a:custGeom>
            <a:avLst/>
            <a:gdLst>
              <a:gd name="textAreaLeft" fmla="*/ 66600 w 1523880"/>
              <a:gd name="textAreaRight" fmla="*/ 1457280 w 1523880"/>
              <a:gd name="textAreaTop" fmla="*/ 66600 h 762120"/>
              <a:gd name="textAreaBottom" fmla="*/ 6955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290" y="1890"/>
                </a:lnTo>
                <a:lnTo>
                  <a:pt x="1890" y="189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290" y="19710"/>
                </a:lnTo>
                <a:lnTo>
                  <a:pt x="41290" y="189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0" y="1971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blipFill rotWithShape="0">
            <a:blip r:embed="rId2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6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657600"/>
            <a:ext cx="1523880" cy="762120"/>
          </a:xfrm>
          <a:custGeom>
            <a:avLst/>
            <a:gdLst>
              <a:gd name="textAreaLeft" fmla="*/ 66600 w 1523880"/>
              <a:gd name="textAreaRight" fmla="*/ 1457280 w 1523880"/>
              <a:gd name="textAreaTop" fmla="*/ 66600 h 762120"/>
              <a:gd name="textAreaBottom" fmla="*/ 6955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290" y="1890"/>
                </a:lnTo>
                <a:lnTo>
                  <a:pt x="1890" y="189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290" y="19710"/>
                </a:lnTo>
                <a:lnTo>
                  <a:pt x="41290" y="189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0" y="1971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8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572000"/>
            <a:ext cx="1523880" cy="762120"/>
          </a:xfrm>
          <a:custGeom>
            <a:avLst/>
            <a:gdLst>
              <a:gd name="textAreaLeft" fmla="*/ 66600 w 1523880"/>
              <a:gd name="textAreaRight" fmla="*/ 1457280 w 1523880"/>
              <a:gd name="textAreaTop" fmla="*/ 66600 h 762120"/>
              <a:gd name="textAreaBottom" fmla="*/ 6955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290" y="1890"/>
                </a:lnTo>
                <a:lnTo>
                  <a:pt x="1890" y="189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290" y="19710"/>
                </a:lnTo>
                <a:lnTo>
                  <a:pt x="41290" y="189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0" y="1971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0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5486400"/>
            <a:ext cx="1523880" cy="762120"/>
          </a:xfrm>
          <a:custGeom>
            <a:avLst/>
            <a:gdLst>
              <a:gd name="textAreaLeft" fmla="*/ 66600 w 1523880"/>
              <a:gd name="textAreaRight" fmla="*/ 1457280 w 1523880"/>
              <a:gd name="textAreaTop" fmla="*/ 66600 h 762120"/>
              <a:gd name="textAreaBottom" fmla="*/ 6955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290" y="1890"/>
                </a:lnTo>
                <a:lnTo>
                  <a:pt x="1890" y="189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290" y="19710"/>
                </a:lnTo>
                <a:lnTo>
                  <a:pt x="41290" y="189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0" y="1971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blipFill rotWithShape="0">
            <a:blip r:embed="rId3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2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1828800"/>
            <a:ext cx="1523880" cy="762120"/>
          </a:xfrm>
          <a:custGeom>
            <a:avLst/>
            <a:gdLst>
              <a:gd name="textAreaLeft" fmla="*/ 64800 w 1523880"/>
              <a:gd name="textAreaRight" fmla="*/ 1459080 w 152388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335" y="1845"/>
                </a:lnTo>
                <a:lnTo>
                  <a:pt x="1845" y="1845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335" y="19755"/>
                </a:lnTo>
                <a:lnTo>
                  <a:pt x="41335" y="1845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35" y="19755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4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2743200"/>
            <a:ext cx="1523880" cy="762120"/>
          </a:xfrm>
          <a:custGeom>
            <a:avLst/>
            <a:gdLst>
              <a:gd name="textAreaLeft" fmla="*/ 64800 w 1523880"/>
              <a:gd name="textAreaRight" fmla="*/ 1459080 w 152388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335" y="1845"/>
                </a:lnTo>
                <a:lnTo>
                  <a:pt x="1845" y="1845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335" y="19755"/>
                </a:lnTo>
                <a:lnTo>
                  <a:pt x="41335" y="1845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35" y="19755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6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3657600"/>
            <a:ext cx="1523880" cy="762120"/>
          </a:xfrm>
          <a:custGeom>
            <a:avLst/>
            <a:gdLst>
              <a:gd name="textAreaLeft" fmla="*/ 64800 w 1523880"/>
              <a:gd name="textAreaRight" fmla="*/ 1459080 w 152388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335" y="1845"/>
                </a:lnTo>
                <a:lnTo>
                  <a:pt x="1845" y="1845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335" y="19755"/>
                </a:lnTo>
                <a:lnTo>
                  <a:pt x="41335" y="1845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35" y="19755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8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4572000"/>
            <a:ext cx="1523880" cy="762120"/>
          </a:xfrm>
          <a:custGeom>
            <a:avLst/>
            <a:gdLst>
              <a:gd name="textAreaLeft" fmla="*/ 64800 w 1523880"/>
              <a:gd name="textAreaRight" fmla="*/ 1459080 w 152388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335" y="1845"/>
                </a:lnTo>
                <a:lnTo>
                  <a:pt x="1845" y="1845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335" y="19755"/>
                </a:lnTo>
                <a:lnTo>
                  <a:pt x="41335" y="1845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35" y="19755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3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0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5486400"/>
            <a:ext cx="1523880" cy="762120"/>
          </a:xfrm>
          <a:custGeom>
            <a:avLst/>
            <a:gdLst>
              <a:gd name="textAreaLeft" fmla="*/ 64800 w 1523880"/>
              <a:gd name="textAreaRight" fmla="*/ 1459080 w 1523880"/>
              <a:gd name="textAreaTop" fmla="*/ 64800 h 762120"/>
              <a:gd name="textAreaBottom" fmla="*/ 69732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335" y="1845"/>
                </a:lnTo>
                <a:lnTo>
                  <a:pt x="1845" y="1845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335" y="19755"/>
                </a:lnTo>
                <a:lnTo>
                  <a:pt x="41335" y="1845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35" y="19755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blipFill rotWithShape="0">
            <a:blip r:embed="rId4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2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28600" y="1143000"/>
          <a:ext cx="8610480" cy="517680"/>
        </p:xfrm>
        <a:graphic>
          <a:graphicData uri="http://schemas.openxmlformats.org/drawingml/2006/table">
            <a:tbl>
              <a:tblPr/>
              <a:tblGrid>
                <a:gridCol w="1676520"/>
                <a:gridCol w="1752480"/>
                <a:gridCol w="1782720"/>
                <a:gridCol w="1736640"/>
                <a:gridCol w="1662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Franklin Gothic Medium Cond"/>
                        </a:rPr>
                        <a:t>Category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Franklin Gothic Medium Cond"/>
                        </a:rPr>
                        <a:t>Category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Franklin Gothic Medium Cond"/>
                        </a:rPr>
                        <a:t>Category 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Franklin Gothic Medium Cond"/>
                        </a:rPr>
                        <a:t>Category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Franklin Gothic Medium Cond"/>
                        </a:rPr>
                        <a:t>Category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8077320" y="6400800"/>
            <a:ext cx="1066680" cy="457200"/>
          </a:xfrm>
          <a:custGeom>
            <a:avLst/>
            <a:gdLst>
              <a:gd name="textAreaLeft" fmla="*/ 39960 w 1066680"/>
              <a:gd name="textAreaRight" fmla="*/ 1026720 w 1066680"/>
              <a:gd name="textAreaTop" fmla="*/ 39960 h 457200"/>
              <a:gd name="textAreaBottom" fmla="*/ 41724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482" y="1890"/>
                </a:lnTo>
                <a:lnTo>
                  <a:pt x="1890" y="1890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482" y="19710"/>
                </a:lnTo>
                <a:lnTo>
                  <a:pt x="48482" y="1890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8482" y="19710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blipFill rotWithShape="0">
            <a:blip r:embed="rId4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9"/>
          <a:stretch/>
        </p:blipFill>
        <p:spPr>
          <a:xfrm>
            <a:off x="-76212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168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A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A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A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A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48720" y="5867280"/>
            <a:ext cx="1066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A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B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191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4T18:50:05Z</dcterms:created>
  <dc:creator>Theresa Meyer</dc:creator>
  <dc:description>© 1999 SchoolKit.com Inc.    www.SchoolKit.com
This template is a component of the SchoolKit Digital Resource Library and is licensed only to currently subscribed users of the library. For more information visit:
www.SchoolKit.com</dc:description>
  <dc:language>en-US</dc:language>
  <cp:lastModifiedBy>Public</cp:lastModifiedBy>
  <dcterms:modified xsi:type="dcterms:W3CDTF">2002-08-31T20:00:26Z</dcterms:modified>
  <cp:revision>75</cp:revision>
  <dc:subject>SchoolKit.com Inc.</dc:subject>
  <dc:title>Middle East Jeopardy</dc:title>
</cp:coreProperties>
</file>