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381-D0B5-438F-9978-DC139499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5CB-E3BF-4339-807C-911AE64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963-69FC-4815-AA1F-484EBEA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116-A6D0-490E-BB6F-72A4E88C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5B4-959F-46C7-9C12-289E28FF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1249-C9CD-445E-9DE7-ECEFCB0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90D-1273-490C-AE5B-C8CA03CF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CA6-3EDA-4150-A67D-7F516D0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1E54-AEEA-473A-94E7-7CA91859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E0A-779E-4E26-8EC0-29FB1248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5FD-C79D-4725-A76D-2AFA192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5BD-4F88-4FFF-BF2F-7E809AD1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273-0285-49CE-A7C5-F329389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B56-7406-458D-93B2-1BEF615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9126-082A-451B-A6BD-01E7DAD1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258-FB82-42F3-B1C3-AC5D29EE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7993-F07C-4484-83C2-3E098097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D0E-6607-48DD-8259-339E9C4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6A6-0CA3-44E5-BF9B-E530447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BCE-20D4-46C7-AEA6-BD8C2A0E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3CD-B731-4600-B6A1-D87E7155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B52-285A-4475-927D-E7198A73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339-188E-4F6A-9E70-6C4571B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77C-054A-4377-A49A-1549E3F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4f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cf4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cf4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cf4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cf4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cf4f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4f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f4f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f4f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f4f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f4f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f4f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D00D-B17E-462F-BB8A-075E6CF1278B}" type="slidenum">
              <a:rPr b="0" lang="en-US" sz="1400" spc="-1" strike="noStrike">
                <a:solidFill>
                  <a:srgbClr val="ecf4f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4f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0CE1-48E2-4718-B8B5-BBD7E236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3356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cf4fc"/>
                </a:solidFill>
                <a:latin typeface="Arial"/>
              </a:rPr>
              <a:t>Journaling Question</a:t>
            </a:r>
            <a:endParaRPr b="0" lang="en-US" sz="6000" spc="-1" strike="noStrike">
              <a:solidFill>
                <a:srgbClr val="ecf4f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possibilities do you see for UbD influencing your planning and instruction?</a:t>
            </a:r>
            <a:endParaRPr b="0" lang="en-US" sz="4800" spc="-1" strike="noStrike">
              <a:solidFill>
                <a:srgbClr val="ecf4f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22:58:29Z</dcterms:created>
  <dc:creator>Default</dc:creator>
  <dc:description/>
  <dc:language>en-US</dc:language>
  <cp:lastModifiedBy>Public</cp:lastModifiedBy>
  <dcterms:modified xsi:type="dcterms:W3CDTF">2002-08-21T21:37:35Z</dcterms:modified>
  <cp:revision>4</cp:revision>
  <dc:subject/>
  <dc:title>Journaling Question</dc:title>
</cp:coreProperties>
</file>