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applause.wav" ContentType="audio/x-wav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48720" y="5867280"/>
          <a:ext cx="1066680" cy="8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867280"/>
                    <a:ext cx="10666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5530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66ff"/>
                </a:solidFill>
                <a:latin typeface="Times New Roman"/>
              </a:rPr>
              <a:t>Template created by Theresa Me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6.xml"/><Relationship Id="rId13" Type="http://schemas.openxmlformats.org/officeDocument/2006/relationships/image" Target="../media/image3.png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8.xml"/><Relationship Id="rId17" Type="http://schemas.openxmlformats.org/officeDocument/2006/relationships/image" Target="../media/image3.png"/><Relationship Id="rId18" Type="http://schemas.openxmlformats.org/officeDocument/2006/relationships/slide" Target="slide9.xml"/><Relationship Id="rId19" Type="http://schemas.openxmlformats.org/officeDocument/2006/relationships/image" Target="../media/image3.png"/><Relationship Id="rId20" Type="http://schemas.openxmlformats.org/officeDocument/2006/relationships/slide" Target="slide10.xml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066680"/>
            <a:ext cx="2895840" cy="24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Ub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2666880"/>
            <a:ext cx="6019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ssential Question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re the two types of Essential 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pical and overarch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ssential Question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should Essential Questions be word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kid-friendly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ssential Question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goal of Essential Questions in regard to student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1911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800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reate an inquisitive, active learning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Natural Disaster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year did Mt. St. Helens erup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8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Natural Disaster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city did Mt. Vesuvius destr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mpei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ILY DOUBLE - </a:t>
            </a:r>
            <a:r>
              <a:rPr b="0" lang="en-US" sz="4000" spc="-1" strike="noStrike">
                <a:solidFill>
                  <a:srgbClr val="ffffff"/>
                </a:solidFill>
                <a:latin typeface="Franklin Gothic Medium Cond"/>
              </a:rPr>
              <a:t>Natural Disaster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atural disaster sent Dorothy to O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rn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Natural Disaster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sporting event was interrupted by the 1989 San Francisco earthqua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World Ser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Natural Disaster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487692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4 Washington volcano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91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ainier, Helens, Baker, Adams, Glacier P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re you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ppos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have read prior to our sess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191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vervie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ge 1 (Modules 4-6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owse Stage 3 (Modules  12-1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AL JEOPARDY! - Sum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tencil"/>
              </a:rPr>
              <a:t>UbD 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22860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32004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41148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50292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59436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2860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2004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1148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0292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9436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2860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41148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50292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9436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1143000"/>
          <a:ext cx="8686800" cy="1030320"/>
        </p:xfrm>
        <a:graphic>
          <a:graphicData uri="http://schemas.openxmlformats.org/drawingml/2006/table">
            <a:tbl>
              <a:tblPr/>
              <a:tblGrid>
                <a:gridCol w="2793960"/>
                <a:gridCol w="2921040"/>
                <a:gridCol w="29718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Endur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Understa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Essen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Natur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Disas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rot="16200000">
            <a:off x="8381880" y="6095520"/>
            <a:ext cx="1066680" cy="457200"/>
          </a:xfrm>
          <a:custGeom>
            <a:avLst/>
            <a:gdLst>
              <a:gd name="textAreaLeft" fmla="*/ 39960 w 1066680"/>
              <a:gd name="textAreaRight" fmla="*/ 1026720 w 1066680"/>
              <a:gd name="textAreaTop" fmla="*/ 39960 h 457200"/>
              <a:gd name="textAreaBottom" fmla="*/ 41724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482" y="1890"/>
                </a:lnTo>
                <a:lnTo>
                  <a:pt x="1890" y="189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482" y="19710"/>
                </a:lnTo>
                <a:lnTo>
                  <a:pt x="48482" y="189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8482" y="1971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7"/>
          <a:stretch/>
        </p:blipFill>
        <p:spPr>
          <a:xfrm>
            <a:off x="-76212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nduring Understanding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nchors a un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during Understa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nduring Understanding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oes the C &amp; O acronym stand f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etencies and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nduring Understanding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3 of the 6 Facets of Understa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1911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pplication, Explanation, Interpretation, Perspective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mpathy, Self-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nduring Understanding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are the two ingredients that you add to your filter to create Enduring Understanding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72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nit topic and Frameworks (C&amp;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5867280"/>
            <a:ext cx="1066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nduring Understanding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40-40-40 ru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191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 minutes, 40 days, 40 years of rememb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ssential Question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do Essential Questions guid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arning or teach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Essential Question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kind of answers do Essential Questions h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91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road, not limited to one correct answer, cross curr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4T18:50:05Z</dcterms:created>
  <dc:creator>Theresa Meyer</dc:creator>
  <dc:description>© 1999 SchoolKit.com Inc.    www.SchoolKit.com
This template is a component of the SchoolKit Digital Resource Library and is licensed only to currently subscribed users of the library. For more information visit:
www.SchoolKit.com</dc:description>
  <dc:language>en-US</dc:language>
  <cp:lastModifiedBy>Kelley Schafer</cp:lastModifiedBy>
  <dcterms:modified xsi:type="dcterms:W3CDTF">2004-08-06T18:45:11Z</dcterms:modified>
  <cp:revision>85</cp:revision>
  <dc:subject>SchoolKit.com Inc.</dc:subject>
  <dc:title>Middle East Jeopardy</dc:title>
</cp:coreProperties>
</file>