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60C2-A243-42B1-B91C-E1B208448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Read me file for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use first and last name, assignment title and teacher designation/period designation.  As the instructor for this lesson put in an example of what you use or someone you know uses to manage files and f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7346E-9ABE-48C7-AE64-C946528A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78C03-5354-4A91-9326-CB57FB2F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F3855-462B-49FD-9544-AF1C939B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D66F7-1BB4-4AC5-B301-ED7C51E9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7677-404A-4A21-B4D5-8BE65E25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E97E-6142-4556-8C96-5C60AE2A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8208-A8A8-45D4-879F-2E2405A3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A369-64EF-4D07-B566-8AD438FC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1405-9274-43AB-9589-19C10E97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0AAE-E575-4EE6-A82F-BA6A6800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065C-A6CB-494F-B80A-3EC05CB2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BEC65-BBDB-4134-BF94-D1B6D914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6CDC-4D72-4D0F-91B4-3D2FEBA3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4861-D995-483D-BB3A-93E008F6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5A03-F227-43DE-84E0-2F08DA55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7909-3E68-49E5-9C11-526C43F9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B20A-6B2C-44FF-BE4B-DF2966D0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7D94C-7E02-4CC2-989B-2762219E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2F864-29C2-47B4-9626-00A41FB2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CCD92-FF83-40FE-9193-50EF4ACB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5B856-9445-41DE-A306-7AFC6113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AC83B-7FD9-44E6-84E6-22195530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7AA1E-78A5-4AFF-8548-77B475C4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45BD7-D68F-48C0-9250-FE351FE7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3073-9196-4672-849F-10674B2986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3660-2D2C-49A6-88DC-63A3D04007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eaching with a 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4:1 Ratio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361960" y="4266720"/>
            <a:ext cx="6629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D’s, Computers, Files &amp; Folders, and Print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ching with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feel you need to use the computers all the time or even every day.  Remember they are a tool—use them appropr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room management with computers requires the same standards as without comput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each table group share one concern and two ideas for managing technology.  Then let the group brainstorm ideas to address each conc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here is to ease the anxiety of the participants.  Add some ideas of what works in your class and what you know other fellow TLP teachers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perative groups—assign tasks within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class work on two assignments at once—one a partner activity involving computer/one without computer; rotate assignments every other day or at different time peri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a variety of tasks for a project—only one of which includes the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Arial"/>
              </a:rPr>
              <a:t>Classroom Management Tips</a:t>
            </a:r>
            <a:br>
              <a:rPr sz="4000"/>
            </a:b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(Ideas from fellow TLP particip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Managing the 4:1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operativ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class two assignments a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ly define roles when students are at the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a variety of tasks for a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task for each person and rotate and different time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default printing to the lowest quality and only reset when printing final cop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students how to print more than one slide per page when printing Power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nd students to click print jobs only once.  Print jobs with a lot of ink or graphics take some time to start prin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visual aide, like a cup, and set it on the printer to show printing order.  This eliminates network back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te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default print settings to high speed or draft m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have students proofread before they pr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visual aid to determine order of prin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only one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eliminates network probl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click print once.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the participants various examples of how to save files.  Use initials and then assignment name when saving is one ex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n example you use on slide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folders to have students save final assignments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files and fol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descriptive titles plus init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Instructor samp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D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idea to burn back up copies of important CD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back ups and save master copies in a saf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in 3 ring binder with plastic slee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16:30:41Z</dcterms:created>
  <dc:creator>Richard Glick</dc:creator>
  <dc:description/>
  <dc:language>en-US</dc:language>
  <cp:lastModifiedBy>Kelley Schafer</cp:lastModifiedBy>
  <dcterms:modified xsi:type="dcterms:W3CDTF">2004-08-06T18:47:19Z</dcterms:modified>
  <cp:revision>6</cp:revision>
  <dc:subject/>
  <dc:title>Managing a 4:1</dc:title>
</cp:coreProperties>
</file>