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AE5-0F26-4147-AC63-2623695E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5F2-0F20-40B8-86D7-5B68526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59F-2715-4E5F-83A4-A12CF3DD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2F1-AA52-4E37-8635-EDD0960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77D-D265-4D8E-982A-B7C23876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B281-A3B3-43BB-8DDE-630C3591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1C7-1573-4C1A-833B-8C0E1751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AA55-E675-460F-959F-A502A044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15FB-E14D-4DFC-90C8-FCEE8BFF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4603-3BBC-4167-9A90-0DCC73A4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3F51-8F64-42EC-9991-A7F35A5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6A2-FB44-4E61-9C76-CAF8BBE7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91E-01DB-4B5A-AAE6-C99A3152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2CCE-23F0-46C3-8BE2-2FEC8C1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3BFE-032E-4E9E-B3CB-C7A59F1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5D3C-F4D3-4EBA-A57C-8BA4C6B9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7F64-95D6-4546-B79C-ECCA13C1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6F9-B421-434C-9EA4-5D1BE00D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71C-0E0F-450A-B797-8D23B36E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6ED-B6E7-47A6-A916-7CE036DF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A67-A89D-42FD-945D-042E7CA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FA5-A71A-41D0-9BC9-6B03AB5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1A8-35CF-4BFD-8EDE-F2E6495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53B-5303-4BD6-B36E-C448BD6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dcd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edc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edc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edc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edcd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edcd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dcd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dcd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dcd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dcd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dcd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edcd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E8FB-D78B-45D0-A5D5-88217CE538FB}" type="slidenum">
              <a:rPr b="0" lang="en-US" sz="1400" spc="-1" strike="noStrike">
                <a:solidFill>
                  <a:srgbClr val="eedcd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dcd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E4F6-E7F2-4582-A1E1-80E5519B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ting Goals</a:t>
            </a:r>
            <a:endParaRPr b="0" lang="en-US" sz="4000" spc="-1" strike="noStrike">
              <a:solidFill>
                <a:srgbClr val="eedcd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your Journal document 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3 or 4 realistic goals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topics: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10 ways to know you are integrating technology</a:t>
            </a:r>
            <a:endParaRPr b="0" lang="en-US" sz="2800" spc="-1" strike="noStrike">
              <a:solidFill>
                <a:srgbClr val="eedcd6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eadership discussion</a:t>
            </a:r>
            <a:endParaRPr b="0" lang="en-US" sz="2800" spc="-1" strike="noStrike">
              <a:solidFill>
                <a:srgbClr val="eedcd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someone to share goals with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deadline for when goal should be accomplished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revisit goals at the winter regional meeting</a:t>
            </a: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dcd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0:58:38Z</dcterms:created>
  <dc:creator>Public</dc:creator>
  <dc:description/>
  <dc:language>en-US</dc:language>
  <cp:lastModifiedBy>Kelley Schafer</cp:lastModifiedBy>
  <dcterms:modified xsi:type="dcterms:W3CDTF">2004-08-06T19:03:44Z</dcterms:modified>
  <cp:revision>2</cp:revision>
  <dc:subject/>
  <dc:title>Setting Goals</dc:title>
</cp:coreProperties>
</file>