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7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900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900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2C5E-4C6B-407B-B6D9-2E3B99082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ing Activity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350D-2483-4E98-AC2B-C7DE09A1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86BA-DA5C-44A0-8B15-904769FA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0B58-D9D0-439D-8DCF-A68C7ABC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C62E-B962-4E11-B051-1EFB569A3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64BF-A615-4625-B9E7-D72B50FCD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11FF-9572-4198-8125-D2AF6BBF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BACB-FC22-482C-B5E2-E15928E0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7566-D4C3-4A0F-9329-8211FD33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0C06-E452-4A57-9883-E2BEC933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6ACB-F1F6-4F0E-9FBD-894B855D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E71D-56B6-4DA8-B36A-C28FB99C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2379-E73A-4684-89A4-308A740D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935C-39F9-46D7-9286-19C6C6CD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32C6-21F8-4234-B3F1-BD7AEAD7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3839-3B19-41B2-9D7A-95EAF5F9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D6A4-067E-4C43-A7F5-A1F649283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E5A5-562A-47C4-84C3-512D003CA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500B-F8CD-434A-8B58-214B038D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39CA-44D5-41E2-BB76-52D94F9D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3D68-5C3F-4B30-A8E6-9A685FF7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6A31-20D2-4F5A-978C-FE75F3A0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9D46-F9A8-4CA8-8F74-36122C63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5ED5-0ED3-4D57-B505-35703989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4F0E-4C2B-4B15-BCFF-3D857299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2D25-2929-4A4F-BDAE-4CBC725A5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8534520" y="0"/>
            <a:ext cx="44928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" name="" descr=""/>
          <p:cNvPicPr/>
          <p:nvPr/>
        </p:nvPicPr>
        <p:blipFill>
          <a:blip r:embed="rId4"/>
          <a:srcRect l="20416" t="0" r="0" b="0"/>
          <a:stretch/>
        </p:blipFill>
        <p:spPr>
          <a:xfrm>
            <a:off x="0" y="0"/>
            <a:ext cx="2971800" cy="9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895120" y="6172200"/>
            <a:ext cx="3505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60E6-E658-4192-AE00-DAB25E7F4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3040" y="965160"/>
            <a:ext cx="3240" cy="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6280" y="1809720"/>
            <a:ext cx="58680" cy="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7080" y="5270400"/>
            <a:ext cx="324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52280" y="0"/>
            <a:ext cx="44928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1" name="" descr=""/>
          <p:cNvPicPr/>
          <p:nvPr/>
        </p:nvPicPr>
        <p:blipFill>
          <a:blip r:embed="rId4"/>
          <a:srcRect l="20416" t="0" r="0" b="0"/>
          <a:stretch/>
        </p:blipFill>
        <p:spPr>
          <a:xfrm flipH="1">
            <a:off x="6477120" y="5862600"/>
            <a:ext cx="2666880" cy="9954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06c%20-%20EQ%20Call%20Out%20Form.doc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lpfall/06d%20-%20Six%20Facet%20Form.doc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bD Continued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(C) 1998 by the Association for Supervision and Curriculum Development. All rights reserve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pic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as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ssissippi Framework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historical time, chronology, and causation. How events occur in time and place, are sequenced chronologically, and impact future eve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plore and explain biological adaptations in a particular environ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and investigate environmental changes and the inability of a species to adap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udy and analyze challenges or problems from local, regional, national, or global contexts in which science/technology can be or has been used to design a soluti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8 by the Association for Supervision and Curriculum Development. All rights reserved.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during Understandings: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cieties have always been shaped by Mother Natu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cieties adapt to meet the challenges of nature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8 by the Association for Supervision and Curriculum Development. All rights reserved.</a:t>
            </a: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r 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our Enduring Understandings, in your groups develop Essential questions for the Disaster Uni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EQ info. see section 107-122 in your handboo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during Understanding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cieties have always been shaped by Mother Natur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cieties adapt to meet the challenges of natur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are questions with the grou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cc"/>
                </a:solidFill>
                <a:uFillTx/>
                <a:latin typeface="Comic Sans MS"/>
                <a:hlinkClick r:id="rId2"/>
              </a:rPr>
              <a:t>EQ Call Out Form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8 by the Association for Supervision and Curriculum Development. All rights reserve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 Face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ke the EQ’s that were generated and sort them by the 6 face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ine the patterns regarding types of facets that are most often us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cuss the skills and prior knowledge that will be need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the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Comic Sans MS"/>
                <a:hlinkClick r:id="rId2"/>
              </a:rPr>
              <a:t>6 facet for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o sort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8 by the Association for Supervision and Curriculum Development. All rights reserve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erials from ASCD on Understanding by Design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Understanding by Desig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y Grant Wiggins and Jay McTigh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mber price $16.95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n-member price  $20.95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8 by the Association for Supervision and Curriculum Development. All rights reserved.</a:t>
            </a: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Resource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udent-Centered Classroom Assessme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dition, Richard J. Stiggins – available statewide to ESDs and distric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udent-Involved Classroom Assessme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dition, Richard J. Stiggins –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ide the Black Box”  - available at www.pdkintl.org/kappan/kbla9810.htm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6T06:26:34Z</dcterms:created>
  <dc:creator>TLP Participant</dc:creator>
  <dc:description/>
  <dc:language>en-US</dc:language>
  <cp:lastModifiedBy>Kelley Schafer</cp:lastModifiedBy>
  <dcterms:modified xsi:type="dcterms:W3CDTF">2004-08-06T18:43:30Z</dcterms:modified>
  <cp:revision>214</cp:revision>
  <dc:subject/>
  <dc:title>PowerPoint Presentation</dc:title>
</cp:coreProperties>
</file>