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9A3A-9325-4CCE-BAA4-321154ED9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ashington state, stage one should include the following question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380880" cy="380880"/>
          </a:xfrm>
          <a:prstGeom prst="cube">
            <a:avLst>
              <a:gd name="adj" fmla="val 24981"/>
            </a:avLst>
          </a:prstGeom>
          <a:gradFill rotWithShape="0">
            <a:gsLst>
              <a:gs pos="0">
                <a:srgbClr val="ffff99"/>
              </a:gs>
              <a:gs pos="50000">
                <a:srgbClr val="7e7e4b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85800"/>
            <a:ext cx="380880" cy="380880"/>
          </a:xfrm>
          <a:prstGeom prst="cube">
            <a:avLst>
              <a:gd name="adj" fmla="val 24981"/>
            </a:avLst>
          </a:prstGeom>
          <a:gradFill rotWithShape="0">
            <a:gsLst>
              <a:gs pos="0">
                <a:srgbClr val="ffff99"/>
              </a:gs>
              <a:gs pos="50000">
                <a:srgbClr val="7e7e4b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1143000"/>
            <a:ext cx="380880" cy="380880"/>
          </a:xfrm>
          <a:prstGeom prst="cube">
            <a:avLst>
              <a:gd name="adj" fmla="val 24981"/>
            </a:avLst>
          </a:prstGeom>
          <a:gradFill rotWithShape="0">
            <a:gsLst>
              <a:gs pos="0">
                <a:srgbClr val="ffff99"/>
              </a:gs>
              <a:gs pos="50000">
                <a:srgbClr val="7e7e4b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10480" y="5410080"/>
            <a:ext cx="381240" cy="381240"/>
          </a:xfrm>
          <a:prstGeom prst="cube">
            <a:avLst>
              <a:gd name="adj" fmla="val 24981"/>
            </a:avLst>
          </a:prstGeom>
          <a:gradFill rotWithShape="0">
            <a:gsLst>
              <a:gs pos="0">
                <a:srgbClr val="ffff99"/>
              </a:gs>
              <a:gs pos="50000">
                <a:srgbClr val="7e7e4b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610480" y="5867280"/>
            <a:ext cx="381240" cy="381240"/>
          </a:xfrm>
          <a:prstGeom prst="cube">
            <a:avLst>
              <a:gd name="adj" fmla="val 24981"/>
            </a:avLst>
          </a:prstGeom>
          <a:gradFill rotWithShape="0">
            <a:gsLst>
              <a:gs pos="0">
                <a:srgbClr val="ffff99"/>
              </a:gs>
              <a:gs pos="50000">
                <a:srgbClr val="7e7e4b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10480" y="6324480"/>
            <a:ext cx="381240" cy="381240"/>
          </a:xfrm>
          <a:prstGeom prst="cube">
            <a:avLst>
              <a:gd name="adj" fmla="val 24981"/>
            </a:avLst>
          </a:prstGeom>
          <a:gradFill rotWithShape="0">
            <a:gsLst>
              <a:gs pos="0">
                <a:srgbClr val="ffff99"/>
              </a:gs>
              <a:gs pos="50000">
                <a:srgbClr val="7e7e4b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685800" y="624492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Understanding by Design Stages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e 1 – Identify desired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e 2 – Determine acceptable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e 3 – Plan learning experiences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the role of technology in helping students research and process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Stage 1: </a:t>
            </a:r>
            <a:br>
              <a:rPr sz="4400"/>
            </a:b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Identify Desired Results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Frameworks are targe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are the focus of enduring understanding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nowledge and skills will be targe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essential question(s) will guide and focus the teaching and learn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choosing targets, see handbook  worksheet pa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, 55, 61, 62 and 76-8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Essential Questions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no one obvious right ans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se important questions across content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 conceptual pri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r natur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d to provoke/sustain student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handbook pages 116-1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wo Types of Essential Questions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62481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verarch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pica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handbook page 116, 117, &amp; 1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Stage 2:  </a:t>
            </a:r>
            <a:br>
              <a:rPr sz="4400"/>
            </a:b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Determine Acceptable Evidence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method of 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t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zzes, tests, prompts, work s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self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handbook pages 51, 52, 56-58, 63-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Stage 3:</a:t>
            </a:r>
            <a:br>
              <a:rPr sz="4400"/>
            </a:b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Plan Learning and Instruction</a:t>
            </a:r>
            <a:endParaRPr b="1" i="1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necessary prerequisite knowledge and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sequence of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the role of technology in enhancing teaching and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es the technology help stud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productivit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arch/Process informa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 solv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handbook pages 53, 59 &amp; 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(C) 1998 by the Association for Supervision and Curriculum Development. All rights reserved.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17:28:53Z</dcterms:created>
  <dc:creator>Theresa Meyer</dc:creator>
  <dc:description/>
  <dc:language>en-US</dc:language>
  <cp:lastModifiedBy>Kelley Schafer</cp:lastModifiedBy>
  <dcterms:modified xsi:type="dcterms:W3CDTF">2004-08-06T18:45:55Z</dcterms:modified>
  <cp:revision>5</cp:revision>
  <dc:subject/>
  <dc:title>Understanding by Design Stages</dc:title>
</cp:coreProperties>
</file>