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A2B1-EBF0-4307-8452-A649B8BD8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as an introduction into goal setting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 free to change this slide and make it your ow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8BEF-1DD5-4E93-AB12-1D3F14BA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EACD-2550-4264-AE0F-B3BCFAFE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6056-D8D5-4F00-9E62-40D5FF22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E6E7-0443-4E11-92CA-CCD5F64D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8F6E-A28B-4B73-B376-F27B4792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A83F-0344-4375-91A9-33D61D1A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D8E4-794E-4A52-9FC9-A7D10AA0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EE7C-BAEC-4711-BF18-34ED09BE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E935-7DA9-4C89-BA22-9EE4BFFA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8B29-30EC-462B-81A9-3FC2927F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8900-D1D9-457E-AC8C-F3025F44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70B5-28AD-4E76-87D2-70803237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B068-DF6E-4CA5-8FE8-0BE7D5B5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388C-C412-491D-BB46-AF88D1E5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EF21-01CB-40A0-981E-F7F2BC7F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E6CF-BF0B-403F-98F8-4B9C4109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180E-4AE9-45EF-BE98-F1FE15D6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4C3C-C9F7-43B2-A742-DABAEB12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33BB-94C0-4E2E-B588-EEB96260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DA6B-FE10-4C66-BD36-68F25436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4A90-1E8A-48E2-A9EE-DD85B557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8BE6-9581-4D3E-8412-54136BEF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917B-18CE-42F9-BF81-90EAE7A7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FFD9-BC2B-4C49-8CF1-8FCAB6FD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792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3EF8-6B42-48A9-99AD-19A74A9AD787}" type="slidenum">
              <a:rPr b="0" lang="en-US" sz="1400" spc="-1" strike="noStrike">
                <a:solidFill>
                  <a:srgbClr val="ff64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46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4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BFBA-30D1-42B6-8E18-72FB128BDA7D}" type="slidenum">
              <a:rPr b="0" lang="en-US" sz="1400" spc="-1" strike="noStrike">
                <a:solidFill>
                  <a:srgbClr val="ff64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666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In Closing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LP Goal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96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roduce competent, confident, independent learners who can self assess and demonstrate their understanding of the learning targets through quality work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6972480" indent="0">
              <a:spcBef>
                <a:spcPts val="700"/>
              </a:spcBef>
              <a:buNone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Linda Dobbs 2000. All rights reserved.</a:t>
            </a:r>
          </a:p>
        </p:txBody>
      </p:sp>
    </p:spTree>
  </p:cSld>
  <p:transition spd="med"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Winter Meeting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cus on Stage 2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ing Acceptable Evidenc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Research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ding for Winter Regional Meeting: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ge 2 (Modules 7-11)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n your way out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ks for all of your participation!!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e you at the Winter Regional Meeting!!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21:41:39Z</dcterms:created>
  <dc:creator>Default</dc:creator>
  <dc:description/>
  <dc:language>en-US</dc:language>
  <cp:lastModifiedBy>Kelley Schafer</cp:lastModifiedBy>
  <dcterms:modified xsi:type="dcterms:W3CDTF">2004-08-06T19:04:20Z</dcterms:modified>
  <cp:revision>35</cp:revision>
  <dc:subject/>
  <dc:title>What is to come in 2001-2002</dc:title>
</cp:coreProperties>
</file>