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4781-8EAB-48D1-A942-798B0A96185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this slideshow running on a loop as participants arr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DD667-64CC-4322-85D5-312169F1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BD94D-CBD6-48B9-9036-7F98B41C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858FA-2F12-4EDB-88B2-3730A3E7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82E65-478D-4F87-ADF5-58320751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B25C7-5A6D-4B40-89EE-94DE5F5F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18E8F-A291-470D-8EF1-06075EC7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EEC1B-0EC5-4D02-B29C-ECBB61E1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21881-8EDA-449D-B171-EC82077A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BACB2-30B8-4989-B9CA-4F1115F5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5133E-995E-4088-B23D-A368FF9E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1360D-90A3-49B4-BCD7-1F869915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F779D-CCD9-4BF7-9709-52572A32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6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806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806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806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806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806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6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6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6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6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DDC5-5B0E-42CE-A30C-A22A150DE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6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6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6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6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6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6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6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6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6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6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352680"/>
            <a:ext cx="8839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ff3300"/>
                </a:solidFill>
                <a:latin typeface="Bauhaus 93"/>
              </a:rPr>
              <a:t>Good Morning!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-241200"/>
            <a:ext cx="9144000" cy="7815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Bauhaus 93"/>
              </a:rPr>
              <a:t>Don’t forget to smile!</a:t>
            </a:r>
            <a:endParaRPr b="0" lang="en-US" sz="8000" spc="-1" strike="noStrike">
              <a:solidFill>
                <a:srgbClr val="806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Bauhaus 93"/>
              </a:rPr>
              <a:t>Please…</a:t>
            </a:r>
            <a:endParaRPr b="0" lang="en-US" sz="8000" spc="-1" strike="noStrike">
              <a:solidFill>
                <a:srgbClr val="806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36200"/>
            <a:ext cx="8539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ff"/>
                </a:solidFill>
                <a:latin typeface="Arial"/>
              </a:rPr>
              <a:t>Continue to wear your nametag and keep your name plate near your work space</a:t>
            </a:r>
            <a:endParaRPr b="0" lang="en-US" sz="5400" spc="-1" strike="noStrike">
              <a:solidFill>
                <a:srgbClr val="806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19:51:02Z</dcterms:created>
  <dc:creator>Joyce Standing</dc:creator>
  <dc:description/>
  <dc:language>en-US</dc:language>
  <cp:lastModifiedBy>Kelley Schafer</cp:lastModifiedBy>
  <dcterms:modified xsi:type="dcterms:W3CDTF">2004-08-06T18:48:11Z</dcterms:modified>
  <cp:revision>31</cp:revision>
  <dc:subject/>
  <dc:title>WECOME!</dc:title>
</cp:coreProperties>
</file>