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B3F0-748F-44AE-B9F7-F652F10D5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shington state, stage one should include the following question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380880" cy="38088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85800"/>
            <a:ext cx="380880" cy="38088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1143000"/>
            <a:ext cx="380880" cy="38088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10480" y="5410080"/>
            <a:ext cx="381240" cy="38124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610480" y="5867280"/>
            <a:ext cx="381240" cy="38124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10480" y="6324480"/>
            <a:ext cx="381240" cy="38124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685800" y="624492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Understanding by Design Stages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 1 – Identify desired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 2 – Determine acceptable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 3 – Plan learning experiences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the role of technology in helping students research and process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Stage 1: </a:t>
            </a:r>
            <a:br>
              <a:rPr sz="4400"/>
            </a:b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Identify Desired Results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Frameworks are targe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are the focus of enduring understanding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nowledge and skills will be targe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essential question(s) will guide and focus the teaching and learn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choosing targets, see handbook  worksheet pa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, 55, 61, 62 and 76-8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Essential Questions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no one obvious right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se important questions across content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 conceptual 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r natur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d to provoke/sustain student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handbook pages 116-1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wo Types of Essential Questions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62481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verarch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pic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handbook page 116, 117, &amp; 1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Stage 2:  </a:t>
            </a:r>
            <a:br>
              <a:rPr sz="4400"/>
            </a:b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Determine Acceptable Evidence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method of 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t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zzes, tests, prompts, work s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self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handbook pages 51, 52, 56-58, 63-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Stage 3:</a:t>
            </a:r>
            <a:br>
              <a:rPr sz="4400"/>
            </a:b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Plan Learning and Instruction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necessary prerequisite knowledge and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sequence of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the role of technology in enhancing teaching and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es the technology help stud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productivi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arch/Process informa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 solv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handbook pages 53, 59 &amp; 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17:28:53Z</dcterms:created>
  <dc:creator>Theresa Meyer</dc:creator>
  <dc:description/>
  <dc:language>en-US</dc:language>
  <cp:lastModifiedBy>Kelley Schafer</cp:lastModifiedBy>
  <dcterms:modified xsi:type="dcterms:W3CDTF">2004-08-06T18:48:29Z</dcterms:modified>
  <cp:revision>5</cp:revision>
  <dc:subject/>
  <dc:title>Understanding by Design Stages</dc:title>
</cp:coreProperties>
</file>