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874B-8623-462A-AC4D-3305F2256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ection is scheduled for 1 h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first 5 slides in this PowerPoint. (5 minu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them time in their groups to come up with teacher leader qualities (5-10 minu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 their responses on slide 6. (5 minu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 out scenarios, and give groups 5 minutes to prepare. (5-10 minu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each table group act out their scene.(20-30 minu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ize with slide 7. Relate conclusions to their goal setting which is the next activity (5 minu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ve not thought of their role in furthering the integration of technology in their home schools.  This activity is designed to get them thinking about what they can off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lone can be an overwhelming prospect and to add more to their plate may cause some concern. Discuss how the year is a jour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the tables 5 minutes to discuss at their t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 them to think of leaders in educational sett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 answers as groups present.  You will need to add a text box to typ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this list up during the role play sit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 these ideas to their goal setting exercise which is their next tas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3475-EEB5-4A50-9B24-EA194808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678C-8AD8-4CAA-8764-BB008249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850D-D376-4264-9ED8-18FFD75A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F68E-228F-43C5-A081-7B46F8650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647F-CE18-4BBF-AF5D-15DD17126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151F-A079-4BAA-B58F-0889FD94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4BA6-FFA3-42BA-8C91-36B77DB2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287F-B928-40E4-9699-50D29897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EC7E-0170-417D-AA7B-B008D322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E6EA-1B43-43FD-8A1C-D9CB24CB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C3B5-4F3A-4B44-91AA-F15430C1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3980-11AB-49AD-9C5F-3A4B5B2C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0343-8A50-44C4-9E05-CBF49D93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DC9F-FC31-42FE-A882-B99164A6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EE35-09B5-475A-A315-6F001CC3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E621-9F54-4181-94F4-940C05452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3DF2-F774-48AD-B03A-97649CEE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8985-2353-4F8C-BAA1-73BA45CE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ECDA-6F4A-4911-9BA6-0CBB30D0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31FB-D51F-43FF-8195-E97AB17D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3696-237B-4A7F-89E6-9B98D614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9346-7228-49A5-9FD0-DE3B2E8E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4449-A8C5-4954-8C3A-C2075264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9336-3DA7-4649-BED6-645D824E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A4DB-4714-45DF-9D9C-5288379A18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F54B-C4A5-4A2D-9FF7-171AD59E1F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IDancingEgypt"/>
              </a:rPr>
              <a:t>Leadership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124080" y="3429000"/>
            <a:ext cx="25909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laska"/>
                <a:ea typeface="Times New Roman"/>
              </a:rPr>
              <a:t>What does </a:t>
            </a:r>
            <a:r>
              <a:rPr b="1" i="1" lang="en-US" sz="5400" spc="-1" strike="noStrike">
                <a:solidFill>
                  <a:srgbClr val="ffff66"/>
                </a:solidFill>
                <a:latin typeface="Alaska"/>
                <a:ea typeface="Times New Roman"/>
              </a:rPr>
              <a:t>Leadership</a:t>
            </a:r>
            <a:r>
              <a:rPr b="1" lang="en-US" sz="4400" spc="-1" strike="noStrike">
                <a:solidFill>
                  <a:srgbClr val="ffffff"/>
                </a:solidFill>
                <a:latin typeface="Alaska"/>
                <a:ea typeface="Times New Roman"/>
              </a:rPr>
              <a:t> in the Teacher Leadership Project mean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ff66"/>
              </a:buClr>
              <a:buFont typeface="Alas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laska"/>
                <a:ea typeface="Times New Roman"/>
              </a:rPr>
              <a:t>This first year you will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la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laska"/>
                <a:ea typeface="Times New Roman"/>
              </a:rPr>
              <a:t>Initiate the integration process in your classroom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la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laska"/>
                <a:ea typeface="Times New Roman"/>
              </a:rPr>
              <a:t>Learn with your stud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la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laska"/>
                <a:ea typeface="Times New Roman"/>
              </a:rPr>
              <a:t>Participate in all regional meeting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lask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laska"/>
                <a:ea typeface="Times New Roman"/>
              </a:rPr>
              <a:t>Complete all evaluation requirements</a:t>
            </a:r>
            <a:r>
              <a:rPr b="1" lang="en-US" sz="4000" spc="-1" strike="noStrike">
                <a:solidFill>
                  <a:srgbClr val="ffffff"/>
                </a:solidFill>
                <a:latin typeface="Alaska"/>
                <a:ea typeface="Times New Roman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So what is this leadership piece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09880" y="2971800"/>
            <a:ext cx="29574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las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laska"/>
                <a:ea typeface="Times New Roman"/>
              </a:rPr>
              <a:t>Think of the ways you are a leader in your school or district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Brainstorm in your table group ideas on how to increase your leadership roles in your school or distric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ick three ideas to share with the entire group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laska"/>
              </a:rPr>
              <a:t>Teacher leaders Discuss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laska"/>
              </a:rPr>
              <a:t>A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laska"/>
              </a:rPr>
              <a:t>TEACHER</a:t>
            </a:r>
            <a:r>
              <a:rPr b="1" lang="en-US" sz="4400" spc="-1" strike="noStrike">
                <a:solidFill>
                  <a:srgbClr val="000000"/>
                </a:solidFill>
                <a:latin typeface="Alaska"/>
              </a:rPr>
              <a:t> </a:t>
            </a:r>
            <a:r>
              <a:rPr b="1" lang="en-US" sz="4400" spc="-1" strike="noStrike">
                <a:solidFill>
                  <a:srgbClr val="ffff66"/>
                </a:solidFill>
                <a:latin typeface="Alaska"/>
              </a:rPr>
              <a:t>leader is…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752480"/>
            <a:ext cx="76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0948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Alas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laska"/>
                <a:ea typeface="Times New Roman"/>
              </a:rPr>
              <a:t>Consider ideas that you’ve heard from the group. 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laska"/>
              </a:rPr>
              <a:t>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Alas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laska"/>
                <a:ea typeface="Times New Roman"/>
              </a:rPr>
              <a:t>Keep </a:t>
            </a:r>
            <a:r>
              <a:rPr b="0" lang="en-US" sz="5400" spc="-1" strike="noStrike">
                <a:solidFill>
                  <a:srgbClr val="ffff66"/>
                </a:solidFill>
                <a:latin typeface="Alaska"/>
                <a:ea typeface="Times New Roman"/>
              </a:rPr>
              <a:t>leadership</a:t>
            </a:r>
            <a:r>
              <a:rPr b="0" lang="en-US" sz="5400" spc="-1" strike="noStrike">
                <a:solidFill>
                  <a:srgbClr val="ffffff"/>
                </a:solidFill>
                <a:latin typeface="Alaska"/>
                <a:ea typeface="Times New Roman"/>
              </a:rPr>
              <a:t> in mind as you set your goals.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17:33:17Z</dcterms:created>
  <dc:creator>Judy McCourt</dc:creator>
  <dc:description/>
  <dc:language>en-US</dc:language>
  <cp:lastModifiedBy>Kelley Schafer</cp:lastModifiedBy>
  <dcterms:modified xsi:type="dcterms:W3CDTF">2004-08-06T19:04:59Z</dcterms:modified>
  <cp:revision>10</cp:revision>
  <dc:subject/>
  <dc:title>Leadership</dc:title>
</cp:coreProperties>
</file>