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0EBC-EEA3-426E-A229-477E24A967F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this slideshow running on a loop as participants arr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2BE-70AA-4B1C-B392-5583D24C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00200" y="37234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534-C904-4F20-9B92-475D84E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00200" y="37234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48880" y="37234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4B6-9F81-4EDA-AA67-91E55FDF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3400" y="1295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6600" y="1295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00200" y="37234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3400" y="37234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6600" y="37234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15D-B271-4718-A183-1D13A858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515E-288B-4F95-B944-FD93EF29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002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D124-93C9-4415-A526-EF137171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0235-1011-4B25-B8D1-AC761050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E020-175A-4E99-9FEF-9F935654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1CB8-4E91-456A-9DCB-4AA38B3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18AF-1FF9-4506-88AA-7C88055F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7234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F1E-AB7C-4600-B7A0-30419E9C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002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3A8-14C5-4D36-8D92-E37F448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8880" y="37234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EEE3-D2D2-4E71-9029-9182159B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7234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C733-9B8F-415A-83E2-65EC54DF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00200" y="37234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08E4-2CBF-4D1F-9647-0D2C8A38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37234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48880" y="37234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D6EA-BE5B-4021-AB75-EF472DB6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3400" y="1295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6600" y="1295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00200" y="37234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3400" y="37234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6600" y="37234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A733-371D-4305-B711-9CDE7256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2E7-7439-47DB-8752-59187450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55F-C421-4F59-859C-99C8641E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75F-C613-468B-B20B-1FD48A62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4F4-F4AD-4E06-8EAA-4EBE5D95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00200" y="37234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57B-7F8D-4575-8F73-9BC385F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8880" y="37234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B71-140A-43D9-9164-38F5156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8880" y="1295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00200" y="37234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733-7B7A-4E8B-A6E3-8A3CCD5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095880"/>
            <a:ext cx="17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796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5E98-0C26-4AA4-9D80-432D8CCFD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53360" y="6629400"/>
            <a:ext cx="1790640" cy="85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353360" y="6772320"/>
            <a:ext cx="1790640" cy="85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7353360" y="6705720"/>
            <a:ext cx="1790640" cy="8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7760" y="293832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0D97-CFCF-4AFC-8DFD-BB5C6C95B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2281320"/>
            <a:ext cx="2971800" cy="262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353360" y="6629400"/>
            <a:ext cx="1790640" cy="8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353360" y="6772320"/>
            <a:ext cx="1790640" cy="8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353360" y="6705720"/>
            <a:ext cx="1790640" cy="85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3200" y="2971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ELCOM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95480" y="419076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ssissippi TL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Please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36200"/>
            <a:ext cx="79297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ar your nameta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eep your name plate near your work sp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Participant Fi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sk an Instructor for the files to be load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are files with your table gro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your Journal from summer se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19:51:02Z</dcterms:created>
  <dc:creator>Joyce Standing</dc:creator>
  <dc:description/>
  <dc:language>en-US</dc:language>
  <cp:lastModifiedBy>Kelley Schafer</cp:lastModifiedBy>
  <dcterms:modified xsi:type="dcterms:W3CDTF">2004-08-06T18:32:28Z</dcterms:modified>
  <cp:revision>30</cp:revision>
  <dc:subject/>
  <dc:title>WECOME!</dc:title>
</cp:coreProperties>
</file>